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2293-9AC2-4FCE-9A57-E3E2654FF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A991-6372-41B1-A7A7-CE144AE3E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4B2C-8FFA-49CA-8CAB-190D6ED61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DB9A-B4E3-4C63-A557-FDE47C9FA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9083-CB21-4202-A86E-6DFBA1DE0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E0BC-45DB-4352-B12F-A17C61528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6AA0-6A37-4C88-B9B5-7E3517181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B6BF-010C-4DC1-A9BC-179BCD6BC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5C44-0B4E-47D6-A963-BA964E360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A6B2-96A0-470C-B8E3-884413F7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865B-E56F-4469-A359-8ADE9666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844C-3E0A-4775-A1BE-43D1EEF6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84F6B-46DB-45D2-A641-373E613F5A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980480" cy="31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8:11Z</dcterms:modified>
  <cp:revision>5</cp:revision>
  <dc:subject/>
  <dc:title>PowerPoint Presentation</dc:title>
</cp:coreProperties>
</file>