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01F8-F809-4185-9E7B-2B8C06E1F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C888-4AC3-474A-B43D-B499E43FE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8AF5-ECC7-4056-A906-6DBEC0019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AA38-E216-4886-8B10-A7E455507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2AD0-1C7D-4283-8ACE-9E6B362D8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D74F-7470-4448-BC4C-084B8B648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B249-0A04-47EA-AC49-55C2667FC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3846-177A-4898-8651-71FD8DFB9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A740-9D4D-4F77-ADE2-CA7146721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3903-1B4C-4590-9959-F63B41F57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7494-E1AE-4BFB-B6A3-1AC755CC4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C705-031D-4B63-B121-8F78F63B6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8BD6B-6A7C-4DF6-9022-E8F925A441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219320" y="468360"/>
            <a:ext cx="6997680" cy="58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2:21Z</dcterms:modified>
  <cp:revision>1</cp:revision>
  <dc:subject/>
  <dc:title>PowerPoint Presentation</dc:title>
</cp:coreProperties>
</file>