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52B2-7ED2-40FF-AAE4-7704701E2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0342-693D-4D0A-A1AF-60AD2F79B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6B42-33C0-4B11-AAD2-3CA3C1AEA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D036-1170-4682-B3FE-3FA421C7B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39ED-02C8-4519-9809-F9C9FAFC1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8D5B-B0B8-430C-833C-7B025CF04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01B2-D5DB-417C-96E1-0E056B9A7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8E0B-5473-4589-8815-DC9197F06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440A-B927-4382-90DE-D5AE8C802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51C9-0585-4836-9691-1CE72C01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003E-5E9F-4ED1-A446-260CEE0F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BC18-73D0-439F-B80D-2218E7BD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27299-E728-41E8-A3BE-9F05A36F5A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980480" cy="31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8:11Z</dcterms:modified>
  <cp:revision>5</cp:revision>
  <dc:subject/>
  <dc:title>PowerPoint Presentation</dc:title>
</cp:coreProperties>
</file>