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B43A-03C4-4E8D-8405-6D86BE8E2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E505-92AD-47C9-B731-E2287D100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4812-CD62-4B76-B70E-E8CA42A90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6F52-187F-41C2-A21F-318A5A573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A081-90C6-4320-81BE-E02787976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FEC7-FE70-4118-960E-0AB93E3F2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49A3-69D2-4DEC-BB60-0B9E9E0FA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FC58-4F14-420A-9114-6949CDF2F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E723-5814-40D2-898C-077C55D0D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85B2-4BD7-4D40-A89F-C48287C03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B770-F746-4490-A0E5-23D788D01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220C-5CF6-4898-89F2-58BF3A844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40B1D-EBFB-4634-86CB-B28C942A29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38080" y="838080"/>
          <a:ext cx="7543800" cy="486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838080"/>
                    <a:ext cx="7543800" cy="48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7:26Z</dcterms:modified>
  <cp:revision>4</cp:revision>
  <dc:subject/>
  <dc:title>PowerPoint Presentation</dc:title>
</cp:coreProperties>
</file>