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832C-DF53-49A2-9018-401E39722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FAEF-31D1-456C-83E9-19F40F4DD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60EB-4D54-4FF0-925D-9FC9E2DCA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9DD7-352E-4EFC-B041-558709E66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2D74-E3B9-4E7A-8ACC-16053B338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D063-0B26-41B7-B090-160C05CA4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D74A-E182-49C4-9EEE-E1A70184E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8B14-F451-4C62-BC94-54A9F0FB5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9585-777E-4BE6-95F9-1E36842DC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B3DA-66FF-481C-883E-194170EA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702F-65D2-442E-B2A1-D45637E3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3995-A8FB-476D-B005-BDB20C7E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25E17-3C02-461F-A6F5-6B8EA887CE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980480" cy="31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8:11Z</dcterms:modified>
  <cp:revision>5</cp:revision>
  <dc:subject/>
  <dc:title>PowerPoint Presentation</dc:title>
</cp:coreProperties>
</file>