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1D24-A877-427E-AE43-05F682572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ACB7-EB71-418C-867C-253EE1C4B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1E54-84EF-4B8C-A844-844B8D473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5F73-24AE-4B58-8798-A26B2339B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D56F-6CD3-44ED-BB8F-5B02722F3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75D7-5B20-4E87-B0F6-A75B34C0B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F54D-27D1-47B9-AD5F-47C8A2F7C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DDAC-B336-4779-A761-68AD1F05E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19C2-3E45-4F32-8947-22873D49F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D06D-F115-4BA5-8CAE-8C1CDD738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B292-9D62-4E1F-97D5-5DEC775AA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FD9D-B96B-4A2C-AA3A-EF5C8E0B7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1F4C8-F9C5-48FE-BC02-DEA8028120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838080" y="2590920"/>
            <a:ext cx="751680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3:46:05Z</dcterms:created>
  <dc:creator>Spencer Smith</dc:creator>
  <dc:description/>
  <dc:language>en-US</dc:language>
  <cp:lastModifiedBy>Spencer Smith</cp:lastModifiedBy>
  <dcterms:modified xsi:type="dcterms:W3CDTF">2008-04-01T03:47:07Z</dcterms:modified>
  <cp:revision>1</cp:revision>
  <dc:subject/>
  <dc:title>PowerPoint Presentation</dc:title>
</cp:coreProperties>
</file>