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6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8312-5C84-4A50-8040-0D0BD70EA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CD3D-88BB-4548-BBA7-901BFA812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B2DD-722B-4ECE-8AC8-C764B320C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A4A8-0D14-4CEE-8329-586336521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9E10-D430-49EA-9130-EC3C85713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EB7C-1CDF-4A38-9D6F-4D853355A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D7A4-54DA-429D-970E-A45074BF1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8498-D667-4A14-8C32-6DD8FB195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E201-9AE9-4AFC-BACF-04B16C825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F942-388B-490E-AE61-2BA7C5B5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33C0-64AE-4631-B58B-9E63F7CE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739F-9629-403F-A151-A690FA56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A9F47-5D34-451C-9706-265B3A77AA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of 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7E7A-0E18-48DA-86F5-F4C5BB47136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ze of co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ze of code produced per unit of time as productivity meas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efine exactly what "size of code" me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ed source instructions (DSI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ncommented source statements (NCS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how good is this metric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CF98-2A20-41CD-939A-3ECB053D251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ctors affecting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fessionals' capa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complex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dule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vious 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Overly aggressive scheduling may have negative effec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0B7E-ACBF-475A-8C57-C5B345857C4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ople and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cause software engineering is predominantly an intellectual activity, the most important ingredient for producing high-quality software efficiently is peop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rge variability in productivity between engine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E230-9026-45AB-A402-92172C5A0E0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i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methods to estimate the complexity of software before it has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 size of the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it as input for deriving the required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8574-8696-472D-AC36-E68E2670B86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formula for eff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2922480" y="2286000"/>
            <a:ext cx="3143520" cy="6426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PM = c.KLOC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k</a:t>
            </a: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4960" y="2971800"/>
            <a:ext cx="446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g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M: person mon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LOC: K lines of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, k depend o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&gt;1 (non-linear grow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62080" y="5257800"/>
            <a:ext cx="699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estimate then calibrated using a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"cost driver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F18B-7CF4-413D-A2E8-1B49FB0E89F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cost driver categ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reliability requirements or inherent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re execution time or storage constrai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so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 personnel experienced in the application area or the programming language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sophisticated software tools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05D2-2B41-4879-8401-D9DD9CABE0F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 proced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timate software size, and use it in the model’s formula to get initial effort estim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ise estimate by using the cost driver or other scaling factors given by the mod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the model’s tools to the estimate derived in step 2 to determine the total effort, activity distribution, etc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3D5D-0B7B-4339-B9D6-ED13194C0B8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Constructive Cost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114200" y="386244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by B. Boe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ed from COCOMO to COCOMO I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ACB3-5579-4A20-90E8-08AE798CDF6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estimate based on delivered source instructions, KD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tegorizes the software a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mideta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mbe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has an associated formula for nominal development effort based on estimated code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A8E1-3877-4DAF-BFF0-ADA2260FD44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71560" y="7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65720" y="62006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882720" y="1077840"/>
            <a:ext cx="7923960" cy="5125320"/>
            <a:chOff x="882720" y="1077840"/>
            <a:chExt cx="7923960" cy="5125320"/>
          </a:xfrm>
        </p:grpSpPr>
        <p:grpSp>
          <p:nvGrpSpPr>
            <p:cNvPr id="92" name=""/>
            <p:cNvGrpSpPr/>
            <p:nvPr/>
          </p:nvGrpSpPr>
          <p:grpSpPr>
            <a:xfrm>
              <a:off x="882720" y="1077840"/>
              <a:ext cx="7923960" cy="4662360"/>
              <a:chOff x="882720" y="1077840"/>
              <a:chExt cx="7923960" cy="4662360"/>
            </a:xfrm>
          </p:grpSpPr>
          <p:sp>
            <p:nvSpPr>
              <p:cNvPr id="93" name=""/>
              <p:cNvSpPr/>
              <p:nvPr/>
            </p:nvSpPr>
            <p:spPr>
              <a:xfrm>
                <a:off x="961560" y="11257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42944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313680" y="1104120"/>
                <a:ext cx="436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o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844320" y="110844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46460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8272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96400" y="107784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96400" y="1077840"/>
                <a:ext cx="3453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35060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35060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5060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364640" y="107784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64640" y="1077840"/>
                <a:ext cx="1395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75964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75964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964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773320" y="107784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773320" y="1077840"/>
                <a:ext cx="1612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38576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38576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38576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98000" y="107784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398000" y="1077840"/>
                <a:ext cx="1396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79480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82720" y="109296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2720" y="109296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794800" y="109296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794800" y="109296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62280" y="1416960"/>
                <a:ext cx="5493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Featu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62324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430520" y="1416960"/>
                <a:ext cx="576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12496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39920" y="1416960"/>
                <a:ext cx="979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Semidetach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02000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466040" y="1416960"/>
                <a:ext cx="759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Embedd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37972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8272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8272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35060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5060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35060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5060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5060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64640" y="1372680"/>
                <a:ext cx="13950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364640" y="137268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75964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75964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75964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773320" y="1372680"/>
                <a:ext cx="16120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773320" y="137268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385760" y="1372680"/>
                <a:ext cx="118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385760" y="137268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8576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98000" y="1372680"/>
                <a:ext cx="13968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398000" y="137268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794800" y="137268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794800" y="137268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8272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8272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35060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35060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794800" y="1388160"/>
                <a:ext cx="118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94800" y="1388160"/>
                <a:ext cx="216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64080" y="1713960"/>
                <a:ext cx="2172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zational understanding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124640" y="1994040"/>
                <a:ext cx="1212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oduct objectiv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585520" y="1994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430520" y="171396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horou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21388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838480" y="171396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88572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465320" y="1713960"/>
                <a:ext cx="522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Gener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09100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8272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8272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96400" y="166572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96400" y="1665720"/>
                <a:ext cx="34538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35060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35060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364640" y="166572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64640" y="166572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75964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759640" y="166572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75964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773320" y="166572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773320" y="166572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38576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385760" y="166572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38576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398000" y="166572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398000" y="166572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9480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794800" y="166572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8272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8272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35060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35060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794800" y="168120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794800" y="168120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964800" y="2271600"/>
                <a:ext cx="2364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perience in working with relate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123560" y="2551320"/>
                <a:ext cx="1130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software syste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485080" y="2551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430520" y="227160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21388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38480" y="22716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88572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464960" y="227160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22564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272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8272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5060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5060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94800" y="2238840"/>
                <a:ext cx="118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794800" y="2238840"/>
                <a:ext cx="216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965160" y="283140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23560" y="3109320"/>
                <a:ext cx="210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378440" y="310932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442880" y="310932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608840" y="3109320"/>
                <a:ext cx="1495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ablished requirement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413520" y="3109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429080" y="283140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7008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838480" y="28314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88572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464960" y="283140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78464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8272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8272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35060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35060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794800" y="2798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794800" y="2798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965160" y="338904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125360" y="3669120"/>
                <a:ext cx="2094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rnal interface specification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650760" y="36691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429080" y="338904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87008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838480" y="338904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88572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464960" y="338904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78464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72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8272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35060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35060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794800" y="3356280"/>
                <a:ext cx="118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794800" y="3356280"/>
                <a:ext cx="216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963720" y="3946680"/>
                <a:ext cx="1852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current development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124280" y="4224600"/>
                <a:ext cx="1966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ssociated new hardware an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124640" y="4504320"/>
                <a:ext cx="1504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perational procedur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937240" y="4504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430160" y="3946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8819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38480" y="394668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5991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465680" y="394668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24724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8272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8272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35060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35060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794800" y="3913560"/>
                <a:ext cx="118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794800" y="3913560"/>
                <a:ext cx="216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963000" y="4783680"/>
                <a:ext cx="832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in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965960" y="4783680"/>
                <a:ext cx="1587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vative data processing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125360" y="5061960"/>
                <a:ext cx="1628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rchitectures, algorith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087720" y="5061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429800" y="4783680"/>
                <a:ext cx="567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inim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11308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38480" y="4783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29100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464600" y="478368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51184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8272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88272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35060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35060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794800" y="4751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794800" y="4751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964440" y="5343840"/>
                <a:ext cx="19620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mium on early completio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Product size rang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32892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430160" y="5343840"/>
                <a:ext cx="6836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5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7930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39920" y="5343840"/>
                <a:ext cx="76572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Mediu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30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5102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464600" y="5343840"/>
                <a:ext cx="329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861680" y="5343840"/>
                <a:ext cx="6134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All sizes</a:t>
                </a: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8272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8272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35060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5060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794800" y="530892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794800" y="530892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882720" y="5486400"/>
              <a:ext cx="7904520" cy="716760"/>
            </a:xfrm>
            <a:custGeom>
              <a:avLst/>
              <a:gdLst/>
              <a:ahLst/>
              <a:rect l="l" t="t" r="r" b="b"/>
              <a:pathLst>
                <a:path w="4032" h="288">
                  <a:moveTo>
                    <a:pt x="0" y="0"/>
                  </a:moveTo>
                  <a:lnTo>
                    <a:pt x="0" y="288"/>
                  </a:lnTo>
                  <a:lnTo>
                    <a:pt x="4032" y="288"/>
                  </a:lnTo>
                  <a:lnTo>
                    <a:pt x="4032" y="4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350600" y="5464800"/>
              <a:ext cx="0" cy="725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7892-0645-4FF2-A2C3-1ED4CB86077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is 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gement need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are the main tasks of manag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s special in the case of softwa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productivity be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ch tools may be used for planning and monitor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teams be organiz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organizations' capabilities be defined and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AF9D-1639-4706-9585-F6262FAEAC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nominal effort and schedule equ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177156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57200" y="2951280"/>
            <a:ext cx="8190000" cy="181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26C3-7BBC-42EE-9787-147634B4D6E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733400" y="14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3340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1348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3340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41348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73340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41348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3340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1348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73340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41348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3340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41348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89000" y="166680"/>
            <a:ext cx="7208280" cy="6321240"/>
            <a:chOff x="189000" y="166680"/>
            <a:chExt cx="7208280" cy="6321240"/>
          </a:xfrm>
        </p:grpSpPr>
        <p:grpSp>
          <p:nvGrpSpPr>
            <p:cNvPr id="316" name=""/>
            <p:cNvGrpSpPr/>
            <p:nvPr/>
          </p:nvGrpSpPr>
          <p:grpSpPr>
            <a:xfrm>
              <a:off x="189000" y="166680"/>
              <a:ext cx="7207920" cy="1644120"/>
              <a:chOff x="189000" y="166680"/>
              <a:chExt cx="7207920" cy="1644120"/>
            </a:xfrm>
          </p:grpSpPr>
          <p:sp>
            <p:nvSpPr>
              <p:cNvPr id="317" name=""/>
              <p:cNvSpPr/>
              <p:nvPr/>
            </p:nvSpPr>
            <p:spPr>
              <a:xfrm>
                <a:off x="451800" y="2008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0124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91320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381200" y="182880"/>
                <a:ext cx="500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Times New Roman"/>
                  </a:rPr>
                  <a:t>Rating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01552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66496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35076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0426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8900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01240" y="16668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01240" y="166680"/>
                <a:ext cx="2308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5099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5099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5099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522160" y="16668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522160" y="166680"/>
                <a:ext cx="983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5053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5053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5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517560" y="16668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517560" y="166680"/>
                <a:ext cx="793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311720" y="16668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311720" y="166680"/>
                <a:ext cx="9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3117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321800" y="16668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321800" y="166680"/>
                <a:ext cx="98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05320" y="16668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305320" y="166680"/>
                <a:ext cx="11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3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317200" y="16668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317200" y="166680"/>
                <a:ext cx="681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99904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99904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99904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01164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01164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692760" y="16668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692760" y="166680"/>
                <a:ext cx="10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69276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70320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70320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38468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8900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8900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8468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38468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48920" y="415080"/>
                <a:ext cx="71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st Driver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354680" y="415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650680" y="4003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37644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736440" y="400320"/>
                <a:ext cx="279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08996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475160" y="400320"/>
                <a:ext cx="53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Nomi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15232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471280" y="40032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6008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158880" y="40032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15780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54372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834960" y="400320"/>
                <a:ext cx="36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xtra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84864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23564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8900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8900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01240" y="380520"/>
                <a:ext cx="23083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01240" y="38052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5099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5099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5099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522160" y="380520"/>
                <a:ext cx="983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22160" y="38052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5053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5053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5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517560" y="380520"/>
                <a:ext cx="7938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517560" y="38052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311720" y="380520"/>
                <a:ext cx="97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311720" y="38052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3117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321800" y="380520"/>
                <a:ext cx="983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321800" y="38052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05320" y="380520"/>
                <a:ext cx="11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05320" y="38052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3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317200" y="380520"/>
                <a:ext cx="68148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317200" y="38052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99904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99904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99904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01164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01164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692760" y="380520"/>
                <a:ext cx="104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692760" y="38052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69276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70320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70320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8468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38468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8900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8900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38468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38468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47840" y="831600"/>
                <a:ext cx="11055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845360" y="83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0124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91320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8142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6649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3507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0426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8900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8900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01240" y="79704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01240" y="79704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5099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5099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5099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522160" y="79704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522160" y="79704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5053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5053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5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517560" y="79704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517560" y="79704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311720" y="79704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311720" y="79704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3117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321800" y="79704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321800" y="79704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305320" y="79704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305320" y="79704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3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317200" y="79704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317200" y="79704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99904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99904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99904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01164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01164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692760" y="79704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692760" y="79704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69276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70320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70320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38468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38468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8900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8900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38468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38468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47120" y="1034640"/>
                <a:ext cx="1070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quired softwar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46760" y="1237320"/>
                <a:ext cx="5508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li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143720" y="12373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89188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1327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79080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0341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64544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9831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49648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8359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18192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51960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04268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8900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8900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38468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38468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47840" y="1440360"/>
                <a:ext cx="80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Data base siz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466280" y="14403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0124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790800" y="1423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0341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64544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98312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49648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8359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18192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51960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0426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8900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8900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38468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38468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46040" y="1643040"/>
                <a:ext cx="1107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complex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847160" y="164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89188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1327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79080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0341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6454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9831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189000" y="1619640"/>
              <a:ext cx="7207920" cy="3234600"/>
              <a:chOff x="189000" y="1619640"/>
              <a:chExt cx="7207920" cy="3234600"/>
            </a:xfrm>
          </p:grpSpPr>
          <p:sp>
            <p:nvSpPr>
              <p:cNvPr id="518" name=""/>
              <p:cNvSpPr/>
              <p:nvPr/>
            </p:nvSpPr>
            <p:spPr>
              <a:xfrm>
                <a:off x="549648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8359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18192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51960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8738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2115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8900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8900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38468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38468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51800" y="18457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0124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91320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8142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6649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3507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0426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8900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8900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38468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38468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51440" y="2048760"/>
                <a:ext cx="491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069200" y="2048760"/>
                <a:ext cx="747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er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012400" y="20509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0124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91320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8142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6649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3507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0426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8900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8900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38468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38468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42080" y="2250000"/>
                <a:ext cx="1503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ecution tim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342160" y="2250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01248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9132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6454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9831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49648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83596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18192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5196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8738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2115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8900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8900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38468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38468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43520" y="2454480"/>
                <a:ext cx="138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Main storag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195280" y="2454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01248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9132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6454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9831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49648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83596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18192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5196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8738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5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2115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8900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8900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38468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38468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41000" y="2657520"/>
                <a:ext cx="1527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volatility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372040" y="26575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0124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790800" y="26413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341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64544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98312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49648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8359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18192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51960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0426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8900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8900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38468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38468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43520" y="2860560"/>
                <a:ext cx="1501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er turnaround tim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344320" y="28605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0124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790800" y="28440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0341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64544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98312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49648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8359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18192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51960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0426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8900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8900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38468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38468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51800" y="30636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0124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91320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8142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6649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3507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0426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8900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8900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38468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38468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46040" y="3266280"/>
                <a:ext cx="1215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ersonnel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983960" y="3268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0124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91320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8142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6649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3507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0426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8900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8900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38468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38468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51440" y="3468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na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92000" y="3468960"/>
                <a:ext cx="7567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yst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748880" y="34689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8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1813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7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08240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64544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9831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5447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7877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2305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47136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04268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8900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8900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38468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38468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44960" y="3672000"/>
                <a:ext cx="1364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pplications 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169360" y="3672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8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1813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7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08240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64544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9831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5447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7877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2305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47136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4268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8900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8900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38468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38468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43160" y="3875040"/>
                <a:ext cx="129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er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083680" y="3875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8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1813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7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08240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64544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9831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5447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7877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2305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47136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04268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8900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8900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38468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38468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46760" y="4077720"/>
                <a:ext cx="947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49280" y="4280760"/>
                <a:ext cx="680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309320" y="42807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8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1813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7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08240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64544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9831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544720" y="40615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7877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35076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04268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8900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8900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38468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38468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44960" y="4483800"/>
                <a:ext cx="13525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ing languag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49280" y="4686480"/>
                <a:ext cx="6102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220040" y="4686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8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1813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7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08240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64544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9831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544720" y="44672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578808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35112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04304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900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38504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1800" y="48902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01248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91320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8146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6653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3511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0430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8900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38504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50360" y="5093280"/>
              <a:ext cx="473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ojec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43280" y="5093280"/>
              <a:ext cx="58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100" spc="-1" strike="noStrike">
                  <a:solidFill>
                    <a:srgbClr val="000000"/>
                  </a:solidFill>
                  <a:latin typeface="Times New Roman"/>
                </a:rPr>
                <a:t>attribut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785240" y="5094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01248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91320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146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6653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3511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0430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8900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38504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48560" y="5295600"/>
              <a:ext cx="87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modern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43160" y="5498640"/>
              <a:ext cx="1303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programming practic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091600" y="54986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8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1813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7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08240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64580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9834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5447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7880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2305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4717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04304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8900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38504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45680" y="5701680"/>
              <a:ext cx="1200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software tool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965240" y="57016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813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7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08240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64580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9834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5447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7880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2305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4717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04304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8900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38504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5680" y="5904720"/>
              <a:ext cx="1312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Required developmen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49280" y="6107760"/>
              <a:ext cx="492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schedu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073520" y="61077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8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181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08240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64580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98348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49684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836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18228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51996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04304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8900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01240" y="6287040"/>
              <a:ext cx="2314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01240" y="6287040"/>
              <a:ext cx="2314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50380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50380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50380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515680" y="6287040"/>
              <a:ext cx="99540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515680" y="6287040"/>
              <a:ext cx="995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49956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49956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49956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511440" y="6287040"/>
              <a:ext cx="8067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511440" y="6287040"/>
              <a:ext cx="80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3059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3059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3059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318200" y="6287040"/>
              <a:ext cx="993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318200" y="6287040"/>
              <a:ext cx="993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29992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29992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29992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311800" y="6287040"/>
              <a:ext cx="693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311800" y="6287040"/>
              <a:ext cx="693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99364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9364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99364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005520" y="6287040"/>
              <a:ext cx="69408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005520" y="6287040"/>
              <a:ext cx="694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6873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6873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6873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699600" y="6287040"/>
              <a:ext cx="685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699600" y="6287040"/>
              <a:ext cx="68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38504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47280" y="63050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7562160" y="2060640"/>
            <a:ext cx="163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CO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a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0303-F0FE-4153-A028-10BEB44458C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wards 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COMO's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rictly geared toward traditional development life cycle mo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ustom software built from precisely stated specific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lies on lines of cod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B359-F4FD-4112-8954-91FB4747DD8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3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Compositio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rly Desig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t-Architectur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8762-AA0F-456D-9C6C-FB1D3F999AD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15440" y="415440"/>
            <a:ext cx="840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Composi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itable for software built around graphical user interface (GUI) and modern GUI-builder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poi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s a size metr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tension of function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 of the screens, reports, and modules, weighted by a three-level factor (simple, medium, difficult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0562-FF44-44BE-A07A-367ECA7157C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arly Desig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d once requirements are known and alternative software architectures have been explo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 function points and coarse-grained cost dri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personnel capability and experi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F686-6FF3-4ED5-9C43-43ECEF0C584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st-Architecture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volves actual software construction and software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either as source instructions or function points, with modifiers to account for reu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7 multiplicative cost dr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5 factors that determine the non linear growth of person-month costs in terms of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F493-9E37-4537-B7EB-ABC1DD57D8C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ject contro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038C-E965-44EB-96F1-B5CCF220707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 Breakdown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BS describes a break down of project goal into intermediate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in turn broken down in a hierarchical stru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5986-31C1-453C-9D1D-99B22CCF273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324648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1"/>
          <a:stretch/>
        </p:blipFill>
        <p:spPr>
          <a:xfrm>
            <a:off x="1273320" y="1533600"/>
            <a:ext cx="6619680" cy="4641840"/>
          </a:xfrm>
          <a:prstGeom prst="rect">
            <a:avLst/>
          </a:prstGeom>
          <a:ln w="0">
            <a:noFill/>
          </a:ln>
        </p:spPr>
      </p:pic>
      <p:sp>
        <p:nvSpPr>
          <p:cNvPr id="848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88E3-C354-49BA-B322-7A2F5FB0192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3580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engineering projects involve many software engine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is needed to coordinate the activities and resources involved in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220320" y="1752480"/>
            <a:ext cx="8684640" cy="1557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The creation and maintenance of an internal environ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an enterprise where individuals, working together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roups, can perform efficiently and effectively towar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ttainment of group goals"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Koontz et al, 198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392C-251E-4F0D-B8DC-0A4C32D0EE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roject control techniqu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by Henry L. Gant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for several purposes, including scheduling, budgeting, and resource plann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DBC1-39E6-4081-9C19-ED2322A3D84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" descr=""/>
          <p:cNvPicPr/>
          <p:nvPr/>
        </p:nvPicPr>
        <p:blipFill>
          <a:blip r:embed="rId1"/>
          <a:stretch/>
        </p:blipFill>
        <p:spPr>
          <a:xfrm>
            <a:off x="927000" y="1852560"/>
            <a:ext cx="7315200" cy="3922920"/>
          </a:xfrm>
          <a:prstGeom prst="rect">
            <a:avLst/>
          </a:prstGeom>
          <a:ln w="0">
            <a:noFill/>
          </a:ln>
        </p:spPr>
      </p:pic>
      <p:sp>
        <p:nvSpPr>
          <p:cNvPr id="853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C2C1-4EDB-4877-94AA-43CA2B0F2C1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82880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1028160" y="1452600"/>
            <a:ext cx="7342200" cy="4111200"/>
            <a:chOff x="1028160" y="1452600"/>
            <a:chExt cx="7342200" cy="4111200"/>
          </a:xfrm>
        </p:grpSpPr>
        <p:sp>
          <p:nvSpPr>
            <p:cNvPr id="857" name=""/>
            <p:cNvSpPr/>
            <p:nvPr/>
          </p:nvSpPr>
          <p:spPr>
            <a:xfrm>
              <a:off x="1028160" y="1452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6081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7816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9779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4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15036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28796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7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4600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598000" y="1693440"/>
              <a:ext cx="18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0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83812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878480" y="2070720"/>
              <a:ext cx="1260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7" name="" descr=""/>
            <p:cNvPicPr/>
            <p:nvPr/>
          </p:nvPicPr>
          <p:blipFill>
            <a:blip r:embed="rId1"/>
            <a:stretch/>
          </p:blipFill>
          <p:spPr>
            <a:xfrm>
              <a:off x="1876680" y="2070720"/>
              <a:ext cx="1476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320364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9" name="" descr=""/>
            <p:cNvPicPr/>
            <p:nvPr/>
          </p:nvPicPr>
          <p:blipFill>
            <a:blip r:embed="rId2"/>
            <a:stretch/>
          </p:blipFill>
          <p:spPr>
            <a:xfrm>
              <a:off x="320364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0" name=""/>
            <p:cNvSpPr/>
            <p:nvPr/>
          </p:nvSpPr>
          <p:spPr>
            <a:xfrm>
              <a:off x="4544280" y="2070720"/>
              <a:ext cx="1476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1" name="" descr=""/>
            <p:cNvPicPr/>
            <p:nvPr/>
          </p:nvPicPr>
          <p:blipFill>
            <a:blip r:embed="rId3"/>
            <a:stretch/>
          </p:blipFill>
          <p:spPr>
            <a:xfrm>
              <a:off x="454428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2" name=""/>
            <p:cNvSpPr/>
            <p:nvPr/>
          </p:nvSpPr>
          <p:spPr>
            <a:xfrm>
              <a:off x="58978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3" name="" descr=""/>
            <p:cNvPicPr/>
            <p:nvPr/>
          </p:nvPicPr>
          <p:blipFill>
            <a:blip r:embed="rId4"/>
            <a:stretch/>
          </p:blipFill>
          <p:spPr>
            <a:xfrm>
              <a:off x="58978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72532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5" name="" descr=""/>
            <p:cNvPicPr/>
            <p:nvPr/>
          </p:nvPicPr>
          <p:blipFill>
            <a:blip r:embed="rId5"/>
            <a:stretch/>
          </p:blipFill>
          <p:spPr>
            <a:xfrm>
              <a:off x="72532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"/>
            <p:cNvSpPr/>
            <p:nvPr/>
          </p:nvSpPr>
          <p:spPr>
            <a:xfrm>
              <a:off x="1878480" y="2219760"/>
              <a:ext cx="1260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922400" y="2618280"/>
              <a:ext cx="862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9" name="" descr=""/>
            <p:cNvPicPr/>
            <p:nvPr/>
          </p:nvPicPr>
          <p:blipFill>
            <a:blip r:embed="rId6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0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937520" y="2633760"/>
              <a:ext cx="847800" cy="177120"/>
            </a:xfrm>
            <a:custGeom>
              <a:avLst/>
              <a:gdLst/>
              <a:ahLst/>
              <a:rect l="l" t="t" r="r" b="b"/>
              <a:pathLst>
                <a:path w="1162" h="242">
                  <a:moveTo>
                    <a:pt x="0" y="0"/>
                  </a:moveTo>
                  <a:lnTo>
                    <a:pt x="1162" y="0"/>
                  </a:lnTo>
                  <a:lnTo>
                    <a:pt x="1162" y="242"/>
                  </a:lnTo>
                  <a:lnTo>
                    <a:pt x="0" y="2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3" name="" descr=""/>
            <p:cNvPicPr/>
            <p:nvPr/>
          </p:nvPicPr>
          <p:blipFill>
            <a:blip r:embed="rId7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4" name=""/>
            <p:cNvSpPr/>
            <p:nvPr/>
          </p:nvSpPr>
          <p:spPr>
            <a:xfrm>
              <a:off x="2844720" y="3017520"/>
              <a:ext cx="358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853000" y="3025800"/>
              <a:ext cx="35712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996920" y="3019320"/>
              <a:ext cx="4244760" cy="1908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03400" y="302580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844720" y="3418560"/>
              <a:ext cx="119124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53000" y="3425040"/>
              <a:ext cx="119124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25000" y="3418560"/>
              <a:ext cx="4216320" cy="192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34000" y="3425040"/>
              <a:ext cx="421380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844720" y="4215960"/>
              <a:ext cx="18021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853000" y="4224960"/>
              <a:ext cx="180288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965960" y="4218120"/>
              <a:ext cx="4244760" cy="1908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974960" y="422496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355600" y="5015520"/>
              <a:ext cx="147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087200" y="2653560"/>
              <a:ext cx="29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Dari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472760" y="26402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087560" y="3052080"/>
              <a:ext cx="26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rt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428840" y="30391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088280" y="34513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e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310760" y="3437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087920" y="3849840"/>
              <a:ext cx="238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Ry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398240" y="3836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086480" y="4250880"/>
              <a:ext cx="24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ilv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06880" y="4237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088280" y="4649760"/>
              <a:ext cx="25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au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428840" y="46371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996920" y="2618280"/>
              <a:ext cx="4244760" cy="192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003400" y="2627280"/>
              <a:ext cx="4244760" cy="190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996920" y="3817080"/>
              <a:ext cx="4244760" cy="192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003400" y="3826080"/>
              <a:ext cx="4244760" cy="190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965960" y="4617000"/>
              <a:ext cx="4244760" cy="1926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974960" y="462348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229720" y="3078360"/>
              <a:ext cx="66780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236200" y="308484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242680" y="30830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74164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559400" y="3477600"/>
              <a:ext cx="67032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566240" y="34840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572360" y="34819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0713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61980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626280" y="3885120"/>
              <a:ext cx="66996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634920" y="38804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1317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61980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626280" y="428400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634920" y="427968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1317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949480" y="4676400"/>
              <a:ext cx="67032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956320" y="46828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964600" y="46807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46176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012040" y="467640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018520" y="46828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025360" y="46807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46492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01204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018520" y="42840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025360" y="427968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649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01204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018520" y="3885120"/>
              <a:ext cx="67032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025360" y="38804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649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012040" y="347760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018520" y="34840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025360" y="34819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649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012040" y="307836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018520" y="308484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025360" y="30830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6492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012040" y="26773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018520" y="26838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025360" y="268200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64920" y="2669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072440" y="1494000"/>
              <a:ext cx="2160" cy="53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072440" y="14940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072440" y="20268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1450440" y="471600"/>
            <a:ext cx="658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scheduling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AD19-951F-4049-87E2-831FB0649DE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(Program Evaluation and Review Technique) ch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of boxes (or cir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esent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ow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pendenc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ng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at the head of an arrow cannot start until the activity at the tail of the arrow is finish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3D5B-69E1-4F18-BBAA-AD36574DA79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190512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6" name="" descr=""/>
          <p:cNvPicPr/>
          <p:nvPr/>
        </p:nvPicPr>
        <p:blipFill>
          <a:blip r:embed="rId1"/>
          <a:stretch/>
        </p:blipFill>
        <p:spPr>
          <a:xfrm>
            <a:off x="1027080" y="1116000"/>
            <a:ext cx="7280280" cy="5095800"/>
          </a:xfrm>
          <a:prstGeom prst="rect">
            <a:avLst/>
          </a:prstGeom>
          <a:ln w="0">
            <a:noFill/>
          </a:ln>
        </p:spPr>
      </p:pic>
      <p:sp>
        <p:nvSpPr>
          <p:cNvPr id="967" name=""/>
          <p:cNvSpPr/>
          <p:nvPr/>
        </p:nvSpPr>
        <p:spPr>
          <a:xfrm>
            <a:off x="1550880" y="49356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C397-B91A-46C6-85B4-67D2853F858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of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tical path for the project (shown in bol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 delay in any activity in the path causes a delay in the entire proje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 on the critical path must be monitored more closely than other activit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AFB1-9DD6-4A41-8764-C3B041B02A1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&amp;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22440" y="1789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ce the manager to p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 interrelationships among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clearly identifies the critical pat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exposes parallelism in the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in allocating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ow scheduling and simulation of alternative sche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nable the manager to monitor and control project progress and detect devia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86E2-7E2F-4B44-A40A-3FB4B53299B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n organization structure is used to structure the communication patterns among members of a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raditional team organization is hierarchical with a manager supervising a group or groups of grou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ther organizations have been tried in software engineering with some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406A-71A7-4113-BDA1-F54586BC2E8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77640" y="6091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ief-programmer te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way to centralize the control of a software development tea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hief programmer (CF) responsible for design + reports to peer manager responsible for administr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 members are a software librarian and programm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port to CF and are added to team when need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solution may be understood and controlled by one chief archi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2AD4-E805-4A1E-84E0-8027731C5A9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320040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7" name="" descr=""/>
          <p:cNvPicPr/>
          <p:nvPr/>
        </p:nvPicPr>
        <p:blipFill>
          <a:blip r:embed="rId1"/>
          <a:stretch/>
        </p:blipFill>
        <p:spPr>
          <a:xfrm>
            <a:off x="1577880" y="1438200"/>
            <a:ext cx="6310440" cy="3943440"/>
          </a:xfrm>
          <a:prstGeom prst="rect">
            <a:avLst/>
          </a:prstGeom>
          <a:ln w="0">
            <a:noFill/>
          </a:ln>
        </p:spPr>
      </p:pic>
      <p:sp>
        <p:nvSpPr>
          <p:cNvPr id="978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7162-7FE6-40C3-988D-E712C97F688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tas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rganiz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ff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rec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trol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 dealing with deviations from the p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1319040" y="5562720"/>
            <a:ext cx="6231240" cy="581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 the work and work the pla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E537-FF97-44AB-AED6-E7A843129E8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entralized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isions are made by consensus, and all work is considered group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mbers review each other’s work and are responsible as a group for what every member produc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problem or solution is not well-understood and requires the contribution of several people to clarify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35EA-A564-464F-A5B2-D1070F0E8FA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300996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1"/>
          <a:stretch/>
        </p:blipFill>
        <p:spPr>
          <a:xfrm>
            <a:off x="806400" y="1735200"/>
            <a:ext cx="6859800" cy="3478320"/>
          </a:xfrm>
          <a:prstGeom prst="rect">
            <a:avLst/>
          </a:prstGeom>
          <a:ln w="0">
            <a:noFill/>
          </a:ln>
        </p:spPr>
      </p:pic>
      <p:sp>
        <p:nvSpPr>
          <p:cNvPr id="983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18040" y="526716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999680" y="525456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9599-B44F-4F00-863A-07CE2D32536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xed-control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ttempts to combine the benefits of centralized and decentralized contr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iates engineers into senior and jun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nior engineer leads a group of juniors and reports to a project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vested in the project manager and senior programm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decentralized among each set of individuals, peers, and their immediate superviso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DC35-0F79-4E79-888F-1B24B0E7A08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25956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1"/>
          <a:stretch/>
        </p:blipFill>
        <p:spPr>
          <a:xfrm>
            <a:off x="585720" y="1703520"/>
            <a:ext cx="7908840" cy="365760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>
            <a:off x="531000" y="539604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012280" y="538308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38040" y="455760"/>
            <a:ext cx="8080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F586-2509-442F-BB12-756FAE1369C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33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 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liance on volunteer developers and the lack of organized schedu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is a mixed mod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module has a responsible person , who is the ultimate arbiter of what goes into the eventual release of th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one may review the module and send in corrections and other contributions to the responsible per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3671-DCB1-4DCE-A18C-62A5BCFDB69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07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depends on the go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 team organization is appropriate for all task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entralized control best when communication is necessary to achieve a good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ized control best when development speed is key and problem is well understoo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 appropriate organization limits the amount of communication to what is necessary to achieve the goals—no more and no 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9208-BCB8-4FAB-984C-B30CF3F403F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kia software fact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7C17-9BF0-4238-9D60-6F32709BD6A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47640" y="50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undational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79520" y="1555920"/>
            <a:ext cx="80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ographically distributed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ical project: 100 developers working in three to four si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ynchronous work not possible (differences in time zon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 family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 developed for an entire family, and components developed to be used in all family membe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urrent engine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s developed concurrently at different sites, retrieved from the various sites and combined in a central lo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too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is tool supported (for requirements engineering, design, coding, version management, configuration management, and testi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B538-4DF3-4395-B5C8-C43CD9E8814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sk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opic of management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project risks, assesses their impact, and monitors and controls th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3606-3ADB-4C3C-A22D-44F40B1BE946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1711440" y="1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230720" y="13176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523800" y="1657440"/>
            <a:ext cx="8079840" cy="4323960"/>
            <a:chOff x="523800" y="1657440"/>
            <a:chExt cx="8079840" cy="4323960"/>
          </a:xfrm>
        </p:grpSpPr>
        <p:sp>
          <p:nvSpPr>
            <p:cNvPr id="1006" name=""/>
            <p:cNvSpPr/>
            <p:nvPr/>
          </p:nvSpPr>
          <p:spPr>
            <a:xfrm>
              <a:off x="816840" y="1677600"/>
              <a:ext cx="54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39788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366440" y="1677600"/>
              <a:ext cx="336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MANAGEMENT TECHNIQ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93980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2380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36760" y="16574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36760" y="16574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073040" y="167076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07304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07304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07304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086000" y="16574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086000" y="16574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859068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2380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2380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07304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07304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59068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859068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19360" y="2173320"/>
              <a:ext cx="181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1. Personnel shortfal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734200" y="2173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151160" y="21733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231440" y="21733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taffing with top talent; job matching; tea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258800" y="2431800"/>
              <a:ext cx="1081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building; 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40180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477400" y="2431800"/>
              <a:ext cx="2289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ersonnel agreements; cro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89804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260960" y="2690280"/>
              <a:ext cx="999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training; p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316120" y="26902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388120" y="2690280"/>
              <a:ext cx="1820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heduling key peo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313760" y="26902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2380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380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36760" y="19292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36760" y="19292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07304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07304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086000" y="19292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086000" y="19292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59068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59068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2380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2380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07304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07304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859068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859068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819720" y="3183840"/>
              <a:ext cx="1985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2. Unrealistic schedul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032120" y="3442320"/>
              <a:ext cx="97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and budge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066400" y="3442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151160" y="31838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228920" y="3183840"/>
              <a:ext cx="2948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tailed multisource cost &amp; sched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350120" y="3183840"/>
              <a:ext cx="19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266720" y="3442320"/>
              <a:ext cx="3186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stimation; design to cost; incrementa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266720" y="3700440"/>
              <a:ext cx="3549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velopment; software reuse; requirement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258080" y="3958560"/>
              <a:ext cx="80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rubb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108400" y="39585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2380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2380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36760" y="2939040"/>
              <a:ext cx="35359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36760" y="293904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07304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07304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086000" y="2939040"/>
              <a:ext cx="4504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086000" y="293904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59068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59068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2380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2380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07304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07304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859068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859068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816840" y="445212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3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035720" y="4710600"/>
              <a:ext cx="1506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oftware 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628000" y="4710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15116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227840" y="44521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Organization analysis; mission analysis; o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09028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264560" y="4710600"/>
              <a:ext cx="392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oncept formulation; user surveys; prototyping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263120" y="4968720"/>
              <a:ext cx="1667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arly users’ manu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025680" y="49687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2380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2380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36760" y="42051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07304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07304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086000" y="42051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59068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59068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2380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2380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07304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07304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59068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59068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16840" y="546264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4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036440" y="5718240"/>
              <a:ext cx="1098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user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19636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151160" y="54626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228200" y="5462640"/>
              <a:ext cx="351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rototyping; scenarios; task analysis; us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267440" y="5718240"/>
              <a:ext cx="387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haracterization (functionality, style, workloa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36460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2380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2380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36760" y="521568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07304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07304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086000" y="521568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59068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59068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2380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2380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07304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07304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859068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59068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2380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2380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36760" y="5967360"/>
              <a:ext cx="353592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36760" y="59673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07304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07304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086000" y="5967360"/>
              <a:ext cx="450468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086000" y="59673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859068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59068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2" name=""/>
          <p:cNvSpPr/>
          <p:nvPr/>
        </p:nvSpPr>
        <p:spPr>
          <a:xfrm>
            <a:off x="544680" y="192240"/>
            <a:ext cx="8145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SE risks (Boehm 198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EF0A-D005-4C4A-B787-4A8672DB0404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challen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lance conflicting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liver a high-quality product with limi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e an activity that is fundamentally intellect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is complicates the traditional techniques for productivity measurement, project planning, cost and schedule esti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225F-4C3C-46B4-AA4F-47EBBBF41D5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3" name=""/>
          <p:cNvGrpSpPr/>
          <p:nvPr/>
        </p:nvGrpSpPr>
        <p:grpSpPr>
          <a:xfrm>
            <a:off x="642960" y="461880"/>
            <a:ext cx="7511400" cy="5867640"/>
            <a:chOff x="642960" y="461880"/>
            <a:chExt cx="7511400" cy="5867640"/>
          </a:xfrm>
        </p:grpSpPr>
        <p:grpSp>
          <p:nvGrpSpPr>
            <p:cNvPr id="1144" name=""/>
            <p:cNvGrpSpPr/>
            <p:nvPr/>
          </p:nvGrpSpPr>
          <p:grpSpPr>
            <a:xfrm>
              <a:off x="642960" y="2440440"/>
              <a:ext cx="7511400" cy="3889080"/>
              <a:chOff x="642960" y="2440440"/>
              <a:chExt cx="7511400" cy="3889080"/>
            </a:xfrm>
          </p:grpSpPr>
          <p:sp>
            <p:nvSpPr>
              <p:cNvPr id="1145" name=""/>
              <p:cNvSpPr/>
              <p:nvPr/>
            </p:nvSpPr>
            <p:spPr>
              <a:xfrm>
                <a:off x="8142120" y="244044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8142120" y="244044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917640" y="3537360"/>
                <a:ext cx="1201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8. Shortfalls 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2101680" y="3537360"/>
                <a:ext cx="913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1119600" y="3822120"/>
                <a:ext cx="1302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erformed task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2399760" y="3822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01508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084200" y="3537360"/>
                <a:ext cx="2023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ference checking; p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0757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144480" y="3537360"/>
                <a:ext cx="163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award audits; awar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7533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819920" y="3537360"/>
                <a:ext cx="298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e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120920" y="3822120"/>
                <a:ext cx="3708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ntracts; competitive design or prototyp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116240" y="4110120"/>
                <a:ext cx="1123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eam build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220000" y="4110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429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429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55200" y="3260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55200" y="3260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39423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9423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954600" y="3260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954600" y="3260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814212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814212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6429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429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9423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9423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814212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814212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915120" y="4656960"/>
                <a:ext cx="575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9. Re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148284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553760" y="4656960"/>
                <a:ext cx="1485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ime performanc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1118520" y="4947840"/>
                <a:ext cx="756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hortfall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186048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01508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086360" y="4656960"/>
                <a:ext cx="319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imulation; benchmarking; model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118400" y="4947840"/>
                <a:ext cx="2961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instrumentation; tun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02612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429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429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55200" y="4385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655200" y="4385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39423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9423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3954600" y="4385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3954600" y="4385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814212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814212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429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429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9423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39423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814212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814212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914760" y="5495040"/>
                <a:ext cx="41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0. 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330200" y="5495040"/>
                <a:ext cx="1500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raining compu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121040" y="5782680"/>
                <a:ext cx="157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cience capabiliti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26647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015080" y="5495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084560" y="5495040"/>
                <a:ext cx="1991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Technical analysis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043320" y="5495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6146640" y="5495040"/>
                <a:ext cx="1377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118040" y="5782680"/>
                <a:ext cx="2595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reference check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66715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429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429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55200" y="522288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55200" y="522288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9423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39423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954600" y="522288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3954600" y="522288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814212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814212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429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429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55200" y="605772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55200" y="605772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9423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9423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9423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9423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9423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954600" y="605772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954600" y="605772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814212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814212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1117080" y="608580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7" name=""/>
            <p:cNvGrpSpPr/>
            <p:nvPr/>
          </p:nvGrpSpPr>
          <p:grpSpPr>
            <a:xfrm>
              <a:off x="642960" y="477360"/>
              <a:ext cx="7511400" cy="2782440"/>
              <a:chOff x="642960" y="477360"/>
              <a:chExt cx="7511400" cy="2782440"/>
            </a:xfrm>
          </p:grpSpPr>
          <p:sp>
            <p:nvSpPr>
              <p:cNvPr id="1248" name=""/>
              <p:cNvSpPr/>
              <p:nvPr/>
            </p:nvSpPr>
            <p:spPr>
              <a:xfrm>
                <a:off x="916200" y="734040"/>
                <a:ext cx="1226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5. Gold plat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2120040" y="734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015080" y="734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085280" y="734040"/>
                <a:ext cx="352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quirements scrubbing; prototyping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548840" y="734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4118400" y="1022040"/>
                <a:ext cx="24955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design to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571440" y="1022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429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429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9423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9423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814212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814212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917280" y="1571400"/>
                <a:ext cx="1980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6. Continuing stream of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1117800" y="1859040"/>
                <a:ext cx="15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275120" y="1859040"/>
                <a:ext cx="953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quirement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210760" y="1859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4015080" y="157140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4086000" y="1571400"/>
                <a:ext cx="3635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High change threshold; information hid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4124160" y="1859040"/>
                <a:ext cx="3966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al development (defer changes to la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4116960" y="2147040"/>
                <a:ext cx="957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s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059080" y="2147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429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429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55200" y="129924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55200" y="129924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9423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9423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3954600" y="129924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3954600" y="129924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814212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814212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429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429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39423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9423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814212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814212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919800" y="2697120"/>
                <a:ext cx="2114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7. Shortfalls in 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117800" y="2986920"/>
                <a:ext cx="1802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urnished componen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288720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4015080" y="269712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4088520" y="2697120"/>
                <a:ext cx="4021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chmarking; inspections; reference check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4117680" y="2986920"/>
                <a:ext cx="1789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mpatibility analys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87808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429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429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655200" y="242424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55200" y="2424240"/>
                <a:ext cx="32871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39423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39423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3954600" y="242424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954600" y="2424240"/>
                <a:ext cx="418752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814212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814212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429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6429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39423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39423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7" name=""/>
            <p:cNvSpPr/>
            <p:nvPr/>
          </p:nvSpPr>
          <p:spPr>
            <a:xfrm>
              <a:off x="655200" y="461880"/>
              <a:ext cx="328716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954600" y="461880"/>
              <a:ext cx="418788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4132-6BAD-473F-9DCD-9F7DA8FEA60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pability Matur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MM developed by the Software Engineering Institute to hel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develop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improve their software proc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acquire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assess the quality of their contrac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41D0-F963-4DA0-91AF-38A30947CDB9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tu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es are improvised during the course of a project to resolve unanticipated cri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s often delivered late and their quality is question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-wide standard approach to software processes, known and accepted by all engin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continuous improvement both in performance and produ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qu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1371-832F-400C-8C47-9699353CA55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"/>
          <p:cNvSpPr/>
          <p:nvPr/>
        </p:nvSpPr>
        <p:spPr>
          <a:xfrm>
            <a:off x="192096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4" name="" descr=""/>
          <p:cNvPicPr/>
          <p:nvPr/>
        </p:nvPicPr>
        <p:blipFill>
          <a:blip r:embed="rId1"/>
          <a:stretch/>
        </p:blipFill>
        <p:spPr>
          <a:xfrm>
            <a:off x="812880" y="1798560"/>
            <a:ext cx="7791480" cy="4073760"/>
          </a:xfrm>
          <a:prstGeom prst="rect">
            <a:avLst/>
          </a:prstGeom>
          <a:ln w="0">
            <a:noFill/>
          </a:ln>
        </p:spPr>
      </p:pic>
      <p:sp>
        <p:nvSpPr>
          <p:cNvPr id="131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M maturity lev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3D87-FA04-40CA-9ACE-2CED4FDD09E7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22440" y="39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ocess are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7" name=""/>
          <p:cNvSpPr/>
          <p:nvPr/>
        </p:nvSpPr>
        <p:spPr>
          <a:xfrm>
            <a:off x="175752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8" name="" descr=""/>
          <p:cNvPicPr/>
          <p:nvPr/>
        </p:nvPicPr>
        <p:blipFill>
          <a:blip r:embed="rId1"/>
          <a:stretch/>
        </p:blipFill>
        <p:spPr>
          <a:xfrm>
            <a:off x="1401840" y="1479600"/>
            <a:ext cx="8472240" cy="48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2BB1-5CFE-438C-AF4C-1CDE4ABC982A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/measure i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erms of lines of code produc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tens per d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what do engineers d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 to half their time spent in meetings, administrative matters, communication with team memb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58E7-745A-43B9-A740-FCB4202F93E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oductivity measure, empirically jus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tion: define and measure th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unt of value (or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a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) produced per unit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: determin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x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an application as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poi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589E-D178-4EA2-870F-C504E878733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 defin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ighted sum of 5 characteristic fa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1771560" y="279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1257300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8EE3-DE8C-4DAC-BADB-DFC0B37ED9F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y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 point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measure the relative power of differen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 number of source lines required to code a function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s range from 320 (assembler languages), 128 (C), 91 (Pascal), 71 (Ada83), 53 (C++, Java), 6 (“spreadsheet languages”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8E02-978A-44C2-8B17-D11BD6104BC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0T11:27:07Z</dcterms:created>
  <dc:creator>Carlo Ghezzi</dc:creator>
  <dc:description/>
  <dc:language>en-US</dc:language>
  <cp:lastModifiedBy>jazayeri</cp:lastModifiedBy>
  <dcterms:modified xsi:type="dcterms:W3CDTF">2002-02-19T15:50:16Z</dcterms:modified>
  <cp:revision>16</cp:revision>
  <dc:subject/>
  <dc:title>PowerPoint Presentation</dc:title>
</cp:coreProperties>
</file>