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A603-1B8D-460A-B421-E715AF2E2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5953-2B20-4973-9148-923C24820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D395-4CE4-4578-8987-94663BDF1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A052-7CC9-4D3C-96A8-AAE54F702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F331-55DB-41EE-BE5E-DC5D417FD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7022-69A6-4D12-898E-C700498B2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044B-5F73-4952-B41E-0B7AEB36D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5267-A767-4A9B-8D5D-E0C301EF9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00C5-DA90-4444-B5D0-DF2BB9613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7263-6F23-4BC1-9942-552FE5B2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B596-9B25-4279-AD1C-27AA2E56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0A3B-705B-446E-861A-06D537AA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ED719-7DB8-480E-8DD2-01CCC47B48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0312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8896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00Z</dcterms:modified>
  <cp:revision>2</cp:revision>
  <dc:subject/>
  <dc:title>PowerPoint Presentation</dc:title>
</cp:coreProperties>
</file>