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9B52-58D5-400C-91C1-9C54BD4BA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1C93-C89E-43EE-A469-294151BB3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0A8B-8F23-4E3D-B9A3-302D0C1BF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F79B-E2F9-48C4-BE10-AEFF6F0B4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A151-8D13-413B-BE53-7D295DADE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CA98-75E8-4FEB-AF3C-27B3A30D7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ECF1-8069-4B92-A346-F0CF93862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60E6-2890-41D4-9241-464EA6EF4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E39E-DC19-49B2-A076-6CE884138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51F6-9B90-41B6-9DAE-9B0F4A40B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F751-D1C1-4919-ABD6-2AFB6B71E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A9CD-20F1-4235-A270-D710827FA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2BA69-2C5A-477A-909B-0987CF5B4D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752480" y="1600200"/>
          <a:ext cx="525780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600200"/>
                    <a:ext cx="525780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8:05Z</dcterms:modified>
  <cp:revision>4</cp:revision>
  <dc:subject/>
  <dc:title>PowerPoint Presentation</dc:title>
</cp:coreProperties>
</file>