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9C03-5EFA-440C-876C-52EB6E4EB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F699-487F-4336-9A0B-740E246C6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BAF2-5202-4368-B198-CB0458504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7407-0745-4BD9-AECB-EBF9787F6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6D1B-EC4C-43A8-AFD3-BE5054C4D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1EC0-4322-49CE-946C-4AEAECA2E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C0A6-3C83-4844-B95B-1B9B35B3A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F674-8E6A-40F3-8100-8ADC3E2F0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D40A-FBDD-4ADA-89EE-58D733E95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3253-AF74-4593-BBC7-EAC8E4AD6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4E7F-7693-4705-BE1E-C8A1CA427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15BB-1379-4A5A-9978-C72299FED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AED74-8125-4EEC-AF6D-2CD08E4DB2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143000" y="762120"/>
          <a:ext cx="7008840" cy="550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762120"/>
                    <a:ext cx="7008840" cy="550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6:45Z</dcterms:modified>
  <cp:revision>3</cp:revision>
  <dc:subject/>
  <dc:title>PowerPoint Presentation</dc:title>
</cp:coreProperties>
</file>