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64C4-C2C9-480D-BF8F-2801309E9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FB83-DC4D-4642-A9B6-1E349054D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A422-3981-43B9-9F53-81FECCC70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D73E-AC4A-47C6-80C3-3ABA4BE38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D2E5-F22B-4BF1-93F0-121906441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1B4D-CE6A-40A7-850C-66ECB3F1F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1E38-FA7B-4FDC-9B59-155AE643E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1A4C-B614-4113-A457-472C0C4FA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D867-B928-4F9C-93EE-03B3AB9BC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5E28-3BB4-4D88-AC44-85924C74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A3EB-5F01-46C9-8CD5-EC606CF62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88A4-09EF-40C3-8A8A-8214256AF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588E0-DF33-4EEB-89F5-FE025B8358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8440" y="609480"/>
            <a:ext cx="7532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ocedure binary-search (key: in eleme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able: in elementTable; found: out Boolean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e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table'first; top := table'la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bottom &lt; top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bottom + top) rem 2 ≠ 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 - 1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) /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key ≤ table (middle)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p := midd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middl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key = table (to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inary-s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239880" y="2319480"/>
            <a:ext cx="2818800" cy="2288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omi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if the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never h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 if size of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power of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409720" y="3200400"/>
            <a:ext cx="7621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3:45:13Z</dcterms:created>
  <dc:creator>Spencer Smith</dc:creator>
  <dc:description/>
  <dc:language>en-US</dc:language>
  <cp:lastModifiedBy>Spencer Smith</cp:lastModifiedBy>
  <dcterms:modified xsi:type="dcterms:W3CDTF">2008-03-13T03:46:39Z</dcterms:modified>
  <cp:revision>1</cp:revision>
  <dc:subject/>
  <dc:title>PowerPoint Presentation</dc:title>
</cp:coreProperties>
</file>