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9B41-9C6F-46AC-8A66-C7BD30A62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37BB-85C2-4C2C-856E-E757F1FB6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40EF-9F80-48CA-9BA1-C6701AA65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7783-1A27-4AEE-AE9D-2D0641384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DC2F-660B-4B15-90FC-E31B9CB43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FDDA-7AEA-4863-AE6D-71FDE27D2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7BFD-7D8D-44CB-9AB7-073F19A49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CB7D-6590-485D-A43B-B96DE16D8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9973-A5E9-4962-89FE-C82F8329A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F936-CCFB-4BC1-B60B-F95D8E16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050E-0587-48E6-8069-B4F6875E4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BC1F-FE96-4329-AAA1-20E6D21D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D9316-5833-4005-892F-F43D2A6C72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680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7:07Z</dcterms:modified>
  <cp:revision>1</cp:revision>
  <dc:subject/>
  <dc:title>PowerPoint Presentation</dc:title>
</cp:coreProperties>
</file>