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0F76-FB0B-49D4-AC31-8F17C52C2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1B11-7081-41EA-9665-DF74BFE0B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233C-71B1-4682-B0D0-DDD7AA269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FAA7-02E1-4559-9952-B830EBCA3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2984-6B58-4A35-BE8A-E9D2DD81D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F2DE-B802-4214-8B88-DD5A60CD6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8927-C49E-448D-9566-09A33752B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19E5-8B79-41F9-A926-902ED3BA2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D3D4-9F7E-422D-A0EB-FE5D080BC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39A7-D201-414E-9E9C-6D41B17C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C90F-7CF9-4DAF-94A2-1F604CA9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EF31-1E07-4464-864B-793303A3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5E78F-4A61-43C6-8E50-40F6A080D3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69720" y="3397320"/>
          <a:ext cx="5578560" cy="276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9720" y="3397320"/>
                    <a:ext cx="5578560" cy="27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 flipH="1">
            <a:off x="7314840" y="3568680"/>
            <a:ext cx="12600" cy="237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92840" y="4749840"/>
            <a:ext cx="2921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77040" y="46735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484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6438960" y="4673520"/>
            <a:ext cx="114120" cy="1144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92840" y="4673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056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102520" y="468648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24960" y="46609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64440" y="4889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77040" y="52196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64440" y="57405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51840" y="44067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77040" y="39751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77040" y="3594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30920" y="4305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81760" y="37846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59800" y="5105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56680" y="5816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67560" y="51814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56200" y="572760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51760" y="416556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458200" y="36194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95920" y="5430960"/>
            <a:ext cx="9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x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147160" y="4795920"/>
            <a:ext cx="9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y =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4:21:28Z</dcterms:created>
  <dc:creator>Spencer Smith</dc:creator>
  <dc:description/>
  <dc:language>en-US</dc:language>
  <cp:lastModifiedBy>Spencer Smith</cp:lastModifiedBy>
  <dcterms:modified xsi:type="dcterms:W3CDTF">2008-03-28T04:22:58Z</dcterms:modified>
  <cp:revision>1</cp:revision>
  <dc:subject/>
  <dc:title>PowerPoint Presentation</dc:title>
</cp:coreProperties>
</file>