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FD36D-E9CF-43D3-BAE6-8B556EB5D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7EF75-FE44-4363-9DE6-26D486CAE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D6E5B-7E4F-432C-9A3A-837C6A985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5EF5B-3E7E-4244-BCB5-0953E344D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3112B-D946-4904-86D8-2747B7A72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2DA38-D7B6-4CB4-B185-82809323B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4FD84-8B7A-4F58-AEC3-7A5DB2FB5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2B922-FB39-4411-8A57-CA17758B7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76607-2176-4A02-BFCA-7B87D3C9E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A8DE9-D103-4A81-91B1-D68CA3173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478A7-2382-4B61-AFCB-5FECF568C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89B13-9E8C-45BC-AD6C-AF43D442E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19E1A-06EC-4CBC-8F38-27A8DD2E70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Engineering Tools and Environme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01CCF-E848-4C05-A7C8-1B123F11BC0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rprete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ditionally at the programming languag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at the requirements specification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 ani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be numeric or symboli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4BFF0-43C2-4509-A35A-1B7C0D51B38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de generato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a general sense, transform a high level description into a lower-level descrip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specificatio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nto an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actica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th Generation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F635D-33BB-4E7D-BF4A-C6CA41AF36A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bugge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y be viewed as special kinds of interpreters whe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ecution state inspec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ecution mode defin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imation to support program underst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B6E82-7D31-441C-8B53-B4866546C56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 Software testing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document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pport bookkeeping of test c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orms for test case definition, storage, retrieva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"/>
          <p:cNvSpPr/>
          <p:nvPr/>
        </p:nvSpPr>
        <p:spPr>
          <a:xfrm>
            <a:off x="3014640" y="23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2438280" y="3429000"/>
            <a:ext cx="4114800" cy="2755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D757A-C734-48C5-9EF4-43A51E6528A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 Software testing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ols for test data deriv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synthesizing data from path cond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ols for test evalu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various coverage metr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ols for testing other software qual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AF823-28AB-4822-8DE3-8B153F7D4E6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atic analyze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ta and flow control analy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an point out possible flaws or suspicious-looking stat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detecting uninitialized vari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F05B3-75F8-4FFE-91E8-919A7D18553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UI tool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raphical User Interfaces are now standard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on abstractions inclu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ndows and the desktop metaph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"/>
          <p:cNvSpPr/>
          <p:nvPr/>
        </p:nvSpPr>
        <p:spPr>
          <a:xfrm>
            <a:off x="2887560" y="247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2362320" y="3887640"/>
            <a:ext cx="3902040" cy="2216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9F04C-2CAF-4D04-84D8-8E5105EA6EE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ser-Interface Management Syste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vide a set of basic abstractions (windows, menus, scroll bars, etc.) that may be used to customize a variety of interfa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vide a library of run-time routines to be linked to the developed application in order to support input and out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UIMS fall both under the category of development tools and under the category of end-product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8E460-0EA5-4161-9012-CDA31286C03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2476440" y="2062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023840" y="1676520"/>
            <a:ext cx="7416720" cy="4538520"/>
            <a:chOff x="1023840" y="1676520"/>
            <a:chExt cx="7416720" cy="4538520"/>
          </a:xfrm>
        </p:grpSpPr>
        <p:sp>
          <p:nvSpPr>
            <p:cNvPr id="81" name=""/>
            <p:cNvSpPr/>
            <p:nvPr/>
          </p:nvSpPr>
          <p:spPr>
            <a:xfrm>
              <a:off x="2941560" y="1677960"/>
              <a:ext cx="2886120" cy="3957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941560" y="1676520"/>
              <a:ext cx="2887920" cy="3959280"/>
            </a:xfrm>
            <a:prstGeom prst="rect">
              <a:avLst/>
            </a:prstGeom>
            <a:noFill/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154320" y="1974960"/>
              <a:ext cx="2495520" cy="154620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154320" y="3909960"/>
              <a:ext cx="2495520" cy="153036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348720" y="2362320"/>
              <a:ext cx="207036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Run-time dialog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compone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578400" y="4114800"/>
              <a:ext cx="1654200" cy="109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Dialog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development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tool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031760" y="2076480"/>
              <a:ext cx="1444680" cy="125712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142640" y="2057400"/>
              <a:ext cx="7552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Progr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141200" y="2286000"/>
              <a:ext cx="11786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languag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140120" y="2514600"/>
              <a:ext cx="11300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run-tim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159560" y="2816280"/>
              <a:ext cx="9165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suppor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2" name=""/>
            <p:cNvGrpSpPr/>
            <p:nvPr/>
          </p:nvGrpSpPr>
          <p:grpSpPr>
            <a:xfrm>
              <a:off x="2467080" y="2577960"/>
              <a:ext cx="679320" cy="135000"/>
              <a:chOff x="2467080" y="2577960"/>
              <a:chExt cx="679320" cy="135000"/>
            </a:xfrm>
          </p:grpSpPr>
          <p:sp>
            <p:nvSpPr>
              <p:cNvPr id="93" name=""/>
              <p:cNvSpPr/>
              <p:nvPr/>
            </p:nvSpPr>
            <p:spPr>
              <a:xfrm>
                <a:off x="2467080" y="2577960"/>
                <a:ext cx="237960" cy="135000"/>
              </a:xfrm>
              <a:custGeom>
                <a:avLst/>
                <a:gdLst/>
                <a:ahLst/>
                <a:rect l="l" t="t" r="r" b="b"/>
                <a:pathLst>
                  <a:path w="150" h="85">
                    <a:moveTo>
                      <a:pt x="0" y="43"/>
                    </a:moveTo>
                    <a:lnTo>
                      <a:pt x="150" y="0"/>
                    </a:lnTo>
                    <a:lnTo>
                      <a:pt x="150" y="43"/>
                    </a:lnTo>
                    <a:lnTo>
                      <a:pt x="150" y="85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2890800" y="2577960"/>
                <a:ext cx="255600" cy="135000"/>
              </a:xfrm>
              <a:custGeom>
                <a:avLst/>
                <a:gdLst/>
                <a:ahLst/>
                <a:rect l="l" t="t" r="r" b="b"/>
                <a:pathLst>
                  <a:path w="161" h="85">
                    <a:moveTo>
                      <a:pt x="161" y="43"/>
                    </a:moveTo>
                    <a:lnTo>
                      <a:pt x="0" y="85"/>
                    </a:lnTo>
                    <a:lnTo>
                      <a:pt x="0" y="43"/>
                    </a:lnTo>
                    <a:lnTo>
                      <a:pt x="0" y="0"/>
                    </a:lnTo>
                    <a:lnTo>
                      <a:pt x="161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2705040" y="2646360"/>
                <a:ext cx="185760" cy="144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6989760" y="2178000"/>
              <a:ext cx="1257480" cy="124164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314840" y="2438280"/>
              <a:ext cx="56772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End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us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8" name=""/>
            <p:cNvGrpSpPr/>
            <p:nvPr/>
          </p:nvGrpSpPr>
          <p:grpSpPr>
            <a:xfrm>
              <a:off x="5640480" y="2679840"/>
              <a:ext cx="1341360" cy="136440"/>
              <a:chOff x="5640480" y="2679840"/>
              <a:chExt cx="1341360" cy="136440"/>
            </a:xfrm>
          </p:grpSpPr>
          <p:sp>
            <p:nvSpPr>
              <p:cNvPr id="99" name=""/>
              <p:cNvSpPr/>
              <p:nvPr/>
            </p:nvSpPr>
            <p:spPr>
              <a:xfrm>
                <a:off x="5640480" y="2679840"/>
                <a:ext cx="237960" cy="136440"/>
              </a:xfrm>
              <a:custGeom>
                <a:avLst/>
                <a:gdLst/>
                <a:ahLst/>
                <a:rect l="l" t="t" r="r" b="b"/>
                <a:pathLst>
                  <a:path w="150" h="86">
                    <a:moveTo>
                      <a:pt x="0" y="43"/>
                    </a:moveTo>
                    <a:lnTo>
                      <a:pt x="150" y="0"/>
                    </a:lnTo>
                    <a:lnTo>
                      <a:pt x="150" y="43"/>
                    </a:lnTo>
                    <a:lnTo>
                      <a:pt x="150" y="86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727680" y="2679840"/>
                <a:ext cx="254160" cy="136440"/>
              </a:xfrm>
              <a:custGeom>
                <a:avLst/>
                <a:gdLst/>
                <a:ahLst/>
                <a:rect l="l" t="t" r="r" b="b"/>
                <a:pathLst>
                  <a:path w="160" h="86">
                    <a:moveTo>
                      <a:pt x="160" y="43"/>
                    </a:moveTo>
                    <a:lnTo>
                      <a:pt x="0" y="86"/>
                    </a:lnTo>
                    <a:lnTo>
                      <a:pt x="0" y="43"/>
                    </a:lnTo>
                    <a:lnTo>
                      <a:pt x="0" y="0"/>
                    </a:lnTo>
                    <a:lnTo>
                      <a:pt x="16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5878440" y="2747880"/>
                <a:ext cx="849240" cy="180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2" name=""/>
            <p:cNvSpPr/>
            <p:nvPr/>
          </p:nvSpPr>
          <p:spPr>
            <a:xfrm>
              <a:off x="6989760" y="4038480"/>
              <a:ext cx="1392120" cy="131760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008840" y="4495680"/>
              <a:ext cx="12718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Develop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5640480" y="4700520"/>
              <a:ext cx="1341360" cy="136440"/>
              <a:chOff x="5640480" y="4700520"/>
              <a:chExt cx="1341360" cy="136440"/>
            </a:xfrm>
          </p:grpSpPr>
          <p:sp>
            <p:nvSpPr>
              <p:cNvPr id="105" name=""/>
              <p:cNvSpPr/>
              <p:nvPr/>
            </p:nvSpPr>
            <p:spPr>
              <a:xfrm>
                <a:off x="6727680" y="4700520"/>
                <a:ext cx="254160" cy="136440"/>
              </a:xfrm>
              <a:custGeom>
                <a:avLst/>
                <a:gdLst/>
                <a:ahLst/>
                <a:rect l="l" t="t" r="r" b="b"/>
                <a:pathLst>
                  <a:path w="160" h="86">
                    <a:moveTo>
                      <a:pt x="160" y="43"/>
                    </a:moveTo>
                    <a:lnTo>
                      <a:pt x="0" y="86"/>
                    </a:lnTo>
                    <a:lnTo>
                      <a:pt x="0" y="43"/>
                    </a:lnTo>
                    <a:lnTo>
                      <a:pt x="0" y="0"/>
                    </a:lnTo>
                    <a:lnTo>
                      <a:pt x="16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5640480" y="4700520"/>
                <a:ext cx="237960" cy="136440"/>
              </a:xfrm>
              <a:custGeom>
                <a:avLst/>
                <a:gdLst/>
                <a:ahLst/>
                <a:rect l="l" t="t" r="r" b="b"/>
                <a:pathLst>
                  <a:path w="150" h="86">
                    <a:moveTo>
                      <a:pt x="0" y="43"/>
                    </a:moveTo>
                    <a:lnTo>
                      <a:pt x="150" y="0"/>
                    </a:lnTo>
                    <a:lnTo>
                      <a:pt x="150" y="43"/>
                    </a:lnTo>
                    <a:lnTo>
                      <a:pt x="150" y="86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flipH="1">
                <a:off x="5878080" y="4768920"/>
                <a:ext cx="849240" cy="144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8" name=""/>
            <p:cNvSpPr/>
            <p:nvPr/>
          </p:nvSpPr>
          <p:spPr>
            <a:xfrm>
              <a:off x="1031760" y="4097160"/>
              <a:ext cx="1444680" cy="125892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218960" y="4419720"/>
              <a:ext cx="8312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Prog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.</a:t>
              </a: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217520" y="4724280"/>
              <a:ext cx="8402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env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m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1" name=""/>
            <p:cNvGrpSpPr/>
            <p:nvPr/>
          </p:nvGrpSpPr>
          <p:grpSpPr>
            <a:xfrm>
              <a:off x="2467080" y="4599000"/>
              <a:ext cx="679320" cy="136440"/>
              <a:chOff x="2467080" y="4599000"/>
              <a:chExt cx="679320" cy="136440"/>
            </a:xfrm>
          </p:grpSpPr>
          <p:sp>
            <p:nvSpPr>
              <p:cNvPr id="112" name=""/>
              <p:cNvSpPr/>
              <p:nvPr/>
            </p:nvSpPr>
            <p:spPr>
              <a:xfrm>
                <a:off x="2467080" y="4599000"/>
                <a:ext cx="237960" cy="136440"/>
              </a:xfrm>
              <a:custGeom>
                <a:avLst/>
                <a:gdLst/>
                <a:ahLst/>
                <a:rect l="l" t="t" r="r" b="b"/>
                <a:pathLst>
                  <a:path w="150" h="86">
                    <a:moveTo>
                      <a:pt x="0" y="43"/>
                    </a:moveTo>
                    <a:lnTo>
                      <a:pt x="150" y="0"/>
                    </a:lnTo>
                    <a:lnTo>
                      <a:pt x="150" y="43"/>
                    </a:lnTo>
                    <a:lnTo>
                      <a:pt x="150" y="86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890800" y="4599000"/>
                <a:ext cx="255600" cy="136440"/>
              </a:xfrm>
              <a:custGeom>
                <a:avLst/>
                <a:gdLst/>
                <a:ahLst/>
                <a:rect l="l" t="t" r="r" b="b"/>
                <a:pathLst>
                  <a:path w="161" h="86">
                    <a:moveTo>
                      <a:pt x="161" y="43"/>
                    </a:moveTo>
                    <a:lnTo>
                      <a:pt x="0" y="86"/>
                    </a:lnTo>
                    <a:lnTo>
                      <a:pt x="0" y="43"/>
                    </a:lnTo>
                    <a:lnTo>
                      <a:pt x="0" y="0"/>
                    </a:lnTo>
                    <a:lnTo>
                      <a:pt x="161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2705040" y="4667400"/>
                <a:ext cx="185760" cy="144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1601640" y="5346720"/>
              <a:ext cx="865440" cy="866880"/>
              <a:chOff x="1601640" y="5346720"/>
              <a:chExt cx="865440" cy="866880"/>
            </a:xfrm>
          </p:grpSpPr>
          <p:sp>
            <p:nvSpPr>
              <p:cNvPr id="116" name=""/>
              <p:cNvSpPr/>
              <p:nvPr/>
            </p:nvSpPr>
            <p:spPr>
              <a:xfrm>
                <a:off x="1601640" y="5346720"/>
                <a:ext cx="203400" cy="203040"/>
              </a:xfrm>
              <a:custGeom>
                <a:avLst/>
                <a:gdLst/>
                <a:ahLst/>
                <a:rect l="l" t="t" r="r" b="b"/>
                <a:pathLst>
                  <a:path w="128" h="128">
                    <a:moveTo>
                      <a:pt x="0" y="0"/>
                    </a:moveTo>
                    <a:lnTo>
                      <a:pt x="128" y="75"/>
                    </a:lnTo>
                    <a:lnTo>
                      <a:pt x="96" y="107"/>
                    </a:lnTo>
                    <a:lnTo>
                      <a:pt x="75" y="12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754280" y="5516640"/>
                <a:ext cx="712800" cy="69696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8" name=""/>
            <p:cNvSpPr/>
            <p:nvPr/>
          </p:nvSpPr>
          <p:spPr>
            <a:xfrm>
              <a:off x="2467080" y="6213600"/>
              <a:ext cx="385272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9" name=""/>
            <p:cNvGrpSpPr/>
            <p:nvPr/>
          </p:nvGrpSpPr>
          <p:grpSpPr>
            <a:xfrm>
              <a:off x="6319800" y="5245200"/>
              <a:ext cx="966960" cy="968400"/>
              <a:chOff x="6319800" y="5245200"/>
              <a:chExt cx="966960" cy="968400"/>
            </a:xfrm>
          </p:grpSpPr>
          <p:sp>
            <p:nvSpPr>
              <p:cNvPr id="120" name=""/>
              <p:cNvSpPr/>
              <p:nvPr/>
            </p:nvSpPr>
            <p:spPr>
              <a:xfrm>
                <a:off x="7066080" y="5245200"/>
                <a:ext cx="220680" cy="203040"/>
              </a:xfrm>
              <a:custGeom>
                <a:avLst/>
                <a:gdLst/>
                <a:ahLst/>
                <a:rect l="l" t="t" r="r" b="b"/>
                <a:pathLst>
                  <a:path w="139" h="128">
                    <a:moveTo>
                      <a:pt x="139" y="0"/>
                    </a:moveTo>
                    <a:lnTo>
                      <a:pt x="54" y="128"/>
                    </a:lnTo>
                    <a:lnTo>
                      <a:pt x="32" y="107"/>
                    </a:lnTo>
                    <a:lnTo>
                      <a:pt x="0" y="75"/>
                    </a:lnTo>
                    <a:lnTo>
                      <a:pt x="13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flipV="1">
                <a:off x="6319800" y="5415120"/>
                <a:ext cx="797040" cy="79848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2" name=""/>
            <p:cNvSpPr/>
            <p:nvPr/>
          </p:nvSpPr>
          <p:spPr>
            <a:xfrm>
              <a:off x="1023840" y="3699000"/>
              <a:ext cx="1875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414440" y="3699000"/>
              <a:ext cx="1872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787400" y="3699000"/>
              <a:ext cx="20484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178000" y="3699000"/>
              <a:ext cx="1872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414440" y="4089240"/>
              <a:ext cx="187200" cy="1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568600" y="3699000"/>
              <a:ext cx="1872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929200" y="3699000"/>
              <a:ext cx="1875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319800" y="3699000"/>
              <a:ext cx="1872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692760" y="3699000"/>
              <a:ext cx="2034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083360" y="3699000"/>
              <a:ext cx="2034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473960" y="3699000"/>
              <a:ext cx="1872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864560" y="3699000"/>
              <a:ext cx="1857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8237520" y="3699000"/>
              <a:ext cx="20304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146400" y="3699000"/>
              <a:ext cx="1857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519360" y="3699000"/>
              <a:ext cx="2034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909960" y="3699000"/>
              <a:ext cx="1857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300560" y="3699000"/>
              <a:ext cx="1857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673520" y="3699000"/>
              <a:ext cx="2034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064120" y="3699000"/>
              <a:ext cx="1857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454720" y="3699000"/>
              <a:ext cx="1857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2" name=""/>
          <p:cNvSpPr/>
          <p:nvPr/>
        </p:nvSpPr>
        <p:spPr>
          <a:xfrm>
            <a:off x="2115000" y="393840"/>
            <a:ext cx="4911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UIMS as development tool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end-product compon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35872-D7E9-4402-BDAE-A7FBB2C0807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2462040" y="2206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720720" y="1557360"/>
            <a:ext cx="10948320" cy="5801760"/>
            <a:chOff x="720720" y="1557360"/>
            <a:chExt cx="10948320" cy="5801760"/>
          </a:xfrm>
        </p:grpSpPr>
        <p:sp>
          <p:nvSpPr>
            <p:cNvPr id="145" name=""/>
            <p:cNvSpPr/>
            <p:nvPr/>
          </p:nvSpPr>
          <p:spPr>
            <a:xfrm>
              <a:off x="720720" y="2657520"/>
              <a:ext cx="3440160" cy="2955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20720" y="2657520"/>
              <a:ext cx="3440160" cy="2955960"/>
            </a:xfrm>
            <a:custGeom>
              <a:avLst/>
              <a:gdLst/>
              <a:ahLst/>
              <a:rect l="l" t="t" r="r" b="b"/>
              <a:pathLst>
                <a:path w="2167" h="1862">
                  <a:moveTo>
                    <a:pt x="0" y="0"/>
                  </a:moveTo>
                  <a:lnTo>
                    <a:pt x="2167" y="0"/>
                  </a:lnTo>
                  <a:lnTo>
                    <a:pt x="2167" y="1862"/>
                  </a:lnTo>
                  <a:lnTo>
                    <a:pt x="0" y="1862"/>
                  </a:lnTo>
                  <a:lnTo>
                    <a:pt x="0" y="0"/>
                  </a:lnTo>
                  <a:close/>
                  <a:moveTo>
                    <a:pt x="21" y="22"/>
                  </a:moveTo>
                  <a:lnTo>
                    <a:pt x="2145" y="22"/>
                  </a:lnTo>
                  <a:lnTo>
                    <a:pt x="2145" y="1841"/>
                  </a:lnTo>
                  <a:lnTo>
                    <a:pt x="21" y="1841"/>
                  </a:lnTo>
                  <a:lnTo>
                    <a:pt x="21" y="22"/>
                  </a:ln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960560" y="2330280"/>
              <a:ext cx="9241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SCREEN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038240" y="3060720"/>
              <a:ext cx="1170000" cy="500040"/>
            </a:xfrm>
            <a:prstGeom prst="roundRect">
              <a:avLst>
                <a:gd name="adj" fmla="val 46667"/>
              </a:avLst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689200" y="3060720"/>
              <a:ext cx="1171440" cy="500040"/>
            </a:xfrm>
            <a:prstGeom prst="roundRect">
              <a:avLst>
                <a:gd name="adj" fmla="val 46667"/>
              </a:avLst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895480" y="3851280"/>
              <a:ext cx="878040" cy="379440"/>
            </a:xfrm>
            <a:prstGeom prst="roundRect">
              <a:avLst>
                <a:gd name="adj" fmla="val 60870"/>
              </a:avLst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895480" y="4522680"/>
              <a:ext cx="878040" cy="395280"/>
            </a:xfrm>
            <a:prstGeom prst="roundRect">
              <a:avLst>
                <a:gd name="adj" fmla="val 58333"/>
              </a:avLst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895480" y="5210280"/>
              <a:ext cx="878040" cy="395280"/>
            </a:xfrm>
            <a:prstGeom prst="roundRect">
              <a:avLst>
                <a:gd name="adj" fmla="val 58333"/>
              </a:avLst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046160" y="2795760"/>
              <a:ext cx="974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First 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800080" y="2795760"/>
              <a:ext cx="950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Last 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818720" y="4359240"/>
              <a:ext cx="912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rth da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093480" y="3586320"/>
              <a:ext cx="3315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d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093120" y="4273560"/>
              <a:ext cx="586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mont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093480" y="4943520"/>
              <a:ext cx="3952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yea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V="1">
              <a:off x="5605560" y="2176560"/>
              <a:ext cx="790560" cy="4982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396120" y="2176560"/>
              <a:ext cx="1440" cy="4982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396120" y="2176560"/>
              <a:ext cx="877680" cy="4982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932440" y="1936800"/>
              <a:ext cx="6224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Per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846680" y="2709720"/>
              <a:ext cx="974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First 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930640" y="2709720"/>
              <a:ext cx="950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Last 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997320" y="2709720"/>
              <a:ext cx="912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rth da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6481800" y="2967120"/>
              <a:ext cx="689040" cy="3776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170840" y="2967120"/>
              <a:ext cx="1440" cy="3776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170840" y="2967120"/>
              <a:ext cx="687240" cy="3776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121080" y="3397320"/>
              <a:ext cx="3816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D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911640" y="3397320"/>
              <a:ext cx="610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Mont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668720" y="3379680"/>
              <a:ext cx="445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Yea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523160" y="2819520"/>
              <a:ext cx="6640560" cy="793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" y="10540"/>
                  </a:moveTo>
                  <a:arcTo wR="10800" hR="10800" stAng="-10717107" swAng="5307460"/>
                  <a:lnTo>
                    <a:pt x="10800" y="10800"/>
                  </a:lnTo>
                  <a:close/>
                </a:path>
                <a:path fill="none" w="21600" h="21600">
                  <a:moveTo>
                    <a:pt x="3" y="10540"/>
                  </a:moveTo>
                  <a:arcTo wR="10800" hR="10800" stAng="-10717107" swAng="5307460"/>
                </a:path>
              </a:pathLst>
            </a:custGeom>
            <a:noFill/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733920" y="2971800"/>
              <a:ext cx="4491720" cy="980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400000"/>
                </a:path>
              </a:pathLst>
            </a:custGeom>
            <a:noFill/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668760" y="3456000"/>
              <a:ext cx="4889160" cy="981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86337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86337"/>
                </a:path>
              </a:pathLst>
            </a:custGeom>
            <a:noFill/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668760" y="3645000"/>
              <a:ext cx="6435000" cy="2148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91444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91444"/>
                </a:path>
              </a:pathLst>
            </a:custGeom>
            <a:noFill/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668760" y="3645000"/>
              <a:ext cx="8000280" cy="371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54"/>
                  </a:moveTo>
                  <a:arcTo wR="10800" hR="10800" stAng="-10785267" swAng="5385267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54"/>
                  </a:moveTo>
                  <a:arcTo wR="10800" hR="10800" stAng="-10785267" swAng="5385267"/>
                </a:path>
              </a:pathLst>
            </a:custGeom>
            <a:noFill/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321160" y="4332240"/>
              <a:ext cx="1670040" cy="156528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724720" y="4754520"/>
              <a:ext cx="9241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Run-tim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724720" y="4960800"/>
              <a:ext cx="631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dialog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724720" y="5167440"/>
              <a:ext cx="1018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compon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072040" y="4841280"/>
              <a:ext cx="517320" cy="516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11" y="15143"/>
                  </a:moveTo>
                  <a:arcTo wR="10800" hR="10800" stAng="9377485" swAng="2845031"/>
                  <a:lnTo>
                    <a:pt x="10800" y="10800"/>
                  </a:lnTo>
                  <a:close/>
                </a:path>
                <a:path fill="none" w="21600" h="21600">
                  <a:moveTo>
                    <a:pt x="911" y="15143"/>
                  </a:moveTo>
                  <a:arcTo wR="10800" hR="10800" stAng="9377485" swAng="2845031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902040" y="4841280"/>
              <a:ext cx="517320" cy="516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689" y="6457"/>
                  </a:moveTo>
                  <a:arcTo wR="10800" hR="10800" stAng="-1422515" swAng="2845031"/>
                  <a:lnTo>
                    <a:pt x="10800" y="10800"/>
                  </a:lnTo>
                  <a:close/>
                </a:path>
                <a:path fill="none" w="21600" h="21600">
                  <a:moveTo>
                    <a:pt x="20689" y="6457"/>
                  </a:moveTo>
                  <a:arcTo wR="10800" hR="10800" stAng="-1422515" swAng="2845031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367160" y="5099040"/>
              <a:ext cx="722520" cy="144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740280" y="4841280"/>
              <a:ext cx="517320" cy="516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689" y="6457"/>
                  </a:moveTo>
                  <a:arcTo wR="10800" hR="10800" stAng="-1422515" swAng="2845031"/>
                  <a:lnTo>
                    <a:pt x="10800" y="10800"/>
                  </a:lnTo>
                  <a:close/>
                </a:path>
                <a:path fill="none" w="21600" h="21600">
                  <a:moveTo>
                    <a:pt x="20689" y="6457"/>
                  </a:moveTo>
                  <a:arcTo wR="10800" hR="10800" stAng="-1422515" swAng="2845031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205760" y="5099040"/>
              <a:ext cx="68040" cy="144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515000" y="3671640"/>
              <a:ext cx="515880" cy="517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146" y="20687"/>
                  </a:moveTo>
                  <a:arcTo wR="10800" hR="10800" stAng="3976200" swAng="2850524"/>
                  <a:lnTo>
                    <a:pt x="10800" y="10800"/>
                  </a:lnTo>
                  <a:close/>
                </a:path>
                <a:path fill="none" w="21600" h="21600">
                  <a:moveTo>
                    <a:pt x="15146" y="20687"/>
                  </a:moveTo>
                  <a:arcTo wR="10800" hR="10800" stAng="3976200" swAng="2850524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754760" y="4152960"/>
              <a:ext cx="1800" cy="6984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775920" y="3346560"/>
              <a:ext cx="980280" cy="1752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34428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34428"/>
                </a:path>
              </a:pathLst>
            </a:custGeom>
            <a:noFill/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710240" y="1866960"/>
              <a:ext cx="3457440" cy="349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813200" y="3913200"/>
              <a:ext cx="3457800" cy="3348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710240" y="1866960"/>
              <a:ext cx="34920" cy="207972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134200" y="1866960"/>
              <a:ext cx="33480" cy="20797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763880" y="1557360"/>
              <a:ext cx="34023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INTERNAL DATA STRUCTURE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2208240" y="393840"/>
            <a:ext cx="462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Run-time structure of a UI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1E792-9E9C-4C84-9398-E1C2D6B75E9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did the field evolve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can tools and environments be classified and compare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are the main categorie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can tools be integrate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motivates new tools/environment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ED58C-9CE7-47A3-879D-1394C9FA2AC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figuration Manag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database of artifa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ersions stored, change history maintain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-space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eck-out into private work-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eck-in into shared work-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t modeling and buil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cilities to (re)build produ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1063E-BC3A-43C0-BFB6-3C60F4CD251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V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"/>
          <p:cNvSpPr/>
          <p:nvPr/>
        </p:nvSpPr>
        <p:spPr>
          <a:xfrm>
            <a:off x="1943280" y="14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371520" y="1488960"/>
            <a:ext cx="8215200" cy="4349880"/>
            <a:chOff x="371520" y="1488960"/>
            <a:chExt cx="8215200" cy="4349880"/>
          </a:xfrm>
        </p:grpSpPr>
        <p:sp>
          <p:nvSpPr>
            <p:cNvPr id="200" name=""/>
            <p:cNvSpPr/>
            <p:nvPr/>
          </p:nvSpPr>
          <p:spPr>
            <a:xfrm>
              <a:off x="2565360" y="1488960"/>
              <a:ext cx="787320" cy="63972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531800" y="1504800"/>
              <a:ext cx="657360" cy="6382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759120" y="1504800"/>
              <a:ext cx="757440" cy="6573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908600" y="1522440"/>
              <a:ext cx="738000" cy="6555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263600" y="1774800"/>
              <a:ext cx="246240" cy="115920"/>
            </a:xfrm>
            <a:custGeom>
              <a:avLst/>
              <a:gdLst/>
              <a:ahLst/>
              <a:rect l="l" t="t" r="r" b="b"/>
              <a:pathLst>
                <a:path w="155" h="73">
                  <a:moveTo>
                    <a:pt x="155" y="42"/>
                  </a:moveTo>
                  <a:lnTo>
                    <a:pt x="0" y="73"/>
                  </a:lnTo>
                  <a:lnTo>
                    <a:pt x="0" y="42"/>
                  </a:lnTo>
                  <a:lnTo>
                    <a:pt x="0" y="0"/>
                  </a:lnTo>
                  <a:lnTo>
                    <a:pt x="155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198440" y="1841400"/>
              <a:ext cx="6516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735520" y="1758960"/>
              <a:ext cx="246240" cy="114120"/>
            </a:xfrm>
            <a:custGeom>
              <a:avLst/>
              <a:gdLst/>
              <a:ahLst/>
              <a:rect l="l" t="t" r="r" b="b"/>
              <a:pathLst>
                <a:path w="155" h="72">
                  <a:moveTo>
                    <a:pt x="155" y="41"/>
                  </a:moveTo>
                  <a:lnTo>
                    <a:pt x="0" y="72"/>
                  </a:lnTo>
                  <a:lnTo>
                    <a:pt x="0" y="41"/>
                  </a:lnTo>
                  <a:lnTo>
                    <a:pt x="0" y="0"/>
                  </a:lnTo>
                  <a:lnTo>
                    <a:pt x="155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621400" y="1824120"/>
              <a:ext cx="1141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475080" y="1758960"/>
              <a:ext cx="245880" cy="114120"/>
            </a:xfrm>
            <a:custGeom>
              <a:avLst/>
              <a:gdLst/>
              <a:ahLst/>
              <a:rect l="l" t="t" r="r" b="b"/>
              <a:pathLst>
                <a:path w="155" h="72">
                  <a:moveTo>
                    <a:pt x="155" y="41"/>
                  </a:moveTo>
                  <a:lnTo>
                    <a:pt x="0" y="72"/>
                  </a:lnTo>
                  <a:lnTo>
                    <a:pt x="0" y="41"/>
                  </a:lnTo>
                  <a:lnTo>
                    <a:pt x="0" y="0"/>
                  </a:lnTo>
                  <a:lnTo>
                    <a:pt x="155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343320" y="1824120"/>
              <a:ext cx="13176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279520" y="1808280"/>
              <a:ext cx="246240" cy="114120"/>
            </a:xfrm>
            <a:custGeom>
              <a:avLst/>
              <a:gdLst/>
              <a:ahLst/>
              <a:rect l="l" t="t" r="r" b="b"/>
              <a:pathLst>
                <a:path w="155" h="72">
                  <a:moveTo>
                    <a:pt x="155" y="41"/>
                  </a:moveTo>
                  <a:lnTo>
                    <a:pt x="0" y="72"/>
                  </a:lnTo>
                  <a:lnTo>
                    <a:pt x="0" y="41"/>
                  </a:lnTo>
                  <a:lnTo>
                    <a:pt x="0" y="0"/>
                  </a:lnTo>
                  <a:lnTo>
                    <a:pt x="155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181240" y="1873080"/>
              <a:ext cx="9828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704960" y="1727280"/>
              <a:ext cx="36180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690920" y="172728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817720" y="1693800"/>
              <a:ext cx="363600" cy="29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803680" y="169380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997440" y="1727280"/>
              <a:ext cx="36360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983040" y="172728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111640" y="1743120"/>
              <a:ext cx="362160" cy="29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097600" y="174312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838080" y="3809880"/>
              <a:ext cx="935280" cy="6382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228760" y="3809880"/>
              <a:ext cx="936720" cy="6382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621240" y="3809880"/>
              <a:ext cx="934920" cy="6382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014800" y="3809880"/>
              <a:ext cx="935280" cy="6382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228760" y="5197320"/>
              <a:ext cx="936720" cy="64152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621240" y="5197320"/>
              <a:ext cx="934920" cy="64152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84280" y="4014720"/>
              <a:ext cx="245880" cy="112680"/>
            </a:xfrm>
            <a:custGeom>
              <a:avLst/>
              <a:gdLst/>
              <a:ahLst/>
              <a:rect l="l" t="t" r="r" b="b"/>
              <a:pathLst>
                <a:path w="155" h="71">
                  <a:moveTo>
                    <a:pt x="155" y="40"/>
                  </a:moveTo>
                  <a:lnTo>
                    <a:pt x="0" y="71"/>
                  </a:lnTo>
                  <a:lnTo>
                    <a:pt x="0" y="40"/>
                  </a:lnTo>
                  <a:lnTo>
                    <a:pt x="0" y="0"/>
                  </a:lnTo>
                  <a:lnTo>
                    <a:pt x="155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71520" y="4078440"/>
              <a:ext cx="21276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974960" y="4014720"/>
              <a:ext cx="245880" cy="112680"/>
            </a:xfrm>
            <a:custGeom>
              <a:avLst/>
              <a:gdLst/>
              <a:ahLst/>
              <a:rect l="l" t="t" r="r" b="b"/>
              <a:pathLst>
                <a:path w="155" h="71">
                  <a:moveTo>
                    <a:pt x="155" y="40"/>
                  </a:moveTo>
                  <a:lnTo>
                    <a:pt x="0" y="71"/>
                  </a:lnTo>
                  <a:lnTo>
                    <a:pt x="0" y="40"/>
                  </a:lnTo>
                  <a:lnTo>
                    <a:pt x="0" y="0"/>
                  </a:lnTo>
                  <a:lnTo>
                    <a:pt x="155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763640" y="4078440"/>
              <a:ext cx="2113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368520" y="4014720"/>
              <a:ext cx="246240" cy="112680"/>
            </a:xfrm>
            <a:custGeom>
              <a:avLst/>
              <a:gdLst/>
              <a:ahLst/>
              <a:rect l="l" t="t" r="r" b="b"/>
              <a:pathLst>
                <a:path w="155" h="71">
                  <a:moveTo>
                    <a:pt x="155" y="40"/>
                  </a:moveTo>
                  <a:lnTo>
                    <a:pt x="0" y="71"/>
                  </a:lnTo>
                  <a:lnTo>
                    <a:pt x="0" y="40"/>
                  </a:lnTo>
                  <a:lnTo>
                    <a:pt x="0" y="0"/>
                  </a:lnTo>
                  <a:lnTo>
                    <a:pt x="155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154320" y="4078440"/>
              <a:ext cx="21420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761000" y="4014720"/>
              <a:ext cx="245880" cy="112680"/>
            </a:xfrm>
            <a:custGeom>
              <a:avLst/>
              <a:gdLst/>
              <a:ahLst/>
              <a:rect l="l" t="t" r="r" b="b"/>
              <a:pathLst>
                <a:path w="155" h="71">
                  <a:moveTo>
                    <a:pt x="155" y="40"/>
                  </a:moveTo>
                  <a:lnTo>
                    <a:pt x="0" y="71"/>
                  </a:lnTo>
                  <a:lnTo>
                    <a:pt x="0" y="40"/>
                  </a:lnTo>
                  <a:lnTo>
                    <a:pt x="0" y="0"/>
                  </a:lnTo>
                  <a:lnTo>
                    <a:pt x="155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548240" y="4078440"/>
              <a:ext cx="21276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631960" y="4943520"/>
              <a:ext cx="114480" cy="245880"/>
            </a:xfrm>
            <a:custGeom>
              <a:avLst/>
              <a:gdLst/>
              <a:ahLst/>
              <a:rect l="l" t="t" r="r" b="b"/>
              <a:pathLst>
                <a:path w="72" h="155">
                  <a:moveTo>
                    <a:pt x="41" y="155"/>
                  </a:moveTo>
                  <a:lnTo>
                    <a:pt x="0" y="0"/>
                  </a:lnTo>
                  <a:lnTo>
                    <a:pt x="41" y="0"/>
                  </a:lnTo>
                  <a:lnTo>
                    <a:pt x="72" y="0"/>
                  </a:lnTo>
                  <a:lnTo>
                    <a:pt x="41" y="1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697120" y="4438800"/>
              <a:ext cx="1800" cy="5047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368520" y="5484960"/>
              <a:ext cx="246240" cy="114120"/>
            </a:xfrm>
            <a:custGeom>
              <a:avLst/>
              <a:gdLst/>
              <a:ahLst/>
              <a:rect l="l" t="t" r="r" b="b"/>
              <a:pathLst>
                <a:path w="155" h="72">
                  <a:moveTo>
                    <a:pt x="155" y="41"/>
                  </a:moveTo>
                  <a:lnTo>
                    <a:pt x="0" y="72"/>
                  </a:lnTo>
                  <a:lnTo>
                    <a:pt x="0" y="41"/>
                  </a:lnTo>
                  <a:lnTo>
                    <a:pt x="0" y="0"/>
                  </a:lnTo>
                  <a:lnTo>
                    <a:pt x="155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154320" y="5549760"/>
              <a:ext cx="21420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546440" y="5549760"/>
              <a:ext cx="93348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415120" y="4438800"/>
              <a:ext cx="115560" cy="228600"/>
            </a:xfrm>
            <a:custGeom>
              <a:avLst/>
              <a:gdLst/>
              <a:ahLst/>
              <a:rect l="l" t="t" r="r" b="b"/>
              <a:pathLst>
                <a:path w="73" h="144">
                  <a:moveTo>
                    <a:pt x="43" y="0"/>
                  </a:moveTo>
                  <a:lnTo>
                    <a:pt x="73" y="144"/>
                  </a:lnTo>
                  <a:lnTo>
                    <a:pt x="43" y="144"/>
                  </a:lnTo>
                  <a:lnTo>
                    <a:pt x="0" y="144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 flipV="1">
              <a:off x="5483160" y="4667040"/>
              <a:ext cx="1800" cy="882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139760" y="4029120"/>
              <a:ext cx="362160" cy="29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125720" y="402912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532240" y="4029120"/>
              <a:ext cx="363240" cy="29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517840" y="402912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925800" y="4029120"/>
              <a:ext cx="362160" cy="29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911760" y="402912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451240" y="5419800"/>
              <a:ext cx="69048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420280" y="5419800"/>
              <a:ext cx="621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2.1.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843360" y="5419800"/>
              <a:ext cx="68904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812400" y="5419800"/>
              <a:ext cx="621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2.1.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318280" y="4029120"/>
              <a:ext cx="360360" cy="29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303880" y="402912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.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670280" y="1743120"/>
              <a:ext cx="246240" cy="114120"/>
            </a:xfrm>
            <a:custGeom>
              <a:avLst/>
              <a:gdLst/>
              <a:ahLst/>
              <a:rect l="l" t="t" r="r" b="b"/>
              <a:pathLst>
                <a:path w="155" h="72">
                  <a:moveTo>
                    <a:pt x="155" y="41"/>
                  </a:moveTo>
                  <a:lnTo>
                    <a:pt x="0" y="72"/>
                  </a:lnTo>
                  <a:lnTo>
                    <a:pt x="0" y="41"/>
                  </a:lnTo>
                  <a:lnTo>
                    <a:pt x="0" y="0"/>
                  </a:lnTo>
                  <a:lnTo>
                    <a:pt x="155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572000" y="1808280"/>
              <a:ext cx="9828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989680" y="1522440"/>
              <a:ext cx="738000" cy="6555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6208560" y="1727280"/>
              <a:ext cx="36360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194520" y="172728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.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865920" y="1743120"/>
              <a:ext cx="246240" cy="114120"/>
            </a:xfrm>
            <a:custGeom>
              <a:avLst/>
              <a:gdLst/>
              <a:ahLst/>
              <a:rect l="l" t="t" r="r" b="b"/>
              <a:pathLst>
                <a:path w="155" h="72">
                  <a:moveTo>
                    <a:pt x="155" y="41"/>
                  </a:moveTo>
                  <a:lnTo>
                    <a:pt x="0" y="72"/>
                  </a:lnTo>
                  <a:lnTo>
                    <a:pt x="0" y="41"/>
                  </a:lnTo>
                  <a:lnTo>
                    <a:pt x="0" y="0"/>
                  </a:lnTo>
                  <a:lnTo>
                    <a:pt x="155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751800" y="1808280"/>
              <a:ext cx="1141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7120080" y="1522440"/>
              <a:ext cx="738000" cy="6555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89640" y="1727280"/>
              <a:ext cx="36360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275600" y="172728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.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486520" y="2362320"/>
              <a:ext cx="328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sequence of revision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270840" y="4191120"/>
              <a:ext cx="23158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a branch and 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later joi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219320" y="3200400"/>
              <a:ext cx="655308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AEDEC-E8EF-43B2-B26A-57DD261BA9B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k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7" name=""/>
          <p:cNvSpPr/>
          <p:nvPr/>
        </p:nvSpPr>
        <p:spPr>
          <a:xfrm>
            <a:off x="1267200" y="2860560"/>
            <a:ext cx="5841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1.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ys : mod1.o  mod2.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.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d mod1.o  mod2.o  -o sy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3.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od1.o : mod1.c  incl.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4.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c -c mod1.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5.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od2.o : mod2.c  incl.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6.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c -c mod2.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94120" y="1676520"/>
            <a:ext cx="8876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ids in building and rebuilding a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helps keep a system in a consistent state after modifications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55903-E797-4248-B1AE-A9385F631E3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racking tool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Used during entire process to maintain information about the process and track that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 most important of these ar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defect-track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used to store information about reported defects in the software product and track that informatio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E8858-D722-4A04-B41A-251FE2507FB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everse and reengineer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gram understanding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ynthesize suitable abstractions from cod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control and data flow graphs or use graph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tract cross-references and other kinds of documentation material on the produ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Reverse engineering tools also support the process of making the code and other artifacts consistent with each oth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8AA91-2DDD-4B1A-B412-C6826B1A24CB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cess suppor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intain "to do" lists, reminding next activities in the pro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utomate sequences of recurring ac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ll process support via PSEEs (Process-centered Software Engineering Environment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riven by a process-modeling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37D04-5F71-4FA3-A744-658E06657971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nag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ols for Gantt and PERT cha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aphical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to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st estim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models, such as COCOM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0552B-2790-40CC-9FE2-5B6F0F7FE62F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ool integr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ta integration approa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tore all process artifacts in a repositor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mmon data representation for artifacts that different tools can use to communicate with each oth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integration approa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ifferent tools can communicate with each other through control messag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9E2CB-80AB-47A8-B229-12FCC95C340C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orces influencing tool evolu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support new technolog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support new software proces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support a particular method or methodolog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19CD3-9869-48B0-869A-E692CFAD9CF6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istorical evolu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minant factors affecting evolu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echnological developmen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ade certain tools necessary or possibl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better understanding of software engineering process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B404A-73D2-4ED4-BF99-DE23437CDEC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chnological development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—examples—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dvances in graphical displays and user interfa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graphical e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graphical user interfaces (GUIs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visual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dvances in distributed syste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ools supporting distributed configuration management and teams (groupwar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F30F9-71DB-4043-A72C-76ADBC3E2D8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volu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dividual tools developed to support single activities (e.g.,compilation, debugg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ntegrated environments, i.e., tools that work toge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environment supporting one programming langu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pen environ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ols have public interfaces which allow them to communicate and cooperate with other tools which respect those interfa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9AC9C-4932-493F-BC78-BFAAE3E98C5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imensions for comparison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action m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-oriented 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ve 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vel of form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ax/semantics of documents pro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pendency on phase of life cyc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gree of standard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EFD33-A5A3-4D17-B88D-C90C7779910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tic vs. dynami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velopment tools vs. end-product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ngle-user vs. multi-us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ngle-machine vs. network-awa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imensions for comparison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4A369-7786-47ED-A4A2-BED598D785D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dito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xtual or graphic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an follow a formal syntax, or can be used for informal text or free-form pictur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olingual (e.g., Java editor) or multilingu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E5E57-1A1C-409A-B25A-7D1112A3DE2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inke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ombine object-code fragments into a larger progr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an be monolingual or polylingu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n a broader sense, tools for linking specification modules, able to perform checking and binding across various specification module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2527E-AECF-450A-BDAD-A89F555A2E7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31T10:44:49Z</dcterms:created>
  <dc:creator>Carlo Ghezzi</dc:creator>
  <dc:description/>
  <dc:language>en-US</dc:language>
  <cp:lastModifiedBy>jazayeri</cp:lastModifiedBy>
  <dcterms:modified xsi:type="dcterms:W3CDTF">2002-02-19T16:03:32Z</dcterms:modified>
  <cp:revision>12</cp:revision>
  <dc:subject/>
  <dc:title>Software Engineering Tools and Environments</dc:title>
</cp:coreProperties>
</file>