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6D9A-7514-4F95-A389-A76619809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33D4-9414-4F1D-A9B5-1887DF3FB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D440-1342-4783-A708-21B7F7144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ED83-6245-4BC0-A899-6B83ECA73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2D7C-A437-4495-A947-754CD54C8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1952-5E07-4FA1-8AD2-1082ADC92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55F5-D957-4F5D-9342-3ECEA2BE6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631C-1CAC-4109-99E9-01D5A37A8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FCE5-C200-4B3A-9D78-9B32BDB19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BE07-A6B9-4C02-BC2B-F305E040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C6C5-C30F-42E5-8C2B-E6F2C279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12DE-1D4E-408C-98C2-5D18C362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3D870-3793-4166-AD3A-007E02BABE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99768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5:49Z</dcterms:modified>
  <cp:revision>2</cp:revision>
  <dc:subject/>
  <dc:title>PowerPoint Presentation</dc:title>
</cp:coreProperties>
</file>