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9768-6D9C-480A-B46B-7637A249C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30BD-3B2E-431D-8A90-C27337748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F894-DE0B-4AC4-9657-C394864C0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0E83-E3B7-4ADE-AEB7-2BC0FE71A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38F7-57BE-4E33-ABB2-5BACC61F0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76F2-CD1B-48D3-B4E1-E0DC6C294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E4E0-16DB-4DEB-BE15-778CA97E4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4991-7A85-4A2E-997A-6A08E1641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3E12-A5C2-4DD9-B380-E572C4599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363C-8DE8-40C2-BDCA-1731AF8C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C668-FFBA-4600-9553-E7028111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2CE9-95E3-41AF-83D1-D8C5EF65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1D219-A404-41B7-A976-7A77DFFB70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3:45:13Z</dcterms:created>
  <dc:creator>Spencer Smith</dc:creator>
  <dc:description/>
  <dc:language>en-US</dc:language>
  <cp:lastModifiedBy>Spencer Smith</cp:lastModifiedBy>
  <dcterms:modified xsi:type="dcterms:W3CDTF">2008-03-13T03:46:39Z</dcterms:modified>
  <cp:revision>1</cp:revision>
  <dc:subject/>
  <dc:title>PowerPoint Presentation</dc:title>
</cp:coreProperties>
</file>