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6711C-8C47-4EAC-8D26-52D5AB10B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407B1-65C9-4A6F-8786-6CC8EF7F4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3B50E-8E59-4C26-B3E2-1233E3FC0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281E4-90CE-4652-A935-5992E088E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2DABD-EC0E-4512-8B62-E96BF9B6E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EE105-917D-4E9D-895B-98EED9CF4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D0B4A-E9FF-4FE6-BBBD-B99B6A2F9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E3F7E-D9B4-449D-A222-FB43089BC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38A81-B34F-4729-B7B8-6DB4AAF47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2BFEC-02B6-4ECC-8511-A7DA2BFBD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4C612-0047-451D-88E8-35F71723F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E7EDB-2183-411E-95B7-A5A26B43A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725F1-5DE4-4D43-BB3B-DBEFA8C4C0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25280" y="1430280"/>
            <a:ext cx="3602160" cy="107964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22400" y="3274920"/>
            <a:ext cx="3720960" cy="106524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142920" y="5183280"/>
            <a:ext cx="4451400" cy="1226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4775040" y="1338120"/>
            <a:ext cx="4232520" cy="31276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5"/>
          <a:stretch/>
        </p:blipFill>
        <p:spPr>
          <a:xfrm>
            <a:off x="4957920" y="5102280"/>
            <a:ext cx="4049640" cy="11653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60" y="111276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ac"/>
                </a:solidFill>
                <a:latin typeface="Times New Roman"/>
              </a:rPr>
              <a:t>No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2890800"/>
            <a:ext cx="119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4b900"/>
                </a:solidFill>
                <a:latin typeface="Times New Roman"/>
              </a:rPr>
              <a:t>Inver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20" y="471024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339080" y="1122480"/>
            <a:ext cx="126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b31"/>
                </a:solidFill>
                <a:latin typeface="Times New Roman"/>
              </a:rPr>
              <a:t>Deci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865040" y="4668840"/>
            <a:ext cx="281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d5c00"/>
                </a:solidFill>
                <a:latin typeface="Times New Roman"/>
              </a:rPr>
              <a:t>Generalized Deci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934760" y="1084320"/>
            <a:ext cx="96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value cel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965000" y="4811760"/>
            <a:ext cx="96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value cel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70600" y="6388200"/>
            <a:ext cx="96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value cel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794680" y="2822400"/>
            <a:ext cx="96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value cel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3179520" y="6329160"/>
            <a:ext cx="112680" cy="214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2997000" y="2539800"/>
            <a:ext cx="161640" cy="35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3260880" y="3057480"/>
            <a:ext cx="204480" cy="243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7862760" y="1252440"/>
            <a:ext cx="123840" cy="141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7873560" y="5010120"/>
            <a:ext cx="133560" cy="141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1108080"/>
            <a:ext cx="4308480" cy="1736640"/>
          </a:xfrm>
          <a:prstGeom prst="rect">
            <a:avLst/>
          </a:prstGeom>
          <a:solidFill>
            <a:srgbClr val="bbe0e3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0" y="2865600"/>
            <a:ext cx="4308480" cy="1747800"/>
          </a:xfrm>
          <a:prstGeom prst="rect">
            <a:avLst/>
          </a:prstGeom>
          <a:solidFill>
            <a:srgbClr val="333399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0" y="4622760"/>
            <a:ext cx="4794120" cy="1979640"/>
          </a:xfrm>
          <a:prstGeom prst="rect">
            <a:avLst/>
          </a:prstGeom>
          <a:solidFill>
            <a:srgbClr val="cdffc6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805280" y="4632480"/>
            <a:ext cx="4338720" cy="1962000"/>
          </a:xfrm>
          <a:prstGeom prst="rect">
            <a:avLst/>
          </a:prstGeom>
          <a:solidFill>
            <a:srgbClr val="b4b900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308480" y="1087560"/>
            <a:ext cx="4835520" cy="3535200"/>
          </a:xfrm>
          <a:prstGeom prst="rect">
            <a:avLst/>
          </a:prstGeom>
          <a:solidFill>
            <a:srgbClr val="009999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 flipV="1">
            <a:off x="517320" y="6287760"/>
            <a:ext cx="2786040" cy="297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6:09:30Z</dcterms:created>
  <dc:creator>Spencer Smith</dc:creator>
  <dc:description/>
  <dc:language>en-US</dc:language>
  <cp:lastModifiedBy>Spencer Smith</cp:lastModifiedBy>
  <dcterms:modified xsi:type="dcterms:W3CDTF">2008-03-12T16:28:55Z</dcterms:modified>
  <cp:revision>3</cp:revision>
  <dc:subject/>
  <dc:title>PowerPoint Presentation</dc:title>
</cp:coreProperties>
</file>