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1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5.xml.rels" ContentType="application/vnd.openxmlformats-package.relationships+xml"/>
  <Override PartName="/ppt/notesSlides/notesSlide25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1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116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103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83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F78B6-AA75-41F3-8D3B-63D87BB96AD4}" type="slidenum">
              <a:rPr b="1" lang="it-IT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1.xml.rels><?xml version="1.0" encoding="UTF-8"?>
<Relationships xmlns="http://schemas.openxmlformats.org/package/2006/relationships"><Relationship Id="rId1" Type="http://schemas.openxmlformats.org/officeDocument/2006/relationships/slide" Target="../slides/slide111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notesSlide1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The logarithmic model is not defin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No: it is late: wrong order of the folowing slides: fi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3105C-5020-44D6-B811-B0E0BCC60230}" type="slidenum">
              <a:rPr b="1" lang="it-IT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body"/>
          </p:nvPr>
        </p:nvSpPr>
        <p:spPr>
          <a:xfrm>
            <a:off x="752040" y="4571640"/>
            <a:ext cx="54291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 type="sldImg"/>
          </p:nvPr>
        </p:nvSpPr>
        <p:spPr>
          <a:xfrm>
            <a:off x="1511280" y="1038240"/>
            <a:ext cx="3946680" cy="2960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754B7-6C20-4FC9-BF80-54A9E1819814}" type="slidenum">
              <a:rPr b="1" lang="it-IT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body"/>
          </p:nvPr>
        </p:nvSpPr>
        <p:spPr>
          <a:xfrm>
            <a:off x="752040" y="4571640"/>
            <a:ext cx="54291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ldImg"/>
          </p:nvPr>
        </p:nvSpPr>
        <p:spPr>
          <a:xfrm>
            <a:off x="1511280" y="1038240"/>
            <a:ext cx="3946680" cy="2960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F83F4-579D-4FA2-A662-0A3E9F6EE581}" type="slidenum">
              <a:rPr b="1" lang="it-IT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PlaceHolder 1"/>
          <p:cNvSpPr>
            <a:spLocks noGrp="1"/>
          </p:cNvSpPr>
          <p:nvPr>
            <p:ph type="body"/>
          </p:nvPr>
        </p:nvSpPr>
        <p:spPr>
          <a:xfrm>
            <a:off x="752040" y="4571640"/>
            <a:ext cx="54291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 type="sldImg"/>
          </p:nvPr>
        </p:nvSpPr>
        <p:spPr>
          <a:xfrm>
            <a:off x="1511280" y="1038240"/>
            <a:ext cx="3946680" cy="2960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DC3C7-7F30-42F8-A374-77F010AC8B84}" type="slidenum">
              <a:rPr b="1" lang="it-IT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PlaceHolder 1"/>
          <p:cNvSpPr>
            <a:spLocks noGrp="1"/>
          </p:cNvSpPr>
          <p:nvPr>
            <p:ph type="sldImg"/>
          </p:nvPr>
        </p:nvSpPr>
        <p:spPr>
          <a:xfrm>
            <a:off x="1143000" y="38268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8" name="PlaceHolder 2"/>
          <p:cNvSpPr>
            <a:spLocks noGrp="1"/>
          </p:cNvSpPr>
          <p:nvPr>
            <p:ph type="body"/>
          </p:nvPr>
        </p:nvSpPr>
        <p:spPr>
          <a:xfrm>
            <a:off x="685800" y="4114800"/>
            <a:ext cx="5486400" cy="4505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Wrt </a:t>
            </a:r>
            <a:r>
              <a:rPr b="0" lang="it-IT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 w.r.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26698-3873-4D9B-B45A-7A1215B78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B1DAC-908B-48FC-B233-C237F1B2C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03B0D-AF08-47F2-BEB8-76156841C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5229B-3331-4FB4-85AF-3A2C27824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3D3A9-2F62-4190-86DA-ACF129393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EA960-5F55-4C8A-B8CE-47BB5E2E5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8F634-4DA4-41F8-9829-BD47ABF8E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304AA-88C2-45F2-948D-12FA63583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673E3-85D2-4300-8AFC-7704054EC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B614E-6282-4F83-BA3E-64B830D90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5E86B-38A2-45B2-9389-637B50225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4E792-8F06-4D09-A87C-410E62D36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405C3-8CC2-4C8C-9220-A783669412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image" Target="../media/image2.png"/><Relationship Id="rId20" Type="http://schemas.openxmlformats.org/officeDocument/2006/relationships/image" Target="../media/image2.png"/><Relationship Id="rId21" Type="http://schemas.openxmlformats.org/officeDocument/2006/relationships/image" Target="../media/image2.png"/><Relationship Id="rId22" Type="http://schemas.openxmlformats.org/officeDocument/2006/relationships/image" Target="../media/image2.png"/><Relationship Id="rId23" Type="http://schemas.openxmlformats.org/officeDocument/2006/relationships/image" Target="../media/image2.png"/><Relationship Id="rId24" Type="http://schemas.openxmlformats.org/officeDocument/2006/relationships/image" Target="../media/image2.png"/><Relationship Id="rId25" Type="http://schemas.openxmlformats.org/officeDocument/2006/relationships/image" Target="../media/image2.png"/><Relationship Id="rId26" Type="http://schemas.openxmlformats.org/officeDocument/2006/relationships/image" Target="../media/image2.png"/><Relationship Id="rId27" Type="http://schemas.openxmlformats.org/officeDocument/2006/relationships/image" Target="../media/image2.png"/><Relationship Id="rId28" Type="http://schemas.openxmlformats.org/officeDocument/2006/relationships/image" Target="../media/image2.png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2.png"/><Relationship Id="rId32" Type="http://schemas.openxmlformats.org/officeDocument/2006/relationships/image" Target="../media/image2.png"/><Relationship Id="rId33" Type="http://schemas.openxmlformats.org/officeDocument/2006/relationships/image" Target="../media/image2.png"/><Relationship Id="rId34" Type="http://schemas.openxmlformats.org/officeDocument/2006/relationships/image" Target="../media/image2.png"/><Relationship Id="rId35" Type="http://schemas.openxmlformats.org/officeDocument/2006/relationships/image" Target="../media/image2.png"/><Relationship Id="rId36" Type="http://schemas.openxmlformats.org/officeDocument/2006/relationships/image" Target="../media/image2.png"/><Relationship Id="rId37" Type="http://schemas.openxmlformats.org/officeDocument/2006/relationships/image" Target="../media/image2.png"/><Relationship Id="rId38" Type="http://schemas.openxmlformats.org/officeDocument/2006/relationships/image" Target="../media/image2.png"/><Relationship Id="rId39" Type="http://schemas.openxmlformats.org/officeDocument/2006/relationships/image" Target="../media/image2.png"/><Relationship Id="rId40" Type="http://schemas.openxmlformats.org/officeDocument/2006/relationships/image" Target="../media/image2.png"/><Relationship Id="rId41" Type="http://schemas.openxmlformats.org/officeDocument/2006/relationships/image" Target="../media/image2.png"/><Relationship Id="rId42" Type="http://schemas.openxmlformats.org/officeDocument/2006/relationships/image" Target="../media/image2.png"/><Relationship Id="rId43" Type="http://schemas.openxmlformats.org/officeDocument/2006/relationships/image" Target="../media/image2.png"/><Relationship Id="rId44" Type="http://schemas.openxmlformats.org/officeDocument/2006/relationships/image" Target="../media/image2.png"/><Relationship Id="rId45" Type="http://schemas.openxmlformats.org/officeDocument/2006/relationships/image" Target="../media/image2.png"/><Relationship Id="rId46" Type="http://schemas.openxmlformats.org/officeDocument/2006/relationships/image" Target="../media/image2.png"/><Relationship Id="rId47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52553-C009-4E01-97F2-DDE1942DE04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oals of testing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hould help isolate erro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facilitate debugg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hould be repeata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ing the same experiment, we should get the same resul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may not be true because of the effect of execution environment on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cause of nondeterminis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hould be accur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D9B8E-F582-417B-AED7-3FDBD794297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"/>
          <p:cNvSpPr/>
          <p:nvPr/>
        </p:nvSpPr>
        <p:spPr>
          <a:xfrm>
            <a:off x="1828800" y="141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0" name="" descr=""/>
          <p:cNvPicPr/>
          <p:nvPr/>
        </p:nvPicPr>
        <p:blipFill>
          <a:blip r:embed="rId1"/>
          <a:stretch/>
        </p:blipFill>
        <p:spPr>
          <a:xfrm>
            <a:off x="1447920" y="1371600"/>
            <a:ext cx="6553080" cy="4815000"/>
          </a:xfrm>
          <a:prstGeom prst="rect">
            <a:avLst/>
          </a:prstGeom>
          <a:ln w="0">
            <a:noFill/>
          </a:ln>
        </p:spPr>
      </p:pic>
      <p:sp>
        <p:nvSpPr>
          <p:cNvPr id="711" name=""/>
          <p:cNvSpPr/>
          <p:nvPr/>
        </p:nvSpPr>
        <p:spPr>
          <a:xfrm>
            <a:off x="1062720" y="380880"/>
            <a:ext cx="695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SM representing markings of a P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00FB6-0B6E-4EC4-AD5F-B22B5023F264}" type="slidenum">
              <a:t>1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3543480" y="2511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3" name="" descr=""/>
          <p:cNvPicPr/>
          <p:nvPr/>
        </p:nvPicPr>
        <p:blipFill>
          <a:blip r:embed="rId1"/>
          <a:stretch/>
        </p:blipFill>
        <p:spPr>
          <a:xfrm>
            <a:off x="1447920" y="990720"/>
            <a:ext cx="5943600" cy="5305320"/>
          </a:xfrm>
          <a:prstGeom prst="rect">
            <a:avLst/>
          </a:prstGeom>
          <a:ln w="0">
            <a:noFill/>
          </a:ln>
        </p:spPr>
      </p:pic>
      <p:sp>
        <p:nvSpPr>
          <p:cNvPr id="714" name=""/>
          <p:cNvSpPr/>
          <p:nvPr/>
        </p:nvSpPr>
        <p:spPr>
          <a:xfrm>
            <a:off x="2803680" y="380880"/>
            <a:ext cx="311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original P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4F2A2-B773-4AE4-BB7F-2769E9F0AF53}" type="slidenum">
              <a:t>10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perties and proof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roperty to be verified given through a formula (in temporal logic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the example, one can pro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re is always a computation that allows the left process to enter the critical reg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re is no guarantee that the left process accesses the shared resource unless it already owns i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867D2-65DE-4C70-9890-57AD60177376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y so many approaches to testing and analysis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esting versus (correctness)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ormal versus informal techniq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White-box versus black-box techniq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echniques in the small/lar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ully automatic vs. semiautomatic techniques (for undecidable properti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view all these as complement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069F8-3977-456E-B0B6-C22FE13650BE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bugg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activity of locating and correcting erro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t can start once a failure has been detected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goal is closing up the gap between a fault and fail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mory dumps, watch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assertions can help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89340-DDCD-413A-9797-B7E7B9F54C29}" type="slidenum">
              <a:t>10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ifying other qual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B641F-2A91-4D38-8CC5-40DAAD064470}" type="slidenum">
              <a:t>10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erforma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orst case analys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ocus is on proving that the system response time is bounded by some function of the external reques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vs. average behavi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tandard devi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nalytical vs. experimental approach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5EDC6-D22F-4C36-ADF5-1E18A193A4F0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iability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are approach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to measuring reliability on a probabilistic basis, as in other engineering fiel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Unfortunately there are some difficulties with this approa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dependence of failures does not hold for softwar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A5475-2D89-4592-AEC3-7AA09851301B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iability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eliability is concerned with measuring the probability of the occurrence of fail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eaningful parameters includ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total number of failures observed at time t: AF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lure intensity: FI(t)=AF'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 time to failure at time t: MTTF(t)=1/FI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ime in the model can be execution or clock or calendar 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250AE-F694-4404-92F4-83C992508928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asic reliability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ssumes that the decrement per failure experienced (i.e., the derivative with respect to the number of detected failures) of the failure intensity function is cons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.e., FI is a function of A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I(AF) = F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(1 - AF/A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where F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is the initial failure intensity and A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is the total number of fail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model is based on optimistic hypothesis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at a decrease in failures is due to the fixing of the errors that were sources of failur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60303-75B7-4915-B357-60B9FE57222C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heoretical foundation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of testing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6C638-D26C-4411-8E0B-037C57D69A5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ogarithmic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sumes, more conservatively, that the decrement per failure of FI decreases exponentiall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I(AF) = F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exp ( -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AF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: failure intensity decay paramet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B8B78-B09D-4826-9EAC-AFCC3F9DA2AE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"/>
          <p:cNvSpPr/>
          <p:nvPr/>
        </p:nvSpPr>
        <p:spPr>
          <a:xfrm>
            <a:off x="2781360" y="200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4" name=""/>
          <p:cNvGrpSpPr/>
          <p:nvPr/>
        </p:nvGrpSpPr>
        <p:grpSpPr>
          <a:xfrm>
            <a:off x="1766880" y="1117440"/>
            <a:ext cx="125280" cy="5356440"/>
            <a:chOff x="1766880" y="1117440"/>
            <a:chExt cx="125280" cy="5356440"/>
          </a:xfrm>
        </p:grpSpPr>
        <p:sp>
          <p:nvSpPr>
            <p:cNvPr id="735" name=""/>
            <p:cNvSpPr/>
            <p:nvPr/>
          </p:nvSpPr>
          <p:spPr>
            <a:xfrm>
              <a:off x="1766880" y="1117440"/>
              <a:ext cx="125280" cy="252720"/>
            </a:xfrm>
            <a:custGeom>
              <a:avLst/>
              <a:gdLst/>
              <a:ahLst/>
              <a:rect l="l" t="t" r="r" b="b"/>
              <a:pathLst>
                <a:path w="79" h="159">
                  <a:moveTo>
                    <a:pt x="45" y="0"/>
                  </a:moveTo>
                  <a:lnTo>
                    <a:pt x="79" y="159"/>
                  </a:lnTo>
                  <a:lnTo>
                    <a:pt x="45" y="159"/>
                  </a:lnTo>
                  <a:lnTo>
                    <a:pt x="0" y="159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1838160" y="1370160"/>
              <a:ext cx="1800" cy="51037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7" name=""/>
          <p:cNvGrpSpPr/>
          <p:nvPr/>
        </p:nvGrpSpPr>
        <p:grpSpPr>
          <a:xfrm>
            <a:off x="1027080" y="5427720"/>
            <a:ext cx="6005520" cy="127080"/>
            <a:chOff x="1027080" y="5427720"/>
            <a:chExt cx="6005520" cy="127080"/>
          </a:xfrm>
        </p:grpSpPr>
        <p:sp>
          <p:nvSpPr>
            <p:cNvPr id="738" name=""/>
            <p:cNvSpPr/>
            <p:nvPr/>
          </p:nvSpPr>
          <p:spPr>
            <a:xfrm>
              <a:off x="6762600" y="5427720"/>
              <a:ext cx="270000" cy="127080"/>
            </a:xfrm>
            <a:custGeom>
              <a:avLst/>
              <a:gdLst/>
              <a:ahLst/>
              <a:rect l="l" t="t" r="r" b="b"/>
              <a:pathLst>
                <a:path w="170" h="80">
                  <a:moveTo>
                    <a:pt x="170" y="46"/>
                  </a:moveTo>
                  <a:lnTo>
                    <a:pt x="0" y="80"/>
                  </a:lnTo>
                  <a:lnTo>
                    <a:pt x="0" y="46"/>
                  </a:lnTo>
                  <a:lnTo>
                    <a:pt x="0" y="0"/>
                  </a:lnTo>
                  <a:lnTo>
                    <a:pt x="170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 flipH="1">
              <a:off x="1027080" y="5500800"/>
              <a:ext cx="573552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0" name=""/>
          <p:cNvSpPr/>
          <p:nvPr/>
        </p:nvSpPr>
        <p:spPr>
          <a:xfrm>
            <a:off x="1838160" y="2903400"/>
            <a:ext cx="3895920" cy="25974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1838160" y="2903400"/>
            <a:ext cx="325440" cy="178596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1404720" y="1227240"/>
            <a:ext cx="226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7412040" y="5284800"/>
            <a:ext cx="325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2197800" y="4707000"/>
            <a:ext cx="133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1243080" y="2633760"/>
            <a:ext cx="40788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5788080" y="5554800"/>
            <a:ext cx="325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6017040" y="5608800"/>
            <a:ext cx="192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3073680" y="3516480"/>
            <a:ext cx="1387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ic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5506200" y="4653000"/>
            <a:ext cx="2081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Logarithmic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2786040" y="194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1828800" y="2895480"/>
            <a:ext cx="4724280" cy="2210040"/>
          </a:xfrm>
          <a:custGeom>
            <a:avLst/>
            <a:gdLst/>
            <a:ahLst/>
            <a:rect l="l" t="t" r="r" b="b"/>
            <a:pathLst>
              <a:path w="2976" h="1392">
                <a:moveTo>
                  <a:pt x="0" y="0"/>
                </a:moveTo>
                <a:cubicBezTo>
                  <a:pt x="32" y="136"/>
                  <a:pt x="64" y="272"/>
                  <a:pt x="96" y="384"/>
                </a:cubicBezTo>
                <a:cubicBezTo>
                  <a:pt x="128" y="496"/>
                  <a:pt x="144" y="576"/>
                  <a:pt x="192" y="672"/>
                </a:cubicBezTo>
                <a:cubicBezTo>
                  <a:pt x="240" y="768"/>
                  <a:pt x="256" y="872"/>
                  <a:pt x="384" y="960"/>
                </a:cubicBezTo>
                <a:cubicBezTo>
                  <a:pt x="512" y="1048"/>
                  <a:pt x="696" y="1136"/>
                  <a:pt x="960" y="1200"/>
                </a:cubicBezTo>
                <a:cubicBezTo>
                  <a:pt x="1224" y="1264"/>
                  <a:pt x="1632" y="1312"/>
                  <a:pt x="1968" y="1344"/>
                </a:cubicBezTo>
                <a:cubicBezTo>
                  <a:pt x="2304" y="1376"/>
                  <a:pt x="2640" y="1384"/>
                  <a:pt x="2976" y="1392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2336760" y="533520"/>
            <a:ext cx="375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odel compari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22B40-A154-4ACA-B720-E8929F7E4BA0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3" name=""/>
          <p:cNvGrpSpPr/>
          <p:nvPr/>
        </p:nvGrpSpPr>
        <p:grpSpPr>
          <a:xfrm>
            <a:off x="2104920" y="1359000"/>
            <a:ext cx="115920" cy="4944960"/>
            <a:chOff x="2104920" y="1359000"/>
            <a:chExt cx="115920" cy="4944960"/>
          </a:xfrm>
        </p:grpSpPr>
        <p:sp>
          <p:nvSpPr>
            <p:cNvPr id="754" name=""/>
            <p:cNvSpPr/>
            <p:nvPr/>
          </p:nvSpPr>
          <p:spPr>
            <a:xfrm>
              <a:off x="2104920" y="1359000"/>
              <a:ext cx="115920" cy="233280"/>
            </a:xfrm>
            <a:custGeom>
              <a:avLst/>
              <a:gdLst/>
              <a:ahLst/>
              <a:rect l="l" t="t" r="r" b="b"/>
              <a:pathLst>
                <a:path w="73" h="147">
                  <a:moveTo>
                    <a:pt x="42" y="0"/>
                  </a:moveTo>
                  <a:lnTo>
                    <a:pt x="73" y="147"/>
                  </a:lnTo>
                  <a:lnTo>
                    <a:pt x="42" y="147"/>
                  </a:lnTo>
                  <a:lnTo>
                    <a:pt x="0" y="147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2171880" y="1592280"/>
              <a:ext cx="1440" cy="47116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6" name=""/>
          <p:cNvGrpSpPr/>
          <p:nvPr/>
        </p:nvGrpSpPr>
        <p:grpSpPr>
          <a:xfrm>
            <a:off x="1420560" y="5337000"/>
            <a:ext cx="5550120" cy="133560"/>
            <a:chOff x="1420560" y="5337000"/>
            <a:chExt cx="5550120" cy="133560"/>
          </a:xfrm>
        </p:grpSpPr>
        <p:sp>
          <p:nvSpPr>
            <p:cNvPr id="757" name=""/>
            <p:cNvSpPr/>
            <p:nvPr/>
          </p:nvSpPr>
          <p:spPr>
            <a:xfrm>
              <a:off x="6719760" y="5337000"/>
              <a:ext cx="250920" cy="133560"/>
            </a:xfrm>
            <a:custGeom>
              <a:avLst/>
              <a:gdLst/>
              <a:ahLst/>
              <a:rect l="l" t="t" r="r" b="b"/>
              <a:pathLst>
                <a:path w="158" h="84">
                  <a:moveTo>
                    <a:pt x="158" y="42"/>
                  </a:moveTo>
                  <a:lnTo>
                    <a:pt x="0" y="84"/>
                  </a:lnTo>
                  <a:lnTo>
                    <a:pt x="0" y="42"/>
                  </a:lnTo>
                  <a:lnTo>
                    <a:pt x="0" y="0"/>
                  </a:lnTo>
                  <a:lnTo>
                    <a:pt x="158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 flipH="1">
              <a:off x="1420560" y="5403960"/>
              <a:ext cx="529884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9" name=""/>
          <p:cNvSpPr/>
          <p:nvPr/>
        </p:nvSpPr>
        <p:spPr>
          <a:xfrm>
            <a:off x="2171880" y="3006720"/>
            <a:ext cx="539892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0" name=""/>
          <p:cNvGrpSpPr/>
          <p:nvPr/>
        </p:nvGrpSpPr>
        <p:grpSpPr>
          <a:xfrm>
            <a:off x="2179800" y="3465360"/>
            <a:ext cx="6448320" cy="3597120"/>
            <a:chOff x="2179800" y="3465360"/>
            <a:chExt cx="6448320" cy="3597120"/>
          </a:xfrm>
        </p:grpSpPr>
        <p:sp>
          <p:nvSpPr>
            <p:cNvPr id="761" name=""/>
            <p:cNvSpPr/>
            <p:nvPr/>
          </p:nvSpPr>
          <p:spPr>
            <a:xfrm>
              <a:off x="2179800" y="3763800"/>
              <a:ext cx="2399400" cy="329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38"/>
                  </a:moveTo>
                  <a:arcTo wR="10800" hR="10800" stAng="-10780269" swAng="5357652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38"/>
                  </a:moveTo>
                  <a:arcTo wR="10800" hR="10800" stAng="-10780269" swAng="5357652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2630520" y="3465360"/>
              <a:ext cx="5997600" cy="149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" y="10662"/>
                  </a:moveTo>
                  <a:arcTo wR="10800" hR="10800" stAng="-10756175" swAng="5345372"/>
                  <a:lnTo>
                    <a:pt x="10800" y="10800"/>
                  </a:lnTo>
                  <a:close/>
                </a:path>
                <a:path fill="none" w="21600" h="21600">
                  <a:moveTo>
                    <a:pt x="1" y="10662"/>
                  </a:moveTo>
                  <a:arcTo wR="10800" hR="10800" stAng="-10756175" swAng="5345372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3" name=""/>
          <p:cNvSpPr/>
          <p:nvPr/>
        </p:nvSpPr>
        <p:spPr>
          <a:xfrm>
            <a:off x="1754280" y="1158840"/>
            <a:ext cx="325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1604880" y="2757600"/>
            <a:ext cx="325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1815120" y="2906640"/>
            <a:ext cx="192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7103880" y="5170320"/>
            <a:ext cx="70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5513040" y="3556080"/>
            <a:ext cx="14425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Basic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2198520" y="2569680"/>
            <a:ext cx="3768840" cy="5693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764"/>
                </a:moveTo>
                <a:arcTo wR="10800" hR="10800" stAng="-10788446" swAng="2690683"/>
                <a:lnTo>
                  <a:pt x="10800" y="10800"/>
                </a:lnTo>
                <a:close/>
              </a:path>
              <a:path fill="none" w="21600" h="21600">
                <a:moveTo>
                  <a:pt x="0" y="10764"/>
                </a:moveTo>
                <a:arcTo wR="10800" hR="10800" stAng="-10788446" swAng="2690683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5661720" y="1608120"/>
            <a:ext cx="1498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Geneva"/>
              </a:rPr>
              <a:t>Logarithm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5690880" y="1825560"/>
            <a:ext cx="758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2336760" y="533520"/>
            <a:ext cx="375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odel compari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2743200" y="2438280"/>
            <a:ext cx="2743200" cy="990720"/>
          </a:xfrm>
          <a:custGeom>
            <a:avLst/>
            <a:gdLst/>
            <a:ahLst/>
            <a:rect l="l" t="t" r="r" b="b"/>
            <a:pathLst>
              <a:path w="1728" h="624">
                <a:moveTo>
                  <a:pt x="0" y="624"/>
                </a:moveTo>
                <a:cubicBezTo>
                  <a:pt x="28" y="576"/>
                  <a:pt x="56" y="528"/>
                  <a:pt x="96" y="480"/>
                </a:cubicBezTo>
                <a:cubicBezTo>
                  <a:pt x="136" y="432"/>
                  <a:pt x="168" y="384"/>
                  <a:pt x="240" y="336"/>
                </a:cubicBezTo>
                <a:cubicBezTo>
                  <a:pt x="312" y="288"/>
                  <a:pt x="400" y="232"/>
                  <a:pt x="528" y="192"/>
                </a:cubicBezTo>
                <a:cubicBezTo>
                  <a:pt x="656" y="152"/>
                  <a:pt x="808" y="128"/>
                  <a:pt x="1008" y="96"/>
                </a:cubicBezTo>
                <a:cubicBezTo>
                  <a:pt x="1208" y="64"/>
                  <a:pt x="1608" y="16"/>
                  <a:pt x="1728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A4867-4C8A-458F-A29D-B10CCABEDCDE}" type="slidenum">
              <a:t>1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ifying subjective qual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sider notions like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implicity, reusability, understandabilit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ftware science (due to Halstead) has been an attem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79EEB-71FB-4489-88EC-8A2E952DAD31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alstead's software science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ies to measure some software qualities,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straction level, effort, 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easuring some quantities on code,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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, number of distinct operators in the pro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umber of distinct operands in the pro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umber of occurrences of operators in the pro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number of occurrences of operands in the pro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79893-9B47-4EA5-B8DC-CF24DC7785BB}" type="slidenum">
              <a:t>1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cCabe's source code metric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yclomatic complexity of the control grap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 = e - n + 2 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 is # edges, n is # nodes, p is # connected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cCabe contends that well-structured modules have C in range 3 .. 7, and C = 10 is a reasonable upper limit for the complexity of a single modu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firmed by empirical evidenc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1A2BD-8F4D-4152-B92C-16EA4FDAF01B}" type="slidenum">
              <a:t>1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oal-question-metric (GQM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emi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metrics must be used to analyze software qualities, not to evaluate peopl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quality evaluation must be of end product, intermediate products,  and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etrics must be defined in the context of a complete and well-designed quality improvement paradigm (Q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6C3E8-7EC1-48BE-86E3-9DD78EFAAA11}" type="slidenum">
              <a:t>1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Q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t concerned with measuring a single quantity or group of qua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cyclomatic complex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method that is intended to lead from a precise definition of the objectives of measuring qualities (th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goa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) to the quantities (th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etric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) whose measures are used to verify the achievement of such qualities.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885DA-F439-4A27-B0A3-DB8674C84F54}" type="slidenum">
              <a:t>1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metho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 goal precisely—Exampl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alyz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the information system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with the purpose of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estimating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st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rom the point of view of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anager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n the context of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a major software hous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Define suitable set of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question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aimed at achieving the stated go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ssociate a precis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etric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with every question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69232-AABC-4AC1-9A50-C40DCBB8F554}" type="slidenum">
              <a:t>1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finitions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 (program), D (input domain), R (output domain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: D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R (may be partia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rrectness defined by O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(d) correct if &lt;d, P(d)&gt;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 correct if all P(d) are cor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AC0C4-BB43-466E-8F05-2EE9EE5E16E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finitions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(d) is not corr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be undefined (error state) or may be the wrong res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(DEFEC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thing that may cause a fail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yping mist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grammer forgot to test “x = 0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U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orrect intermediate state entered by pro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97170-69DC-4C3D-A990-9EB78B146BD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finitions 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case 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lement of 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set 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finite subset of 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is successful if P(t) is corr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set successful if P correct for all t in 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E787E-0509-4962-9CFC-5CB54610339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finitions (4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deal test set 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P is incorrect, there is an element of T such that P(d) is incor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if an ideal test set exists for any program, we could prove program correctness by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2D979-F899-4111-92BC-649D12F2877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 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riterion C defines finite subsets of D (test set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test set T satisfies C if it is an element of 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 = {&lt;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...,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gt; | 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3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, j, k, (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0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0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gt;0)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-5, 0, 22&gt; is a test set that satisfies 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-10, 2, 8, 33, 0, -19&gt; also do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1, 3, 99&gt; does n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336F6-ED63-4810-AA49-02E9DDD2CEE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perties of criteria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 is 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ny pairs T1, T2 satisfying C, T1 is successful iff T2 is success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 either of them provides the “same”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 is comple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P is incorrect, there is a test set T of C that is not success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 is complete and 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an ideal test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orrectness to be proved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AB33F-8759-40B0-9C66-E65635FBC56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perties of criteria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1 is finer than C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ny program 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y T1 satisfying C1 there is a subset T2 of T1 which satisfies C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DEF46-D29C-42A2-B687-04351D7A173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perties of defini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ne is effective, i.e., no algorithms exist to state if a program, test set, or criterion has that proper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particular, there is no algorithm to derive a test set that would prove program correct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is no constructive criterion that is consistent and comple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1F485-AB47-46D3-877B-CD7B2E95593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4475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are the goals of verificatio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are the main approaches to verificatio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kind of assurance do we get through testing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can testing be done systematically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can we remove defects (debugging)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are the main approaches to software analysi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l vs. form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4848F-3E78-474B-939D-8D3A806F6E8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mpirical testing 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77724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ttempted compromise between the impossible and the inadequat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nd strategy to select significant test ca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ificant=has high potential of uncovering presence of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29320-70DD-42A8-909E-1A856D094B8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lete-Coverage Princi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y to group elements of D into subdomains D1, D2, …, Dn where any element of each Di is likely to have similar behavi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 = D1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2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…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 one test as a representative of the sub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Dj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k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all j, k (partition), any element can be chosen from each sub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wise choose representatives to minimize number of tests, yet fulfilling the princi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4DE28-FCC5-4A33-8C6C-C342EC5F205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lete-Coverage Princi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"/>
          <p:cNvSpPr/>
          <p:nvPr/>
        </p:nvSpPr>
        <p:spPr>
          <a:xfrm>
            <a:off x="838080" y="3048120"/>
            <a:ext cx="7348680" cy="2387520"/>
          </a:xfrm>
          <a:custGeom>
            <a:avLst/>
            <a:gdLst/>
            <a:ahLst/>
            <a:rect l="l" t="t" r="r" b="b"/>
            <a:pathLst>
              <a:path w="4629" h="1504">
                <a:moveTo>
                  <a:pt x="205" y="313"/>
                </a:moveTo>
                <a:lnTo>
                  <a:pt x="0" y="854"/>
                </a:lnTo>
                <a:lnTo>
                  <a:pt x="692" y="1034"/>
                </a:lnTo>
                <a:lnTo>
                  <a:pt x="752" y="1310"/>
                </a:lnTo>
                <a:lnTo>
                  <a:pt x="1608" y="1503"/>
                </a:lnTo>
                <a:lnTo>
                  <a:pt x="1983" y="1299"/>
                </a:lnTo>
                <a:lnTo>
                  <a:pt x="2645" y="1454"/>
                </a:lnTo>
                <a:lnTo>
                  <a:pt x="3652" y="1430"/>
                </a:lnTo>
                <a:lnTo>
                  <a:pt x="3883" y="962"/>
                </a:lnTo>
                <a:lnTo>
                  <a:pt x="4388" y="734"/>
                </a:lnTo>
                <a:lnTo>
                  <a:pt x="4628" y="217"/>
                </a:lnTo>
                <a:lnTo>
                  <a:pt x="3802" y="109"/>
                </a:lnTo>
                <a:lnTo>
                  <a:pt x="3402" y="373"/>
                </a:lnTo>
                <a:lnTo>
                  <a:pt x="2780" y="120"/>
                </a:lnTo>
                <a:lnTo>
                  <a:pt x="1818" y="25"/>
                </a:lnTo>
                <a:lnTo>
                  <a:pt x="1729" y="409"/>
                </a:lnTo>
                <a:lnTo>
                  <a:pt x="1082" y="133"/>
                </a:lnTo>
                <a:lnTo>
                  <a:pt x="572" y="0"/>
                </a:lnTo>
                <a:lnTo>
                  <a:pt x="734" y="229"/>
                </a:lnTo>
                <a:lnTo>
                  <a:pt x="205" y="313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950080" y="3763800"/>
            <a:ext cx="177840" cy="17784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511280" y="3675240"/>
            <a:ext cx="177840" cy="17748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591080" y="4616280"/>
            <a:ext cx="177840" cy="17784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824360" y="4238640"/>
            <a:ext cx="177840" cy="179280"/>
          </a:xfrm>
          <a:prstGeom prst="ellipse">
            <a:avLst/>
          </a:pr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270400" y="3879720"/>
            <a:ext cx="177840" cy="179640"/>
          </a:xfrm>
          <a:prstGeom prst="ellipse">
            <a:avLst/>
          </a:pr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99120" y="4402080"/>
            <a:ext cx="179280" cy="177840"/>
          </a:xfrm>
          <a:prstGeom prst="ellipse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465200" y="4138560"/>
            <a:ext cx="177840" cy="177840"/>
          </a:xfrm>
          <a:prstGeom prst="ellipse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023920" y="3724200"/>
            <a:ext cx="179640" cy="177840"/>
          </a:xfrm>
          <a:prstGeom prst="ellipse">
            <a:avLst/>
          </a:prstGeom>
          <a:blipFill rotWithShape="0">
            <a:blip r:embed="rId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392200" y="3844800"/>
            <a:ext cx="177840" cy="177840"/>
          </a:xfrm>
          <a:prstGeom prst="ellipse">
            <a:avLst/>
          </a:prstGeom>
          <a:blipFill rotWithShape="0">
            <a:blip r:embed="rId1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882800" y="4135320"/>
            <a:ext cx="177840" cy="177840"/>
          </a:xfrm>
          <a:prstGeom prst="ellipse">
            <a:avLst/>
          </a:prstGeom>
          <a:blipFill rotWithShape="0">
            <a:blip r:embed="rId1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233440" y="4349880"/>
            <a:ext cx="177840" cy="177840"/>
          </a:xfrm>
          <a:prstGeom prst="ellipse">
            <a:avLst/>
          </a:prstGeom>
          <a:blipFill rotWithShape="0">
            <a:blip r:embed="rId1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588000" y="4411800"/>
            <a:ext cx="179640" cy="177840"/>
          </a:xfrm>
          <a:prstGeom prst="ellipse">
            <a:avLst/>
          </a:prstGeom>
          <a:blipFill rotWithShape="0">
            <a:blip r:embed="rId1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165320" y="3808440"/>
            <a:ext cx="177840" cy="177840"/>
          </a:xfrm>
          <a:prstGeom prst="ellipse">
            <a:avLst/>
          </a:prstGeom>
          <a:blipFill rotWithShape="0">
            <a:blip r:embed="rId1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57880" y="3379680"/>
            <a:ext cx="177840" cy="179640"/>
          </a:xfrm>
          <a:prstGeom prst="ellipse">
            <a:avLst/>
          </a:prstGeom>
          <a:blipFill rotWithShape="0">
            <a:blip r:embed="rId1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084560" y="4530600"/>
            <a:ext cx="179640" cy="177840"/>
          </a:xfrm>
          <a:prstGeom prst="ellipse">
            <a:avLst/>
          </a:prstGeom>
          <a:blipFill rotWithShape="0">
            <a:blip r:embed="rId1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89640" y="3848040"/>
            <a:ext cx="177480" cy="177840"/>
          </a:xfrm>
          <a:prstGeom prst="ellipse">
            <a:avLst/>
          </a:prstGeom>
          <a:blipFill rotWithShape="0">
            <a:blip r:embed="rId1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264440" y="3797280"/>
            <a:ext cx="179280" cy="177840"/>
          </a:xfrm>
          <a:prstGeom prst="ellipse">
            <a:avLst/>
          </a:prstGeom>
          <a:blipFill rotWithShape="0">
            <a:blip r:embed="rId1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608280" y="4125960"/>
            <a:ext cx="177840" cy="177840"/>
          </a:xfrm>
          <a:prstGeom prst="ellipse">
            <a:avLst/>
          </a:prstGeom>
          <a:blipFill rotWithShape="0">
            <a:blip r:embed="rId1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716200" y="3519360"/>
            <a:ext cx="177840" cy="179640"/>
          </a:xfrm>
          <a:prstGeom prst="ellipse">
            <a:avLst/>
          </a:prstGeom>
          <a:blipFill rotWithShape="0">
            <a:blip r:embed="rId2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684520" y="4135320"/>
            <a:ext cx="177840" cy="177840"/>
          </a:xfrm>
          <a:prstGeom prst="ellipse">
            <a:avLst/>
          </a:prstGeom>
          <a:blipFill rotWithShape="0">
            <a:blip r:embed="rId2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327400" y="4618080"/>
            <a:ext cx="177840" cy="177840"/>
          </a:xfrm>
          <a:prstGeom prst="ellipse">
            <a:avLst/>
          </a:prstGeom>
          <a:blipFill rotWithShape="0">
            <a:blip r:embed="rId2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199280" y="3419640"/>
            <a:ext cx="177840" cy="177480"/>
          </a:xfrm>
          <a:prstGeom prst="ellipse">
            <a:avLst/>
          </a:prstGeom>
          <a:blipFill rotWithShape="0">
            <a:blip r:embed="rId2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937200" y="4094280"/>
            <a:ext cx="177840" cy="177840"/>
          </a:xfrm>
          <a:prstGeom prst="ellipse">
            <a:avLst/>
          </a:prstGeom>
          <a:blipFill rotWithShape="0">
            <a:blip r:embed="rId2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201760" y="3240000"/>
            <a:ext cx="179640" cy="177840"/>
          </a:xfrm>
          <a:prstGeom prst="ellipse">
            <a:avLst/>
          </a:prstGeom>
          <a:blipFill rotWithShape="0">
            <a:blip r:embed="rId2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695840" y="3349800"/>
            <a:ext cx="177840" cy="177480"/>
          </a:xfrm>
          <a:prstGeom prst="ellipse">
            <a:avLst/>
          </a:prstGeom>
          <a:blipFill rotWithShape="0">
            <a:blip r:embed="rId2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957480" y="3543480"/>
            <a:ext cx="177840" cy="177480"/>
          </a:xfrm>
          <a:prstGeom prst="ellipse">
            <a:avLst/>
          </a:prstGeom>
          <a:blipFill rotWithShape="0">
            <a:blip r:embed="rId2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487680" y="4540320"/>
            <a:ext cx="177840" cy="177840"/>
          </a:xfrm>
          <a:prstGeom prst="ellipse">
            <a:avLst/>
          </a:prstGeom>
          <a:blipFill rotWithShape="0">
            <a:blip r:embed="rId2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31040" y="3648240"/>
            <a:ext cx="177840" cy="177480"/>
          </a:xfrm>
          <a:prstGeom prst="ellipse">
            <a:avLst/>
          </a:prstGeom>
          <a:blipFill rotWithShape="0">
            <a:blip r:embed="rId2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26200" y="4608360"/>
            <a:ext cx="177840" cy="177840"/>
          </a:xfrm>
          <a:prstGeom prst="ellipse">
            <a:avLst/>
          </a:prstGeom>
          <a:blipFill rotWithShape="0">
            <a:blip r:embed="rId3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122640" y="4249800"/>
            <a:ext cx="177840" cy="177840"/>
          </a:xfrm>
          <a:prstGeom prst="ellipse">
            <a:avLst/>
          </a:prstGeom>
          <a:blipFill rotWithShape="0">
            <a:blip r:embed="rId3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51000" y="4618080"/>
            <a:ext cx="179640" cy="177840"/>
          </a:xfrm>
          <a:prstGeom prst="ellipse">
            <a:avLst/>
          </a:prstGeom>
          <a:blipFill rotWithShape="0">
            <a:blip r:embed="rId3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214960" y="4870440"/>
            <a:ext cx="177840" cy="179280"/>
          </a:xfrm>
          <a:prstGeom prst="ellipse">
            <a:avLst/>
          </a:prstGeom>
          <a:blipFill rotWithShape="0">
            <a:blip r:embed="rId3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643120" y="4743360"/>
            <a:ext cx="177840" cy="177840"/>
          </a:xfrm>
          <a:prstGeom prst="ellipse">
            <a:avLst/>
          </a:prstGeom>
          <a:blipFill rotWithShape="0">
            <a:blip r:embed="rId3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751800" y="3755880"/>
            <a:ext cx="177480" cy="177840"/>
          </a:xfrm>
          <a:prstGeom prst="ellipse">
            <a:avLst/>
          </a:prstGeom>
          <a:blipFill rotWithShape="0">
            <a:blip r:embed="rId3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103560" y="3780000"/>
            <a:ext cx="179280" cy="177480"/>
          </a:xfrm>
          <a:prstGeom prst="ellipse">
            <a:avLst/>
          </a:prstGeom>
          <a:blipFill rotWithShape="0">
            <a:blip r:embed="rId3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620120" y="3467160"/>
            <a:ext cx="179280" cy="177840"/>
          </a:xfrm>
          <a:prstGeom prst="ellipse">
            <a:avLst/>
          </a:prstGeom>
          <a:blipFill rotWithShape="0">
            <a:blip r:embed="rId3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30760" y="3186000"/>
            <a:ext cx="177840" cy="177840"/>
          </a:xfrm>
          <a:prstGeom prst="ellipse">
            <a:avLst/>
          </a:prstGeom>
          <a:blipFill rotWithShape="0">
            <a:blip r:embed="rId3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083120" y="3971880"/>
            <a:ext cx="179280" cy="179280"/>
          </a:xfrm>
          <a:prstGeom prst="ellipse">
            <a:avLst/>
          </a:prstGeom>
          <a:blipFill rotWithShape="0">
            <a:blip r:embed="rId3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799320" y="3328920"/>
            <a:ext cx="177840" cy="177840"/>
          </a:xfrm>
          <a:prstGeom prst="ellipse">
            <a:avLst/>
          </a:prstGeom>
          <a:blipFill rotWithShape="0">
            <a:blip r:embed="rId4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002280" y="4268880"/>
            <a:ext cx="177840" cy="177840"/>
          </a:xfrm>
          <a:prstGeom prst="ellipse">
            <a:avLst/>
          </a:prstGeom>
          <a:blipFill rotWithShape="0">
            <a:blip r:embed="rId4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570640" y="4103640"/>
            <a:ext cx="177840" cy="179280"/>
          </a:xfrm>
          <a:prstGeom prst="ellipse">
            <a:avLst/>
          </a:prstGeom>
          <a:blipFill rotWithShape="0">
            <a:blip r:embed="rId4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70720" y="4660920"/>
            <a:ext cx="177480" cy="177840"/>
          </a:xfrm>
          <a:prstGeom prst="ellipse">
            <a:avLst/>
          </a:prstGeom>
          <a:blipFill rotWithShape="0">
            <a:blip r:embed="rId4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63960" y="4913280"/>
            <a:ext cx="177840" cy="179280"/>
          </a:xfrm>
          <a:prstGeom prst="ellipse">
            <a:avLst/>
          </a:prstGeom>
          <a:blipFill rotWithShape="0">
            <a:blip r:embed="rId4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565440" y="4917960"/>
            <a:ext cx="177840" cy="179640"/>
          </a:xfrm>
          <a:prstGeom prst="ellipse">
            <a:avLst/>
          </a:prstGeom>
          <a:blipFill rotWithShape="0">
            <a:blip r:embed="rId4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377040" y="4046400"/>
            <a:ext cx="177840" cy="177840"/>
          </a:xfrm>
          <a:prstGeom prst="ellipse">
            <a:avLst/>
          </a:prstGeom>
          <a:blipFill rotWithShape="0">
            <a:blip r:embed="rId4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033560" y="3581280"/>
            <a:ext cx="1271520" cy="885960"/>
          </a:xfrm>
          <a:custGeom>
            <a:avLst/>
            <a:gdLst/>
            <a:ahLst/>
            <a:rect l="l" t="t" r="r" b="b"/>
            <a:pathLst>
              <a:path w="801" h="558">
                <a:moveTo>
                  <a:pt x="232" y="0"/>
                </a:moveTo>
                <a:lnTo>
                  <a:pt x="0" y="163"/>
                </a:lnTo>
                <a:lnTo>
                  <a:pt x="104" y="476"/>
                </a:lnTo>
                <a:lnTo>
                  <a:pt x="603" y="557"/>
                </a:lnTo>
                <a:lnTo>
                  <a:pt x="765" y="325"/>
                </a:lnTo>
                <a:lnTo>
                  <a:pt x="800" y="0"/>
                </a:lnTo>
                <a:lnTo>
                  <a:pt x="232" y="0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401840" y="3600360"/>
            <a:ext cx="38160" cy="1800"/>
          </a:xfrm>
          <a:custGeom>
            <a:avLst/>
            <a:gdLst/>
            <a:ahLst/>
            <a:rect l="l" t="t" r="r" b="b"/>
            <a:pathLst>
              <a:path w="24" h="1">
                <a:moveTo>
                  <a:pt x="0" y="0"/>
                </a:moveTo>
                <a:lnTo>
                  <a:pt x="23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063880" y="3159000"/>
            <a:ext cx="1879560" cy="2025720"/>
          </a:xfrm>
          <a:custGeom>
            <a:avLst/>
            <a:gdLst/>
            <a:ahLst/>
            <a:rect l="l" t="t" r="r" b="b"/>
            <a:pathLst>
              <a:path w="1184" h="1276">
                <a:moveTo>
                  <a:pt x="0" y="11"/>
                </a:moveTo>
                <a:lnTo>
                  <a:pt x="12" y="208"/>
                </a:lnTo>
                <a:lnTo>
                  <a:pt x="278" y="232"/>
                </a:lnTo>
                <a:lnTo>
                  <a:pt x="151" y="498"/>
                </a:lnTo>
                <a:lnTo>
                  <a:pt x="220" y="661"/>
                </a:lnTo>
                <a:lnTo>
                  <a:pt x="23" y="777"/>
                </a:lnTo>
                <a:lnTo>
                  <a:pt x="116" y="1148"/>
                </a:lnTo>
                <a:lnTo>
                  <a:pt x="684" y="1275"/>
                </a:lnTo>
                <a:lnTo>
                  <a:pt x="881" y="1171"/>
                </a:lnTo>
                <a:lnTo>
                  <a:pt x="939" y="1032"/>
                </a:lnTo>
                <a:lnTo>
                  <a:pt x="1125" y="997"/>
                </a:lnTo>
                <a:lnTo>
                  <a:pt x="1183" y="510"/>
                </a:lnTo>
                <a:lnTo>
                  <a:pt x="846" y="371"/>
                </a:lnTo>
                <a:lnTo>
                  <a:pt x="325" y="93"/>
                </a:lnTo>
                <a:lnTo>
                  <a:pt x="185" y="0"/>
                </a:lnTo>
                <a:lnTo>
                  <a:pt x="0" y="11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082960" y="3159000"/>
            <a:ext cx="18720" cy="38160"/>
          </a:xfrm>
          <a:custGeom>
            <a:avLst/>
            <a:gdLst/>
            <a:ahLst/>
            <a:rect l="l" t="t" r="r" b="b"/>
            <a:pathLst>
              <a:path w="12" h="24">
                <a:moveTo>
                  <a:pt x="0" y="0"/>
                </a:moveTo>
                <a:lnTo>
                  <a:pt x="11" y="23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44840" y="3084480"/>
            <a:ext cx="1712880" cy="2100240"/>
          </a:xfrm>
          <a:custGeom>
            <a:avLst/>
            <a:gdLst/>
            <a:ahLst/>
            <a:rect l="l" t="t" r="r" b="b"/>
            <a:pathLst>
              <a:path w="1079" h="1323">
                <a:moveTo>
                  <a:pt x="220" y="418"/>
                </a:moveTo>
                <a:lnTo>
                  <a:pt x="185" y="47"/>
                </a:lnTo>
                <a:lnTo>
                  <a:pt x="371" y="0"/>
                </a:lnTo>
                <a:lnTo>
                  <a:pt x="637" y="151"/>
                </a:lnTo>
                <a:lnTo>
                  <a:pt x="881" y="82"/>
                </a:lnTo>
                <a:lnTo>
                  <a:pt x="1078" y="128"/>
                </a:lnTo>
                <a:lnTo>
                  <a:pt x="1043" y="545"/>
                </a:lnTo>
                <a:lnTo>
                  <a:pt x="1066" y="789"/>
                </a:lnTo>
                <a:lnTo>
                  <a:pt x="950" y="1044"/>
                </a:lnTo>
                <a:lnTo>
                  <a:pt x="591" y="1160"/>
                </a:lnTo>
                <a:lnTo>
                  <a:pt x="266" y="1195"/>
                </a:lnTo>
                <a:lnTo>
                  <a:pt x="173" y="1322"/>
                </a:lnTo>
                <a:lnTo>
                  <a:pt x="0" y="1253"/>
                </a:lnTo>
                <a:lnTo>
                  <a:pt x="92" y="1102"/>
                </a:lnTo>
                <a:lnTo>
                  <a:pt x="347" y="1055"/>
                </a:lnTo>
                <a:lnTo>
                  <a:pt x="394" y="766"/>
                </a:lnTo>
                <a:lnTo>
                  <a:pt x="336" y="534"/>
                </a:lnTo>
                <a:lnTo>
                  <a:pt x="220" y="418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794040" y="3711600"/>
            <a:ext cx="19080" cy="19080"/>
          </a:xfrm>
          <a:custGeom>
            <a:avLst/>
            <a:gdLst/>
            <a:ahLst/>
            <a:rect l="l" t="t" r="r" b="b"/>
            <a:pathLst>
              <a:path w="12" h="12">
                <a:moveTo>
                  <a:pt x="11" y="0"/>
                </a:moveTo>
                <a:lnTo>
                  <a:pt x="0" y="1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045040" y="3251160"/>
            <a:ext cx="977760" cy="1933560"/>
          </a:xfrm>
          <a:custGeom>
            <a:avLst/>
            <a:gdLst/>
            <a:ahLst/>
            <a:rect l="l" t="t" r="r" b="b"/>
            <a:pathLst>
              <a:path w="616" h="1218">
                <a:moveTo>
                  <a:pt x="139" y="23"/>
                </a:moveTo>
                <a:lnTo>
                  <a:pt x="93" y="382"/>
                </a:lnTo>
                <a:lnTo>
                  <a:pt x="93" y="579"/>
                </a:lnTo>
                <a:lnTo>
                  <a:pt x="116" y="661"/>
                </a:lnTo>
                <a:lnTo>
                  <a:pt x="0" y="916"/>
                </a:lnTo>
                <a:lnTo>
                  <a:pt x="0" y="1217"/>
                </a:lnTo>
                <a:lnTo>
                  <a:pt x="394" y="1171"/>
                </a:lnTo>
                <a:lnTo>
                  <a:pt x="615" y="962"/>
                </a:lnTo>
                <a:lnTo>
                  <a:pt x="487" y="719"/>
                </a:lnTo>
                <a:lnTo>
                  <a:pt x="534" y="533"/>
                </a:lnTo>
                <a:lnTo>
                  <a:pt x="336" y="336"/>
                </a:lnTo>
                <a:lnTo>
                  <a:pt x="406" y="104"/>
                </a:lnTo>
                <a:lnTo>
                  <a:pt x="197" y="0"/>
                </a:lnTo>
                <a:lnTo>
                  <a:pt x="139" y="23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303880" y="3287880"/>
            <a:ext cx="1440" cy="20520"/>
          </a:xfrm>
          <a:custGeom>
            <a:avLst/>
            <a:gdLst/>
            <a:ahLst/>
            <a:rect l="l" t="t" r="r" b="b"/>
            <a:pathLst>
              <a:path w="1" h="13">
                <a:moveTo>
                  <a:pt x="0" y="0"/>
                </a:moveTo>
                <a:lnTo>
                  <a:pt x="0" y="1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762520" y="3195720"/>
            <a:ext cx="2192400" cy="1841400"/>
          </a:xfrm>
          <a:custGeom>
            <a:avLst/>
            <a:gdLst/>
            <a:ahLst/>
            <a:rect l="l" t="t" r="r" b="b"/>
            <a:pathLst>
              <a:path w="1381" h="1160">
                <a:moveTo>
                  <a:pt x="35" y="197"/>
                </a:moveTo>
                <a:lnTo>
                  <a:pt x="0" y="406"/>
                </a:lnTo>
                <a:lnTo>
                  <a:pt x="151" y="545"/>
                </a:lnTo>
                <a:lnTo>
                  <a:pt x="93" y="742"/>
                </a:lnTo>
                <a:lnTo>
                  <a:pt x="244" y="1055"/>
                </a:lnTo>
                <a:lnTo>
                  <a:pt x="429" y="1159"/>
                </a:lnTo>
                <a:lnTo>
                  <a:pt x="603" y="962"/>
                </a:lnTo>
                <a:lnTo>
                  <a:pt x="731" y="765"/>
                </a:lnTo>
                <a:lnTo>
                  <a:pt x="928" y="661"/>
                </a:lnTo>
                <a:lnTo>
                  <a:pt x="1148" y="522"/>
                </a:lnTo>
                <a:lnTo>
                  <a:pt x="1195" y="394"/>
                </a:lnTo>
                <a:lnTo>
                  <a:pt x="1322" y="301"/>
                </a:lnTo>
                <a:lnTo>
                  <a:pt x="1380" y="128"/>
                </a:lnTo>
                <a:lnTo>
                  <a:pt x="1067" y="70"/>
                </a:lnTo>
                <a:lnTo>
                  <a:pt x="847" y="70"/>
                </a:lnTo>
                <a:lnTo>
                  <a:pt x="673" y="0"/>
                </a:lnTo>
                <a:lnTo>
                  <a:pt x="511" y="174"/>
                </a:lnTo>
                <a:lnTo>
                  <a:pt x="302" y="290"/>
                </a:lnTo>
                <a:lnTo>
                  <a:pt x="35" y="197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389320" y="1676520"/>
            <a:ext cx="468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Comic Sans MS"/>
              </a:rPr>
              <a:t>example of a parti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5B7BF-550A-438F-991D-09FEBC7B08C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ing in the smal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test individual 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LACK BOX (functional)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tioning criteria based on the module’s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st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what the program is supposed to d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ITE BOX (structural)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tioning criteria based on module’s internal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st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what the program do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B852A-71FB-4756-AD5F-BA95C088C51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ite box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114264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rives test cases from program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655BA-6B9E-48E5-BB3E-62BE60D0A12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ructural Coverage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33160" y="1523520"/>
            <a:ext cx="77310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In)adequacy criteria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significant parts of program structure are not tested, testing is inadequ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coverage criter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ment cover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ge cover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dition cover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 cover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B942C-FB0D-4900-83CC-0C29BA3384FC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atement-coverage 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lect a test set T such that every elementary statement in P is executed at least once by some d in 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nput datum executes many statements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ry to minimize the number of test cases still preserving the desired cover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D3EA5-ABCF-4E8F-90CF-FC61433CC407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"/>
          <p:cNvSpPr/>
          <p:nvPr/>
        </p:nvSpPr>
        <p:spPr>
          <a:xfrm>
            <a:off x="746280" y="1938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32080" y="1295280"/>
            <a:ext cx="25398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ad (x); read (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&gt;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1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2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y &gt;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3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4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679920" y="1905120"/>
            <a:ext cx="4987440" cy="2654280"/>
          </a:xfrm>
          <a:prstGeom prst="rect">
            <a:avLst/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&lt;x = 2, y = 3&gt;, &lt;x = - 13, y = 51&gt;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x = 97, y = 17&gt;, &lt;x = - 1, y = - 1&gt;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vers all stat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&lt;x = - 13, y = 51&gt;, &lt;x = 2, y = - 3&gt;}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 mini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FF6A5-CF2B-4480-B367-8FD944CC862A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eakness of the 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"/>
          <p:cNvSpPr/>
          <p:nvPr/>
        </p:nvSpPr>
        <p:spPr>
          <a:xfrm>
            <a:off x="1200240" y="2023920"/>
            <a:ext cx="2107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&lt;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 := -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188240" y="2166840"/>
            <a:ext cx="3587040" cy="2654280"/>
          </a:xfrm>
          <a:prstGeom prst="rect">
            <a:avLst/>
          </a:prstGeom>
          <a:noFill/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{&lt;x=-3} covers 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does not exercise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when x is posi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the then branch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ente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048F3-C8BE-4D49-9F97-699BE311F993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dge-coverage 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lect a test set T such that every edge (branch) of the control flow is exercised at least once by some d in 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requires formalizing the concept of the control graph, and how to construct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dges represent stat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des at the ends of an edge represent entry into the statement and ex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BD652-E8EF-48E1-A952-CCCAEB8DEFA3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eed for ver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igners are fallible even if they are skilled and follow sound princi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rything must be verified, every required quality, process and produ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 verification itself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BF5E9-D5E0-41FA-A089-22F0B6B16D8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2639880" y="103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788760" y="914400"/>
            <a:ext cx="7548120" cy="5684040"/>
            <a:chOff x="788760" y="914400"/>
            <a:chExt cx="7548120" cy="5684040"/>
          </a:xfrm>
        </p:grpSpPr>
        <p:sp>
          <p:nvSpPr>
            <p:cNvPr id="171" name=""/>
            <p:cNvSpPr/>
            <p:nvPr/>
          </p:nvSpPr>
          <p:spPr>
            <a:xfrm>
              <a:off x="5425920" y="38829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577120" y="399564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425920" y="47800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577480" y="3997440"/>
              <a:ext cx="300600" cy="889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49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498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425920" y="38829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276520" y="399564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425920" y="47800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276520" y="3997440"/>
              <a:ext cx="30132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434" swAng="533782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434" swAng="533782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425920" y="54514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77120" y="556416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425920" y="63482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77480" y="5565960"/>
              <a:ext cx="300600" cy="889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49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498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425920" y="54514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276520" y="556416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425920" y="63482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276520" y="5565960"/>
              <a:ext cx="30132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434" swAng="533782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434" swAng="533782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7" name=""/>
            <p:cNvGrpSpPr/>
            <p:nvPr/>
          </p:nvGrpSpPr>
          <p:grpSpPr>
            <a:xfrm>
              <a:off x="5502240" y="4995720"/>
              <a:ext cx="115920" cy="447840"/>
              <a:chOff x="5502240" y="4995720"/>
              <a:chExt cx="115920" cy="447840"/>
            </a:xfrm>
          </p:grpSpPr>
          <p:sp>
            <p:nvSpPr>
              <p:cNvPr id="188" name=""/>
              <p:cNvSpPr/>
              <p:nvPr/>
            </p:nvSpPr>
            <p:spPr>
              <a:xfrm>
                <a:off x="5502240" y="5268960"/>
                <a:ext cx="115920" cy="174600"/>
              </a:xfrm>
              <a:custGeom>
                <a:avLst/>
                <a:gdLst/>
                <a:ahLst/>
                <a:rect l="l" t="t" r="r" b="b"/>
                <a:pathLst>
                  <a:path w="73" h="110">
                    <a:moveTo>
                      <a:pt x="42" y="110"/>
                    </a:moveTo>
                    <a:lnTo>
                      <a:pt x="0" y="0"/>
                    </a:lnTo>
                    <a:lnTo>
                      <a:pt x="42" y="0"/>
                    </a:lnTo>
                    <a:lnTo>
                      <a:pt x="73" y="0"/>
                    </a:lnTo>
                    <a:lnTo>
                      <a:pt x="42" y="1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5568840" y="4995720"/>
                <a:ext cx="1800" cy="2732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0" name=""/>
            <p:cNvSpPr/>
            <p:nvPr/>
          </p:nvSpPr>
          <p:spPr>
            <a:xfrm>
              <a:off x="2793960" y="44607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044440" y="49100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195640" y="502128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044440" y="58053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196000" y="5023080"/>
              <a:ext cx="300600" cy="889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39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39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044440" y="49100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895400" y="502128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044440" y="58053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895400" y="5023080"/>
              <a:ext cx="30132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1" y="21597"/>
                  </a:moveTo>
                  <a:arcTo wR="10800" hR="10800" stAng="5479331" swAng="533792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1" y="21597"/>
                  </a:moveTo>
                  <a:arcTo wR="10800" hR="10800" stAng="5479331" swAng="5337924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9" name=""/>
            <p:cNvGrpSpPr/>
            <p:nvPr/>
          </p:nvGrpSpPr>
          <p:grpSpPr>
            <a:xfrm>
              <a:off x="2187360" y="4565520"/>
              <a:ext cx="598680" cy="336600"/>
              <a:chOff x="2187360" y="4565520"/>
              <a:chExt cx="598680" cy="336600"/>
            </a:xfrm>
          </p:grpSpPr>
          <p:sp>
            <p:nvSpPr>
              <p:cNvPr id="200" name=""/>
              <p:cNvSpPr/>
              <p:nvPr/>
            </p:nvSpPr>
            <p:spPr>
              <a:xfrm>
                <a:off x="2187360" y="4751280"/>
                <a:ext cx="216000" cy="150840"/>
              </a:xfrm>
              <a:custGeom>
                <a:avLst/>
                <a:gdLst/>
                <a:ahLst/>
                <a:rect l="l" t="t" r="r" b="b"/>
                <a:pathLst>
                  <a:path w="136" h="95">
                    <a:moveTo>
                      <a:pt x="0" y="95"/>
                    </a:moveTo>
                    <a:lnTo>
                      <a:pt x="94" y="0"/>
                    </a:lnTo>
                    <a:lnTo>
                      <a:pt x="115" y="24"/>
                    </a:lnTo>
                    <a:lnTo>
                      <a:pt x="136" y="47"/>
                    </a:lnTo>
                    <a:lnTo>
                      <a:pt x="0" y="9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 flipH="1">
                <a:off x="2369880" y="4565520"/>
                <a:ext cx="416160" cy="2239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2" name=""/>
            <p:cNvSpPr/>
            <p:nvPr/>
          </p:nvSpPr>
          <p:spPr>
            <a:xfrm>
              <a:off x="2793960" y="44607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336760" y="5910120"/>
              <a:ext cx="59832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4" name=""/>
            <p:cNvGrpSpPr/>
            <p:nvPr/>
          </p:nvGrpSpPr>
          <p:grpSpPr>
            <a:xfrm>
              <a:off x="2869920" y="4676760"/>
              <a:ext cx="115920" cy="1233000"/>
              <a:chOff x="2869920" y="4676760"/>
              <a:chExt cx="115920" cy="1233000"/>
            </a:xfrm>
          </p:grpSpPr>
          <p:sp>
            <p:nvSpPr>
              <p:cNvPr id="205" name=""/>
              <p:cNvSpPr/>
              <p:nvPr/>
            </p:nvSpPr>
            <p:spPr>
              <a:xfrm>
                <a:off x="2869920" y="4676760"/>
                <a:ext cx="115920" cy="174600"/>
              </a:xfrm>
              <a:custGeom>
                <a:avLst/>
                <a:gdLst/>
                <a:ahLst/>
                <a:rect l="l" t="t" r="r" b="b"/>
                <a:pathLst>
                  <a:path w="73" h="110">
                    <a:moveTo>
                      <a:pt x="41" y="0"/>
                    </a:moveTo>
                    <a:lnTo>
                      <a:pt x="73" y="110"/>
                    </a:lnTo>
                    <a:lnTo>
                      <a:pt x="41" y="110"/>
                    </a:lnTo>
                    <a:lnTo>
                      <a:pt x="0" y="110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flipV="1">
                <a:off x="2935080" y="4851000"/>
                <a:ext cx="1800" cy="10587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7" name=""/>
            <p:cNvSpPr/>
            <p:nvPr/>
          </p:nvSpPr>
          <p:spPr>
            <a:xfrm>
              <a:off x="7937280" y="927000"/>
              <a:ext cx="30024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188120" y="137484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336440" y="1485720"/>
              <a:ext cx="302040" cy="895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97" y="2"/>
                  </a:moveTo>
                  <a:arcTo wR="10800" hR="10800" stAng="-5464628" swAng="544657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97" y="2"/>
                  </a:moveTo>
                  <a:arcTo wR="10800" hR="10800" stAng="-5464628" swAng="544657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188120" y="22701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336800" y="1487880"/>
              <a:ext cx="301680" cy="893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57" swAng="5484024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57" swAng="5484024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188120" y="137484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038720" y="148752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75" swAng="530411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75" swAng="530411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188120" y="22701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038720" y="1487520"/>
              <a:ext cx="301320" cy="89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575" swAng="533765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575" swAng="5337650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937280" y="271944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7" name=""/>
            <p:cNvGrpSpPr/>
            <p:nvPr/>
          </p:nvGrpSpPr>
          <p:grpSpPr>
            <a:xfrm>
              <a:off x="7329240" y="1030320"/>
              <a:ext cx="599760" cy="336600"/>
              <a:chOff x="7329240" y="1030320"/>
              <a:chExt cx="599760" cy="336600"/>
            </a:xfrm>
          </p:grpSpPr>
          <p:sp>
            <p:nvSpPr>
              <p:cNvPr id="218" name=""/>
              <p:cNvSpPr/>
              <p:nvPr/>
            </p:nvSpPr>
            <p:spPr>
              <a:xfrm>
                <a:off x="7329240" y="1217520"/>
                <a:ext cx="217440" cy="149400"/>
              </a:xfrm>
              <a:custGeom>
                <a:avLst/>
                <a:gdLst/>
                <a:ahLst/>
                <a:rect l="l" t="t" r="r" b="b"/>
                <a:pathLst>
                  <a:path w="137" h="94">
                    <a:moveTo>
                      <a:pt x="0" y="94"/>
                    </a:moveTo>
                    <a:lnTo>
                      <a:pt x="95" y="0"/>
                    </a:lnTo>
                    <a:lnTo>
                      <a:pt x="116" y="23"/>
                    </a:lnTo>
                    <a:lnTo>
                      <a:pt x="137" y="47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flipH="1">
                <a:off x="7513200" y="1030320"/>
                <a:ext cx="415800" cy="2239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0" name=""/>
            <p:cNvGrpSpPr/>
            <p:nvPr/>
          </p:nvGrpSpPr>
          <p:grpSpPr>
            <a:xfrm>
              <a:off x="7329240" y="2486160"/>
              <a:ext cx="600120" cy="336240"/>
              <a:chOff x="7329240" y="2486160"/>
              <a:chExt cx="600120" cy="336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696080" y="2673360"/>
                <a:ext cx="233280" cy="149040"/>
              </a:xfrm>
              <a:custGeom>
                <a:avLst/>
                <a:gdLst/>
                <a:ahLst/>
                <a:rect l="l" t="t" r="r" b="b"/>
                <a:pathLst>
                  <a:path w="147" h="94">
                    <a:moveTo>
                      <a:pt x="147" y="94"/>
                    </a:moveTo>
                    <a:lnTo>
                      <a:pt x="0" y="47"/>
                    </a:lnTo>
                    <a:lnTo>
                      <a:pt x="21" y="24"/>
                    </a:lnTo>
                    <a:lnTo>
                      <a:pt x="42" y="0"/>
                    </a:lnTo>
                    <a:lnTo>
                      <a:pt x="147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7329240" y="2486160"/>
                <a:ext cx="400320" cy="225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3" name=""/>
            <p:cNvSpPr/>
            <p:nvPr/>
          </p:nvSpPr>
          <p:spPr>
            <a:xfrm>
              <a:off x="7937280" y="927000"/>
              <a:ext cx="30024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937280" y="271944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5" name=""/>
            <p:cNvGrpSpPr/>
            <p:nvPr/>
          </p:nvGrpSpPr>
          <p:grpSpPr>
            <a:xfrm>
              <a:off x="8011800" y="1143000"/>
              <a:ext cx="117720" cy="1568520"/>
              <a:chOff x="8011800" y="1143000"/>
              <a:chExt cx="117720" cy="1568520"/>
            </a:xfrm>
          </p:grpSpPr>
          <p:sp>
            <p:nvSpPr>
              <p:cNvPr id="226" name=""/>
              <p:cNvSpPr/>
              <p:nvPr/>
            </p:nvSpPr>
            <p:spPr>
              <a:xfrm>
                <a:off x="8011800" y="2523960"/>
                <a:ext cx="117720" cy="187560"/>
              </a:xfrm>
              <a:custGeom>
                <a:avLst/>
                <a:gdLst/>
                <a:ahLst/>
                <a:rect l="l" t="t" r="r" b="b"/>
                <a:pathLst>
                  <a:path w="74" h="118">
                    <a:moveTo>
                      <a:pt x="42" y="118"/>
                    </a:moveTo>
                    <a:lnTo>
                      <a:pt x="0" y="0"/>
                    </a:lnTo>
                    <a:lnTo>
                      <a:pt x="42" y="0"/>
                    </a:lnTo>
                    <a:lnTo>
                      <a:pt x="74" y="0"/>
                    </a:lnTo>
                    <a:lnTo>
                      <a:pt x="42" y="1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8078760" y="1143000"/>
                <a:ext cx="1440" cy="1380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4541760" y="91440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79224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943440" y="147492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79224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943800" y="1476360"/>
              <a:ext cx="30060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49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498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79224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643200" y="147492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79224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643200" y="1476000"/>
              <a:ext cx="301320" cy="891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434" swAng="533782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434" swAng="533782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834000" y="181440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541760" y="2706840"/>
              <a:ext cx="299880" cy="2203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9" name=""/>
            <p:cNvGrpSpPr/>
            <p:nvPr/>
          </p:nvGrpSpPr>
          <p:grpSpPr>
            <a:xfrm>
              <a:off x="3935160" y="1017720"/>
              <a:ext cx="598680" cy="336240"/>
              <a:chOff x="3935160" y="1017720"/>
              <a:chExt cx="598680" cy="336240"/>
            </a:xfrm>
          </p:grpSpPr>
          <p:sp>
            <p:nvSpPr>
              <p:cNvPr id="240" name=""/>
              <p:cNvSpPr/>
              <p:nvPr/>
            </p:nvSpPr>
            <p:spPr>
              <a:xfrm>
                <a:off x="3935160" y="1204920"/>
                <a:ext cx="216000" cy="149040"/>
              </a:xfrm>
              <a:custGeom>
                <a:avLst/>
                <a:gdLst/>
                <a:ahLst/>
                <a:rect l="l" t="t" r="r" b="b"/>
                <a:pathLst>
                  <a:path w="136" h="94">
                    <a:moveTo>
                      <a:pt x="0" y="94"/>
                    </a:moveTo>
                    <a:lnTo>
                      <a:pt x="94" y="0"/>
                    </a:lnTo>
                    <a:lnTo>
                      <a:pt x="115" y="23"/>
                    </a:lnTo>
                    <a:lnTo>
                      <a:pt x="136" y="47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flipH="1">
                <a:off x="4117680" y="1017720"/>
                <a:ext cx="41616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2" name=""/>
            <p:cNvGrpSpPr/>
            <p:nvPr/>
          </p:nvGrpSpPr>
          <p:grpSpPr>
            <a:xfrm>
              <a:off x="3935160" y="2475000"/>
              <a:ext cx="598680" cy="334800"/>
              <a:chOff x="3935160" y="2475000"/>
              <a:chExt cx="598680" cy="334800"/>
            </a:xfrm>
          </p:grpSpPr>
          <p:sp>
            <p:nvSpPr>
              <p:cNvPr id="243" name=""/>
              <p:cNvSpPr/>
              <p:nvPr/>
            </p:nvSpPr>
            <p:spPr>
              <a:xfrm>
                <a:off x="4300560" y="2660760"/>
                <a:ext cx="233280" cy="149040"/>
              </a:xfrm>
              <a:custGeom>
                <a:avLst/>
                <a:gdLst/>
                <a:ahLst/>
                <a:rect l="l" t="t" r="r" b="b"/>
                <a:pathLst>
                  <a:path w="147" h="94">
                    <a:moveTo>
                      <a:pt x="147" y="94"/>
                    </a:moveTo>
                    <a:lnTo>
                      <a:pt x="0" y="47"/>
                    </a:lnTo>
                    <a:lnTo>
                      <a:pt x="21" y="24"/>
                    </a:lnTo>
                    <a:lnTo>
                      <a:pt x="42" y="0"/>
                    </a:lnTo>
                    <a:lnTo>
                      <a:pt x="147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3935160" y="2475000"/>
                <a:ext cx="39852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5" name=""/>
            <p:cNvSpPr/>
            <p:nvPr/>
          </p:nvSpPr>
          <p:spPr>
            <a:xfrm>
              <a:off x="4541760" y="91440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29092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140080" y="147492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5"/>
                  </a:moveTo>
                  <a:arcTo wR="10800" hR="10800" stAng="-10782589" swAng="531741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5"/>
                  </a:moveTo>
                  <a:arcTo wR="10800" hR="10800" stAng="-10782589" swAng="5317414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29092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140080" y="1476000"/>
              <a:ext cx="301320" cy="890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93" y="21598"/>
                  </a:moveTo>
                  <a:arcTo wR="10800" hR="10800" stAng="5465850" swAng="535156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93" y="21598"/>
                  </a:moveTo>
                  <a:arcTo wR="10800" hR="10800" stAng="5465850" swAng="535156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29092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441400" y="1474920"/>
              <a:ext cx="29844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96" y="2"/>
                  </a:moveTo>
                  <a:arcTo wR="10800" hR="10800" stAng="-5464854" swAng="544686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96" y="2"/>
                  </a:moveTo>
                  <a:arcTo wR="10800" hR="10800" stAng="-5464854" swAng="5446860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29092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441400" y="1476000"/>
              <a:ext cx="298440" cy="890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7994" swAng="5484192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7994" swAng="5484192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541760" y="2706840"/>
              <a:ext cx="299880" cy="2203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5" name=""/>
            <p:cNvGrpSpPr/>
            <p:nvPr/>
          </p:nvGrpSpPr>
          <p:grpSpPr>
            <a:xfrm>
              <a:off x="4833720" y="1017720"/>
              <a:ext cx="598680" cy="336240"/>
              <a:chOff x="4833720" y="1017720"/>
              <a:chExt cx="598680" cy="336240"/>
            </a:xfrm>
          </p:grpSpPr>
          <p:sp>
            <p:nvSpPr>
              <p:cNvPr id="256" name=""/>
              <p:cNvSpPr/>
              <p:nvPr/>
            </p:nvSpPr>
            <p:spPr>
              <a:xfrm>
                <a:off x="5198760" y="1204920"/>
                <a:ext cx="233640" cy="149040"/>
              </a:xfrm>
              <a:custGeom>
                <a:avLst/>
                <a:gdLst/>
                <a:ahLst/>
                <a:rect l="l" t="t" r="r" b="b"/>
                <a:pathLst>
                  <a:path w="147" h="94">
                    <a:moveTo>
                      <a:pt x="147" y="94"/>
                    </a:moveTo>
                    <a:lnTo>
                      <a:pt x="0" y="47"/>
                    </a:lnTo>
                    <a:lnTo>
                      <a:pt x="21" y="23"/>
                    </a:lnTo>
                    <a:lnTo>
                      <a:pt x="42" y="0"/>
                    </a:lnTo>
                    <a:lnTo>
                      <a:pt x="147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4833720" y="1017720"/>
                <a:ext cx="39852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8" name=""/>
            <p:cNvGrpSpPr/>
            <p:nvPr/>
          </p:nvGrpSpPr>
          <p:grpSpPr>
            <a:xfrm>
              <a:off x="4833720" y="2475000"/>
              <a:ext cx="598680" cy="334800"/>
              <a:chOff x="4833720" y="2475000"/>
              <a:chExt cx="598680" cy="334800"/>
            </a:xfrm>
          </p:grpSpPr>
          <p:sp>
            <p:nvSpPr>
              <p:cNvPr id="259" name=""/>
              <p:cNvSpPr/>
              <p:nvPr/>
            </p:nvSpPr>
            <p:spPr>
              <a:xfrm>
                <a:off x="4833720" y="2660760"/>
                <a:ext cx="216000" cy="149040"/>
              </a:xfrm>
              <a:custGeom>
                <a:avLst/>
                <a:gdLst/>
                <a:ahLst/>
                <a:rect l="l" t="t" r="r" b="b"/>
                <a:pathLst>
                  <a:path w="136" h="94">
                    <a:moveTo>
                      <a:pt x="0" y="94"/>
                    </a:moveTo>
                    <a:lnTo>
                      <a:pt x="94" y="0"/>
                    </a:lnTo>
                    <a:lnTo>
                      <a:pt x="115" y="24"/>
                    </a:lnTo>
                    <a:lnTo>
                      <a:pt x="136" y="47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flipH="1">
                <a:off x="5016240" y="2475000"/>
                <a:ext cx="41616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5331240" y="181440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977840" y="113832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977840" y="203364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4" name=""/>
            <p:cNvGrpSpPr/>
            <p:nvPr/>
          </p:nvGrpSpPr>
          <p:grpSpPr>
            <a:xfrm>
              <a:off x="2054160" y="1353960"/>
              <a:ext cx="115920" cy="671760"/>
              <a:chOff x="2054160" y="1353960"/>
              <a:chExt cx="115920" cy="671760"/>
            </a:xfrm>
          </p:grpSpPr>
          <p:sp>
            <p:nvSpPr>
              <p:cNvPr id="265" name=""/>
              <p:cNvSpPr/>
              <p:nvPr/>
            </p:nvSpPr>
            <p:spPr>
              <a:xfrm>
                <a:off x="2054160" y="1839960"/>
                <a:ext cx="115920" cy="185760"/>
              </a:xfrm>
              <a:custGeom>
                <a:avLst/>
                <a:gdLst/>
                <a:ahLst/>
                <a:rect l="l" t="t" r="r" b="b"/>
                <a:pathLst>
                  <a:path w="73" h="117">
                    <a:moveTo>
                      <a:pt x="42" y="117"/>
                    </a:moveTo>
                    <a:lnTo>
                      <a:pt x="0" y="0"/>
                    </a:lnTo>
                    <a:lnTo>
                      <a:pt x="42" y="0"/>
                    </a:lnTo>
                    <a:lnTo>
                      <a:pt x="73" y="0"/>
                    </a:lnTo>
                    <a:lnTo>
                      <a:pt x="42" y="1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2120760" y="1353960"/>
                <a:ext cx="1440" cy="4860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7" name=""/>
            <p:cNvSpPr/>
            <p:nvPr/>
          </p:nvSpPr>
          <p:spPr>
            <a:xfrm>
              <a:off x="3963240" y="188928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477400" y="187632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7145640" y="181440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7274520" y="188928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367600" y="429876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496480" y="437364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019600" y="537516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148480" y="545004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383440" y="588024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529960" y="594216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88760" y="2438280"/>
              <a:ext cx="26326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I/O, assignment,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or procedure cal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781800" y="3014640"/>
              <a:ext cx="178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if-then-el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989040" y="3048120"/>
              <a:ext cx="1201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if-then</a:t>
              </a:r>
              <a:r>
                <a:rPr b="0" lang="it-IT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264320" y="6138720"/>
              <a:ext cx="173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while loop</a:t>
              </a:r>
              <a:r>
                <a:rPr b="0" lang="it-IT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969160" y="4538520"/>
              <a:ext cx="2367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wo sequential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atements</a:t>
              </a:r>
              <a:r>
                <a:rPr b="0" lang="it-IT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2" name=""/>
          <p:cNvSpPr/>
          <p:nvPr/>
        </p:nvSpPr>
        <p:spPr>
          <a:xfrm>
            <a:off x="1165320" y="249120"/>
            <a:ext cx="718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ontrol graph construction ru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19E73-ACD7-4920-A66C-91E1DCFBFD7C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impl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" name=""/>
          <p:cNvSpPr/>
          <p:nvPr/>
        </p:nvSpPr>
        <p:spPr>
          <a:xfrm>
            <a:off x="622080" y="2057400"/>
            <a:ext cx="824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 sequence of edges can be collapsed into just one 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044880" y="276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762120" y="2819520"/>
            <a:ext cx="7548480" cy="3294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FF30C-32A7-4AFB-A401-B101A299209A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453600" y="1371600"/>
            <a:ext cx="4258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ad (x); read (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hile x ≠ y loo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&gt; y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 := x - y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y := y - 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cd : = 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648320" y="2819520"/>
            <a:ext cx="9144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483000" y="182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5181480" y="1143000"/>
            <a:ext cx="3476880" cy="510552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/>
          <p:nvPr/>
        </p:nvSpPr>
        <p:spPr>
          <a:xfrm>
            <a:off x="1215360" y="249120"/>
            <a:ext cx="608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xemple: Euclid's algorith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1D498-84E4-44A2-8FC2-1D59B357733C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eakn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" name=""/>
          <p:cNvSpPr/>
          <p:nvPr/>
        </p:nvSpPr>
        <p:spPr>
          <a:xfrm>
            <a:off x="614160" y="609480"/>
            <a:ext cx="74912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und := false; counter :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hile (not found) and counter </a:t>
            </a:r>
            <a:r>
              <a:rPr b="0" lang="it-IT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&lt;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number_of_items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table (counter) = desired_element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und :=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unter := counter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found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the desired el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n the table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the desired el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 no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n the table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07000" y="5181480"/>
            <a:ext cx="8579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st cases: (1) empty table, (2) table with 3 items, second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is the item to look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 not discover error (&lt; instead of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≤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1B1EA-2354-440F-99A6-AA35E615E7F3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dition-coverage 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lect a test set T such that every edge of P’s control flow is traversed and all possible values of the constituents of compound conditions are exercised at least o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is finer than edge cover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2A179-3010-4837-942B-F8285803EDAA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eakn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"/>
          <p:cNvSpPr/>
          <p:nvPr/>
        </p:nvSpPr>
        <p:spPr>
          <a:xfrm>
            <a:off x="3823920" y="2743200"/>
            <a:ext cx="5068080" cy="1557000"/>
          </a:xfrm>
          <a:prstGeom prst="rect">
            <a:avLst/>
          </a:pr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{&lt;x = 0, z = 1&gt;, &lt;x = 1, z = 3&gt;}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auses the execution of all edge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ut fails to expose the risk of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ivision by zero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987120" y="1523880"/>
            <a:ext cx="2430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≠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y := 5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z - 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z &gt; 1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z / 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0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571C2-50C0-43F1-A555-9A21C6FCA3AE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ath-coverage 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lect a test set T which traverses all paths from the initial to the final node of P’s control fl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is finer than previous kinds of cover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ever, number of paths may be too large, or even infinite (see while loop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tional constraints must be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181FC-0193-4E32-81B8-07EEFA9347E6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infeasibility proble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ctically indicated behaviors (statements, edges, etc.) are often im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reachable code, infeasible edges, paths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equacy criteria may be impossible to satisf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ual justification for omitting each impossible test c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equacy “scores” based on coverag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ample: 95% statement cover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1F57D-D6A6-424A-BB61-37583D3D7DD2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urther proble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at if the code omits the implementation of some part of the specificatio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ite box test cases derived from the code will ignore that part of the specificatio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6EE1C-8F94-4206-879F-3884B8E0490E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lack box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990720" y="388620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rives test cases from specif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439A1-8D84-4A21-8971-A95CE0843CC5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perties of ver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y not be binary (OK, not OK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rity of defect is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defects may be toler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y be subjective or objecti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us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mplicit qualities should be ver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cause requirements are often incomple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robust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3E21D-00E0-49A5-BAD4-FC873D5AD6B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spec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"/>
          <p:cNvSpPr/>
          <p:nvPr/>
        </p:nvSpPr>
        <p:spPr>
          <a:xfrm>
            <a:off x="340560" y="1905120"/>
            <a:ext cx="81770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program receives as input a record describ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 invoice. (A detailed description of the format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record is given.) The invoice must be inser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to a file of invoices that is sorted by date. The invoi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ust be inserted in the appropriate position: If oth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voices exist in the file with the same date, then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voice should be inserted after the last one. Also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ome consistency checks must be performed: The progra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hould verify whether the customer is already in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rresponding file of customers, whether the customer’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ata in the two files match, etc.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A3739-0197-4E3A-8D8F-A6FAA7E913ED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d you consider these cases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"/>
          <p:cNvSpPr/>
          <p:nvPr/>
        </p:nvSpPr>
        <p:spPr>
          <a:xfrm>
            <a:off x="-67320" y="1828800"/>
            <a:ext cx="9423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 invoice whose date is the current 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 invoice whose date is before the current 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(This might be even forbidden by la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is case, in turn, can be split into the tw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llowing subcas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 invoice whose date is the same as tha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ome existing invoi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 invoice whose date does not exist in an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eviously recorded invo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everal incorrect invoices, checking different types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consistenc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60E4C-4110-473F-8E05-2C43FD27419F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stematic black-box techniqu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0948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ing driven by logic specifications (pre and postcondition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ntax-driven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ision table based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use-effect graph based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F786F-1BAF-4DC1-9ADF-9B794641CDD3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1267920" y="304920"/>
            <a:ext cx="682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Logic specification of insertio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of invoice record in a fi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95200" y="1752480"/>
            <a:ext cx="86266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r all x in Invoices, f in Invoice_Fi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sorted_by_date(f) and not exist j, k (j ≠ k and f(j) =f(k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sert(x, 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sorted_by_date(f)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r all k (old_f(k) = z implies exists j (f(j) = z))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r all k (f(k) = z and z ≠ x) implies exists j (old_f(j) = z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xists j (f(j). date = x. date and f(j) ≠ x)  implies j &lt; pos(x, f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sul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.customer belongs_to customer_file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arning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x belongs_to old_f 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.date &lt; current_date 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.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D235B-BEB0-4DED-A6F1-F82AF16FEBE4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192960" y="990720"/>
            <a:ext cx="84027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RUE impli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orted_by_date(f) and for all k old_f(k) = z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mplies exists j (f(j) = z)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r all k (f(k) = z and z ≠ x) implies exists j (old_f(j) = z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x.customer belongs_to customer_file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mpli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ot (x.customer belongs_to customer_file  a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..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mplies not resu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 belongs_to old_y implies war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.date &lt; current_date implies war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546200" y="152280"/>
            <a:ext cx="6342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y coverage criterion to postcondition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write in a more convenient way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8DCAC-3C1E-4BE1-B990-501F6D302FA0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ntax-driven testing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sider testing an interpreter of the follow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"/>
          <p:cNvSpPr/>
          <p:nvPr/>
        </p:nvSpPr>
        <p:spPr>
          <a:xfrm>
            <a:off x="424440" y="3436920"/>
            <a:ext cx="7210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expression&gt; ::= &lt;expression&gt; + &lt;term&gt;|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expression&gt; - &lt;term&gt; | &lt;term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term&gt; ::= &lt;term&gt; * &lt;factor&gt; | &lt;term&gt; /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factor&gt; | &lt;facto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factor&gt; ::= ident | ( &lt;expression&gt;)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EDFC4-0959-432F-AC7E-DB8BB665632F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ntax-driven testing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pply complete coverage principle to all grammar r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Generate a test case for each rule of the gramm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e, however that the test case might also cover other 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e: the specification is formal, and test generation can be automa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0539C-B8DC-4700-B26F-7BBFCE3EA221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cision-table-based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New Century Schlbk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word-processor may present portions of text in three different formats: plain text (p), boldface (b), italics (i). The following commands may be applied to each portion of text: make text plain (P), make boldface (B), make italics (I), emphasize (E), super emphasize (SE). Commands are available to dynamically set E to mean either B or I (we denote such commands as E=B and E=I, respectively.) Similarly, SE can be dynamically set to mean either B (command SE=B) or I (command SE=I), or B and I (command SE=B+I.)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61897-7757-4D89-BC48-4C053D293DAA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5" name=""/>
          <p:cNvGraphicFramePr/>
          <p:nvPr/>
        </p:nvGraphicFramePr>
        <p:xfrm>
          <a:off x="1143000" y="142920"/>
          <a:ext cx="6172200" cy="5918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42920"/>
                    <a:ext cx="6172200" cy="591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21E2B-48B4-4B19-9E3C-74CBE35CDAEB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use effect graph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28" name=""/>
          <p:cNvGraphicFramePr/>
          <p:nvPr/>
        </p:nvGraphicFramePr>
        <p:xfrm>
          <a:off x="1981080" y="1219320"/>
          <a:ext cx="5164200" cy="3403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1219320"/>
                    <a:ext cx="5164200" cy="34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0" name=""/>
          <p:cNvSpPr/>
          <p:nvPr/>
        </p:nvSpPr>
        <p:spPr>
          <a:xfrm>
            <a:off x="254880" y="5105520"/>
            <a:ext cx="882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D/OR graph represents the correspondence betw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uses an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9EC55-DA0A-4058-BA0E-C1A5DFC4E169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pproaches to ver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periment with behavior of produ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ple behaviors via te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al is to find "counterexamples"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techn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alyze product to deduce its adequ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ytic study of proper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c techn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420C5-435B-4CBF-AB5A-9EC38603632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urther constrai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" name=""/>
          <p:cNvSpPr/>
          <p:nvPr/>
        </p:nvSpPr>
        <p:spPr>
          <a:xfrm>
            <a:off x="522000" y="982800"/>
            <a:ext cx="8044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Both B and I exclude P (i.e., one cannot ask both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plain text and, say, italics for the same portion of text.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E and SE are mutually exclusive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3" name=""/>
          <p:cNvGraphicFramePr/>
          <p:nvPr/>
        </p:nvGraphicFramePr>
        <p:xfrm>
          <a:off x="1447920" y="2209680"/>
          <a:ext cx="5106960" cy="4152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2209680"/>
                    <a:ext cx="5106960" cy="415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5" name=""/>
          <p:cNvSpPr/>
          <p:nvPr/>
        </p:nvSpPr>
        <p:spPr>
          <a:xfrm>
            <a:off x="745920" y="2479680"/>
            <a:ext cx="1072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m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945600" y="2174760"/>
            <a:ext cx="1038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le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94000" y="4384800"/>
            <a:ext cx="1756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 and on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565440" y="4232160"/>
            <a:ext cx="116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319000" y="4384800"/>
            <a:ext cx="94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s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4FFB9-F1C7-4502-8D98-44946769E895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0" name=""/>
          <p:cNvGraphicFramePr/>
          <p:nvPr/>
        </p:nvGraphicFramePr>
        <p:xfrm>
          <a:off x="457200" y="884160"/>
          <a:ext cx="8191440" cy="4630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884160"/>
                    <a:ext cx="8191440" cy="463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2" name=""/>
          <p:cNvSpPr/>
          <p:nvPr/>
        </p:nvSpPr>
        <p:spPr>
          <a:xfrm>
            <a:off x="3565440" y="5680080"/>
            <a:ext cx="329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m Y = X implies not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A87A8-8424-4208-A70C-ADF1E0AC0A22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verage 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enerate all possible input combinations and check outpu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y reduce the number by going backwards from outpu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 node with true output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input combinations with only one true in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D node with false output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input combinations with only one false in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AC614-B04B-4792-BE33-23A5024DCABB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ing boundary condi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ing criteria partition input domain in classes, assuming that behavior is "similar" for all data within a cla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ome typical programming errors, however, just happen to be at the boundary between different 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A6C2B-A07D-41B5-9575-3012674231D5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fter partitioning the input domain D into several classes, test the program using input values not only “inside” the classes, but also at their bound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is applies to both white-box and black-box techniq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E653F-B7C4-45BE-A2B6-5C680DC32948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oracle proble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How to inspect the results of test executions to reveal fail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acles are required at each stage of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utomated test oracles are required for running large amounts of tes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acles are difficult to design - no universal recip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EB6B5-CC4C-4E60-AD26-516B085ED880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ing in the larg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ule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sting a single modu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gration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ation of modules and sub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stem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sting the entir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ceptance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ed by the cust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EE3A0-DFED-42F0-ACDF-2975BB8F94DE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e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caffolding needed to create the environment in which the module should be tes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ub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ules used by the module under t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r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ule activating the module under t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67368-3905-4B62-BB73-1A19D1C73DDF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ing a functional modu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6" name=""/>
          <p:cNvSpPr/>
          <p:nvPr/>
        </p:nvSpPr>
        <p:spPr>
          <a:xfrm>
            <a:off x="2389320" y="254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7" name="" descr=""/>
          <p:cNvPicPr/>
          <p:nvPr/>
        </p:nvPicPr>
        <p:blipFill>
          <a:blip r:embed="rId1"/>
          <a:stretch/>
        </p:blipFill>
        <p:spPr>
          <a:xfrm>
            <a:off x="838080" y="2590920"/>
            <a:ext cx="7516800" cy="3030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29D53-D18A-44A1-933D-E133C64C01F1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gration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g-bang approa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test individual modules in iso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test integrat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cremental approa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s are progressively integrated and te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proceed both top-down and bottom-up according to the USES re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681E4-FA01-4954-BE8D-F87AE43179AB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ing and lack of "continuity"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ing samples behaviors by examining "test cases"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ossible to extrapolate behavior of software from a finite set of test ca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 continuity of behavi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can exhibit correct behavior in infinitely many cases, but may still be incorrect in some c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628CB-ABBD-4D2C-9640-943ABBD9D72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gration testing and USES rel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1692000" y="27781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606760" y="2701800"/>
            <a:ext cx="76176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2758680" y="39211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673440" y="3844800"/>
            <a:ext cx="7621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692360" y="3844800"/>
            <a:ext cx="76176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11840" y="23623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1449720" y="3429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354480" y="35053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440440" y="4572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4268880" y="46483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698000" y="2514600"/>
            <a:ext cx="37454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integration and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ed bottom-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wise, if we proce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p-down only stubs 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F8AC5-F8E3-4391-9B20-DA706978549C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>
            <a:off x="2747880" y="2884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1"/>
          <a:stretch/>
        </p:blipFill>
        <p:spPr>
          <a:xfrm>
            <a:off x="1143000" y="631800"/>
            <a:ext cx="6321600" cy="1886040"/>
          </a:xfrm>
          <a:prstGeom prst="rect">
            <a:avLst/>
          </a:prstGeom>
          <a:ln w="0">
            <a:noFill/>
          </a:ln>
        </p:spPr>
      </p:pic>
      <p:sp>
        <p:nvSpPr>
          <p:cNvPr id="374" name=""/>
          <p:cNvSpPr/>
          <p:nvPr/>
        </p:nvSpPr>
        <p:spPr>
          <a:xfrm>
            <a:off x="3623040" y="228600"/>
            <a:ext cx="201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26680" y="2514600"/>
            <a:ext cx="786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1 USES M2 and M2 IS_COMPOSED_OF {M2,1, M2,2}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60240" y="3048120"/>
            <a:ext cx="794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providing a stub fo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a driver fo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n provide an implementation fo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,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a stub fo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,2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84000" y="4267080"/>
            <a:ext cx="8309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,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test it by using a driver,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,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test the combination of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,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,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i.e., M2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 using a dri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ally, impl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test it with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using a driver fo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1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9B3C9-F108-4091-87A2-3186952CFD5A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ing OO progr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w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nheri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generi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olymorph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ynamic bi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pen problems still exi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E8ABF-ABA6-4ACC-9F12-F68F70822BC5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herita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1" name=""/>
          <p:cNvSpPr/>
          <p:nvPr/>
        </p:nvSpPr>
        <p:spPr>
          <a:xfrm>
            <a:off x="1978200" y="218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990360" y="1981080"/>
            <a:ext cx="7456680" cy="3521160"/>
            <a:chOff x="990360" y="1981080"/>
            <a:chExt cx="7456680" cy="3521160"/>
          </a:xfrm>
        </p:grpSpPr>
        <p:sp>
          <p:nvSpPr>
            <p:cNvPr id="383" name=""/>
            <p:cNvSpPr/>
            <p:nvPr/>
          </p:nvSpPr>
          <p:spPr>
            <a:xfrm>
              <a:off x="990360" y="198108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579760" y="1994040"/>
              <a:ext cx="2079720" cy="70308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1003320" y="3389400"/>
              <a:ext cx="20970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133880" y="3389400"/>
              <a:ext cx="210024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733920" y="4800600"/>
              <a:ext cx="20844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003320" y="4784760"/>
              <a:ext cx="20970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2979720" y="2149560"/>
              <a:ext cx="129528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954880" y="2141640"/>
              <a:ext cx="10249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Personnel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014720" y="2141640"/>
              <a:ext cx="572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403280" y="3540240"/>
              <a:ext cx="154620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366560" y="3537000"/>
              <a:ext cx="1108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Consultan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2579400" y="356544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4538520" y="3540240"/>
              <a:ext cx="134640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4520880" y="3537000"/>
              <a:ext cx="997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Employe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554440" y="356544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528920" y="4935600"/>
              <a:ext cx="127764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496160" y="4930920"/>
              <a:ext cx="919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Manage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2441520" y="496080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608280" y="4973760"/>
              <a:ext cx="254484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749760" y="5029200"/>
              <a:ext cx="2044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Administartive_Staff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5398920" y="497376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6229440" y="4784760"/>
              <a:ext cx="20844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6488280" y="4935600"/>
              <a:ext cx="195876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474240" y="4948200"/>
              <a:ext cx="9532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Technical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497000" y="4930920"/>
              <a:ext cx="595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ookman"/>
                </a:rPr>
                <a:t>_Staf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8137440" y="497844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776680" y="2700360"/>
              <a:ext cx="203040" cy="181080"/>
            </a:xfrm>
            <a:custGeom>
              <a:avLst/>
              <a:gdLst/>
              <a:ahLst/>
              <a:rect l="l" t="t" r="r" b="b"/>
              <a:pathLst>
                <a:path w="128" h="114">
                  <a:moveTo>
                    <a:pt x="55" y="114"/>
                  </a:moveTo>
                  <a:lnTo>
                    <a:pt x="36" y="101"/>
                  </a:lnTo>
                  <a:lnTo>
                    <a:pt x="19" y="82"/>
                  </a:lnTo>
                  <a:lnTo>
                    <a:pt x="9" y="63"/>
                  </a:lnTo>
                  <a:lnTo>
                    <a:pt x="0" y="41"/>
                  </a:lnTo>
                  <a:lnTo>
                    <a:pt x="128" y="0"/>
                  </a:lnTo>
                  <a:lnTo>
                    <a:pt x="55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 flipV="1">
              <a:off x="2049480" y="2808360"/>
              <a:ext cx="754200" cy="5731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767040" y="2700360"/>
              <a:ext cx="216000" cy="163440"/>
            </a:xfrm>
            <a:custGeom>
              <a:avLst/>
              <a:gdLst/>
              <a:ahLst/>
              <a:rect l="l" t="t" r="r" b="b"/>
              <a:pathLst>
                <a:path w="136" h="103">
                  <a:moveTo>
                    <a:pt x="136" y="19"/>
                  </a:moveTo>
                  <a:lnTo>
                    <a:pt x="130" y="44"/>
                  </a:lnTo>
                  <a:lnTo>
                    <a:pt x="120" y="65"/>
                  </a:lnTo>
                  <a:lnTo>
                    <a:pt x="106" y="87"/>
                  </a:lnTo>
                  <a:lnTo>
                    <a:pt x="90" y="103"/>
                  </a:lnTo>
                  <a:lnTo>
                    <a:pt x="0" y="0"/>
                  </a:lnTo>
                  <a:lnTo>
                    <a:pt x="136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 flipH="1" flipV="1">
              <a:off x="3927600" y="2773080"/>
              <a:ext cx="1109520" cy="6080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4465800" y="4095720"/>
              <a:ext cx="214200" cy="138240"/>
            </a:xfrm>
            <a:custGeom>
              <a:avLst/>
              <a:gdLst/>
              <a:ahLst/>
              <a:rect l="l" t="t" r="r" b="b"/>
              <a:pathLst>
                <a:path w="135" h="87">
                  <a:moveTo>
                    <a:pt x="32" y="87"/>
                  </a:moveTo>
                  <a:lnTo>
                    <a:pt x="19" y="68"/>
                  </a:lnTo>
                  <a:lnTo>
                    <a:pt x="8" y="46"/>
                  </a:lnTo>
                  <a:lnTo>
                    <a:pt x="2" y="25"/>
                  </a:lnTo>
                  <a:lnTo>
                    <a:pt x="0" y="0"/>
                  </a:lnTo>
                  <a:lnTo>
                    <a:pt x="135" y="0"/>
                  </a:lnTo>
                  <a:lnTo>
                    <a:pt x="32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 flipV="1">
              <a:off x="2695680" y="4151160"/>
              <a:ext cx="1785960" cy="6256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864400" y="4095720"/>
              <a:ext cx="210960" cy="160200"/>
            </a:xfrm>
            <a:custGeom>
              <a:avLst/>
              <a:gdLst/>
              <a:ahLst/>
              <a:rect l="l" t="t" r="r" b="b"/>
              <a:pathLst>
                <a:path w="133" h="101">
                  <a:moveTo>
                    <a:pt x="133" y="19"/>
                  </a:moveTo>
                  <a:lnTo>
                    <a:pt x="127" y="41"/>
                  </a:lnTo>
                  <a:lnTo>
                    <a:pt x="119" y="63"/>
                  </a:lnTo>
                  <a:lnTo>
                    <a:pt x="106" y="84"/>
                  </a:lnTo>
                  <a:lnTo>
                    <a:pt x="89" y="101"/>
                  </a:lnTo>
                  <a:lnTo>
                    <a:pt x="0" y="0"/>
                  </a:lnTo>
                  <a:lnTo>
                    <a:pt x="133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 flipH="1" flipV="1">
              <a:off x="6022440" y="4168440"/>
              <a:ext cx="1111320" cy="6080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878360" y="4095720"/>
              <a:ext cx="198360" cy="189000"/>
            </a:xfrm>
            <a:custGeom>
              <a:avLst/>
              <a:gdLst/>
              <a:ahLst/>
              <a:rect l="l" t="t" r="r" b="b"/>
              <a:pathLst>
                <a:path w="125" h="119">
                  <a:moveTo>
                    <a:pt x="62" y="119"/>
                  </a:moveTo>
                  <a:lnTo>
                    <a:pt x="41" y="109"/>
                  </a:lnTo>
                  <a:lnTo>
                    <a:pt x="24" y="92"/>
                  </a:lnTo>
                  <a:lnTo>
                    <a:pt x="11" y="73"/>
                  </a:lnTo>
                  <a:lnTo>
                    <a:pt x="0" y="52"/>
                  </a:lnTo>
                  <a:lnTo>
                    <a:pt x="125" y="0"/>
                  </a:lnTo>
                  <a:lnTo>
                    <a:pt x="62" y="1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 flipV="1">
              <a:off x="4270320" y="4203720"/>
              <a:ext cx="642960" cy="5731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C130C-865E-410C-BE64-3156DF740356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to test classes of the hierarchy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lattening” the whole hierarchy and considering every class as a totally independent componen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exploit increment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nding an ad-hoc way to take advantage of the hierarch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101B3-7EB3-4CF1-B3DF-6E0C2A00F784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sample strateg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test that does not have to be repeated for any he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test that must be performed for heir class X and all of its further hei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test that must be redone by applying the same input data, but verifying that the output is not (or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) chan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test that must be modified by adding other input parameters and verifying that the output changes according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803E6-1399-483F-9EC1-EECF6EE0DDA5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parate concerns in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ing for functionality is not enoug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load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obustness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gression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rganize testing with the purpose of verifying possibl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regression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of software during its life—that is, degradations of correctness or other qualities due to later modification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E3E00-170C-4682-A2A9-159C7FDE6201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ing concurrent and real-time syste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ndeterminism inherent in concurrency affects repeatabi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 real-time systems,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 test case consists not only of input data, but also of the times when such data are supplied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A887E-A66F-4C17-BC3F-1BF011E0C375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alysi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12D62-C636-4BBD-9B95-D88DDF71169A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alysis vs.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esting characterizes 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ingl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execu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nalysis characterizes 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las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of executions; it is based on 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ode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y have complementary advantages and disadvant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D606A-D914-4D73-9108-D46A7B248B16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ification in engineer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mple of bridge desig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test assures infinite correct situ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"/>
          <p:cNvSpPr/>
          <p:nvPr/>
        </p:nvSpPr>
        <p:spPr>
          <a:xfrm>
            <a:off x="1981080" y="4673520"/>
            <a:ext cx="4800600" cy="889200"/>
          </a:xfrm>
          <a:custGeom>
            <a:avLst/>
            <a:gdLst/>
            <a:ahLst/>
            <a:rect l="l" t="t" r="r" b="b"/>
            <a:pathLst>
              <a:path w="3024" h="560">
                <a:moveTo>
                  <a:pt x="0" y="560"/>
                </a:moveTo>
                <a:cubicBezTo>
                  <a:pt x="284" y="388"/>
                  <a:pt x="568" y="216"/>
                  <a:pt x="816" y="128"/>
                </a:cubicBezTo>
                <a:cubicBezTo>
                  <a:pt x="1064" y="40"/>
                  <a:pt x="1264" y="40"/>
                  <a:pt x="1488" y="32"/>
                </a:cubicBezTo>
                <a:cubicBezTo>
                  <a:pt x="1712" y="24"/>
                  <a:pt x="1904" y="0"/>
                  <a:pt x="2160" y="80"/>
                </a:cubicBezTo>
                <a:cubicBezTo>
                  <a:pt x="2416" y="160"/>
                  <a:pt x="2720" y="336"/>
                  <a:pt x="3024" y="51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914040" y="55627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6781680" y="5486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267080" y="3657600"/>
            <a:ext cx="457200" cy="1066680"/>
          </a:xfrm>
          <a:prstGeom prst="downArrow">
            <a:avLst>
              <a:gd name="adj1" fmla="val 50000"/>
              <a:gd name="adj2" fmla="val 5832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72AF2-CC9A-4C5E-8790-887DAFD90D6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formal analysis techniqu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e walkthrough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ommended prescri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number of people (three to fiv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articipants receive written documentation from the designer a few days before the mee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edefined duration of meeting (a few hour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cus on 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iscover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of errors, not on fixing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articipants: designer, moderator, and a secret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ster cooperation; no evaluation of peop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xperience shows that most errors are discovered by the designer during the presentation, while trying to explain the design to other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77A05-D94D-4E72-97C6-69B70479AADF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formal analysis techniqu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e inspec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reading technique aiming at error discove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ased on checklists; e.g.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use of uninitialized variables;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jumps into loops;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onterminating loops;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rray indexes out of bounds;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3FF41-DA7B-4CE0-A4A9-0D663D889B1B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rrectness proof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6E066-393E-4444-9624-2D5E2EBEB2EE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program and its specification (Hoare notation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8" name=""/>
          <p:cNvSpPr/>
          <p:nvPr/>
        </p:nvSpPr>
        <p:spPr>
          <a:xfrm>
            <a:off x="2414520" y="2548080"/>
            <a:ext cx="39816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{true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ead (a); read (b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x := a + b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rite (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{output = input1 + input2}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974880" y="5410080"/>
            <a:ext cx="711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proof by backwards substitu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BD0C0-1B8A-4B9F-82FF-4AE4C0A21627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of ru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1" name=""/>
          <p:cNvSpPr/>
          <p:nvPr/>
        </p:nvSpPr>
        <p:spPr>
          <a:xfrm>
            <a:off x="457200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57200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819520" y="4038480"/>
            <a:ext cx="2133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3505320"/>
            <a:ext cx="4572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laim1, Claim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laim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222480" y="1905120"/>
            <a:ext cx="783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74560" indent="-574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4560" indent="-574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f Claim 1 and Claim 2 have been proven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4560" indent="-574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one ca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educe Claim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4F325-2541-4A09-BBB7-0090F238BF16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of rules for a languag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7" name=""/>
          <p:cNvSpPr/>
          <p:nvPr/>
        </p:nvSpPr>
        <p:spPr>
          <a:xfrm>
            <a:off x="1676520" y="1905120"/>
            <a:ext cx="4572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{F1}S1{F2}, {F2}S2{F3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{F1}S1;S2{F3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1752480" y="2438280"/>
            <a:ext cx="3200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5361480" y="2014560"/>
            <a:ext cx="155520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42720" y="3581280"/>
            <a:ext cx="779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Pre and cond} S1 {Post},{Pre and not cond} S2 {Post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Pre} if cond then S1 ; else S 2 ; end if; {Post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396720" y="4005360"/>
            <a:ext cx="769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680880" y="3124080"/>
            <a:ext cx="178992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-then-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6606720" y="4648320"/>
            <a:ext cx="140904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-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79520" y="4800600"/>
            <a:ext cx="6999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I and cond} S {I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I} while cond loop S; end loop; {I and not cond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701640" y="5224320"/>
            <a:ext cx="6629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1005840" y="5791320"/>
            <a:ext cx="2266920" cy="459720"/>
          </a:xfrm>
          <a:prstGeom prst="rect">
            <a:avLst/>
          </a:prstGeom>
          <a:noFill/>
          <a:ln w="763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oop invari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081EC-2317-4E3F-8D86-BE4DD3B7CA5A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rrectness proof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rtial correct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idity of {Pre} Program {Post} guarantees that if the Pre holds before the execution of Program,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and if the program ever termina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, then Post will be achie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tal correct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 guarantees Program’s termination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and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truth of P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These problems are undecidable!!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632B2-5F55-4E68-B1E3-BC4B2DC6AE3C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0" name=""/>
          <p:cNvSpPr/>
          <p:nvPr/>
        </p:nvSpPr>
        <p:spPr>
          <a:xfrm>
            <a:off x="821160" y="1785960"/>
            <a:ext cx="61351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input1 &gt; 0 and input2 &gt; 0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read (x); read (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iv := 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while x =y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iv := div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x := x - y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write (div); write (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input1 = output1 * input2 + output2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0 =output2 &lt; input2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90516-34CE-4D13-8DD2-A8CF6E0C876E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vention of loop invaria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09480" y="21337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fficult and creative ste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not be constructed automatical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the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put1 = div * y + x and x =0 and y = input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FD14C-4478-45EA-90A4-77BDB1876277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grams with array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4" name=""/>
          <p:cNvSpPr/>
          <p:nvPr/>
        </p:nvSpPr>
        <p:spPr>
          <a:xfrm>
            <a:off x="1321560" y="2395440"/>
            <a:ext cx="44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{Pre} a(i) := expression; {Post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66440" y="3309840"/>
            <a:ext cx="6900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P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eno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the assertion obtained from Pos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by substituting every occurrence of an index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variable a(j) by the te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f j = i then expression else a(j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0DF42-DED2-42C9-8650-668DB8154850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568440" y="609480"/>
            <a:ext cx="753228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rocedure binary-search (key: in elemen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able: in elementTable; found: out Boolean) 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beg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bottom := table'first; top := table'las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bottom &lt; top lo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(bottom + top) rem 2 ≠ 0 t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middle := (bottom + top - 1) / 2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middle := (bottom + top) / 2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key ≤ table (middle) t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op := middl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bottom := middle + 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found := key = table (top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binary-se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239880" y="2319480"/>
            <a:ext cx="2818800" cy="228852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we omit 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out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if the 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never hi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.e. if size of tab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 power of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5409720" y="3200400"/>
            <a:ext cx="762120" cy="763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16101-C403-4F33-BDE5-B6528DB1B27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7" name=""/>
          <p:cNvSpPr/>
          <p:nvPr/>
        </p:nvSpPr>
        <p:spPr>
          <a:xfrm>
            <a:off x="916560" y="685800"/>
            <a:ext cx="7562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n =1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 := 1; j :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found := fals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while i =n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f table (i) = x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found :=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 := i +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table (j) := table (i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 := i + 1; j := j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n := j -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not exists m (1 =m =n and table (m) = x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found =exists m (1 =m =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old_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n and 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old_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table (m) = x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932360" y="1447920"/>
            <a:ext cx="3792600" cy="1922760"/>
          </a:xfrm>
          <a:prstGeom prst="rect">
            <a:avLst/>
          </a:prstGeom>
          <a:noFill/>
          <a:ln cap="rnd" w="7632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old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_tab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old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_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constants deno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g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values of table and of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before execu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of the program frag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21BEA-AF4F-45D3-B74F-7AF6AC8E15D9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rrectness proof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be done by using the following loop invaria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{(j =i) and (i =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old_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 + 1) an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not exists m (1 =m &lt; j an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ble (m) = x)) and (n =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old_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) 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nd = exists m (1 =m &lt; i and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old_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ble(m) = x)}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17B68-261E-4CE2-87DA-4C031075B55C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rrectness proofs             in the larg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can prove correctness of operations (e.g., operations on an abstract data typ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n use the result of the proof in proving fragments that operate on objects of the AD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C5EAE-AFB6-4F45-8F0C-C2890C93062F}" type="slidenum">
              <a:t>8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4" name=""/>
          <p:cNvSpPr/>
          <p:nvPr/>
        </p:nvSpPr>
        <p:spPr>
          <a:xfrm>
            <a:off x="277920" y="1371600"/>
            <a:ext cx="85932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module TABL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x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type Table_Type (max_size: NATURAL): ?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no more than max_size entries may b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stored in a table;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u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ser modules must guarantee 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procedure Insert (Table: in out TableType 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LEMENT: i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lementTyp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procedure Delete (Table: in out TableType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LEMENT: i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lementTyp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function Size (Table: in Table_Type) return NATURA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provides the current size of a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nd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B4D28-3E98-41D4-8D3F-278040BE71C9}" type="slidenum">
              <a:t>8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/>
          <p:nvPr/>
        </p:nvSpPr>
        <p:spPr>
          <a:xfrm>
            <a:off x="1473840" y="1252440"/>
            <a:ext cx="36417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true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elete (Table, Element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Elemen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Table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Size (Table) &lt; max_size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nsert (Table, Elem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Elemen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Table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496080" y="566640"/>
            <a:ext cx="31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ving proved the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803680" y="2278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339120" y="4071960"/>
            <a:ext cx="8114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can then prove properties of programs using t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example, that after executing the sequen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ert(T, 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ete(T, 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 is not present in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260D1-8AD4-47E5-8449-CE4C812971B3}" type="slidenum">
              <a:t>8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n assessment of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orrectness proof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not used in practi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e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used for very critical por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ertions may be the basis for a systematic way of inserting runtime che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ofs may become more practical as more powerful support tools are develop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nowledge of correctness theory helps programmers being rigoro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2C3E9-E7EB-4288-945F-D7BD8201D328}" type="slidenum">
              <a:t>8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ic execu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be viewed as a middle way between testing and analys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s the program on symbolic val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e symbolic execution corresponds to many actual execu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083DF-E187-454E-9DA4-F513028F3864}" type="slidenum">
              <a:t>8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701640" y="19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4" name=""/>
          <p:cNvSpPr/>
          <p:nvPr/>
        </p:nvSpPr>
        <p:spPr>
          <a:xfrm>
            <a:off x="384480" y="1981080"/>
            <a:ext cx="63255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ider executing the following frag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x=X, y=Y, a=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x := y + 2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f x &gt; a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a := a + 2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y := x + 3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x := x + a + y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3406680" y="21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4439160" y="1260360"/>
            <a:ext cx="3713400" cy="4987800"/>
            <a:chOff x="4439160" y="1260360"/>
            <a:chExt cx="3713400" cy="4987800"/>
          </a:xfrm>
        </p:grpSpPr>
        <p:sp>
          <p:nvSpPr>
            <p:cNvPr id="487" name=""/>
            <p:cNvSpPr/>
            <p:nvPr/>
          </p:nvSpPr>
          <p:spPr>
            <a:xfrm>
              <a:off x="6664680" y="172692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796000" y="360720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7920000" y="369288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7103520" y="540216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7045200" y="1726920"/>
              <a:ext cx="10476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x := y + 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4439160" y="3436560"/>
              <a:ext cx="10753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 := a + 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6919560" y="3265560"/>
              <a:ext cx="10476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y := x + 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5348520" y="5402160"/>
              <a:ext cx="14652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x := x + a + 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7346880" y="2222280"/>
              <a:ext cx="5601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x &gt; 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6767280" y="4853880"/>
              <a:ext cx="367560" cy="3862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784200" y="2268000"/>
              <a:ext cx="367920" cy="3862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6750360" y="5861880"/>
              <a:ext cx="367560" cy="3862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6820200" y="1260360"/>
              <a:ext cx="367560" cy="3848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0" name=""/>
            <p:cNvGrpSpPr/>
            <p:nvPr/>
          </p:nvGrpSpPr>
          <p:grpSpPr>
            <a:xfrm>
              <a:off x="6881040" y="1653840"/>
              <a:ext cx="139320" cy="622440"/>
              <a:chOff x="6881040" y="1653840"/>
              <a:chExt cx="139320" cy="622440"/>
            </a:xfrm>
          </p:grpSpPr>
          <p:sp>
            <p:nvSpPr>
              <p:cNvPr id="501" name=""/>
              <p:cNvSpPr/>
              <p:nvPr/>
            </p:nvSpPr>
            <p:spPr>
              <a:xfrm>
                <a:off x="6881040" y="2002320"/>
                <a:ext cx="139320" cy="273960"/>
              </a:xfrm>
              <a:custGeom>
                <a:avLst/>
                <a:gdLst/>
                <a:ahLst/>
                <a:rect l="l" t="t" r="r" b="b"/>
                <a:pathLst>
                  <a:path w="82" h="154">
                    <a:moveTo>
                      <a:pt x="41" y="154"/>
                    </a:moveTo>
                    <a:lnTo>
                      <a:pt x="0" y="0"/>
                    </a:lnTo>
                    <a:lnTo>
                      <a:pt x="41" y="0"/>
                    </a:lnTo>
                    <a:lnTo>
                      <a:pt x="82" y="0"/>
                    </a:lnTo>
                    <a:lnTo>
                      <a:pt x="41" y="1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6950520" y="1653840"/>
                <a:ext cx="1800" cy="3484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3" name=""/>
            <p:cNvGrpSpPr/>
            <p:nvPr/>
          </p:nvGrpSpPr>
          <p:grpSpPr>
            <a:xfrm>
              <a:off x="6864120" y="5229720"/>
              <a:ext cx="139320" cy="604800"/>
              <a:chOff x="6864120" y="5229720"/>
              <a:chExt cx="139320" cy="604800"/>
            </a:xfrm>
          </p:grpSpPr>
          <p:sp>
            <p:nvSpPr>
              <p:cNvPr id="504" name=""/>
              <p:cNvSpPr/>
              <p:nvPr/>
            </p:nvSpPr>
            <p:spPr>
              <a:xfrm>
                <a:off x="6864120" y="5560560"/>
                <a:ext cx="139320" cy="273960"/>
              </a:xfrm>
              <a:custGeom>
                <a:avLst/>
                <a:gdLst/>
                <a:ahLst/>
                <a:rect l="l" t="t" r="r" b="b"/>
                <a:pathLst>
                  <a:path w="82" h="154">
                    <a:moveTo>
                      <a:pt x="41" y="154"/>
                    </a:moveTo>
                    <a:lnTo>
                      <a:pt x="0" y="0"/>
                    </a:lnTo>
                    <a:lnTo>
                      <a:pt x="41" y="0"/>
                    </a:lnTo>
                    <a:lnTo>
                      <a:pt x="82" y="0"/>
                    </a:lnTo>
                    <a:lnTo>
                      <a:pt x="41" y="1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6933600" y="5229720"/>
                <a:ext cx="1440" cy="3308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6" name=""/>
            <p:cNvSpPr/>
            <p:nvPr/>
          </p:nvSpPr>
          <p:spPr>
            <a:xfrm>
              <a:off x="5786280" y="2620080"/>
              <a:ext cx="1364760" cy="2416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10" y="21600"/>
                  </a:moveTo>
                  <a:arcTo wR="10800" hR="10800" stAng="5428724" swAng="539153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10" y="21600"/>
                  </a:moveTo>
                  <a:arcTo wR="10800" hR="10800" stAng="5428724" swAng="5391530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7" name=""/>
            <p:cNvGrpSpPr/>
            <p:nvPr/>
          </p:nvGrpSpPr>
          <p:grpSpPr>
            <a:xfrm>
              <a:off x="6443640" y="4955400"/>
              <a:ext cx="331560" cy="127800"/>
              <a:chOff x="6443640" y="4955400"/>
              <a:chExt cx="331560" cy="127800"/>
            </a:xfrm>
          </p:grpSpPr>
          <p:sp>
            <p:nvSpPr>
              <p:cNvPr id="508" name=""/>
              <p:cNvSpPr/>
              <p:nvPr/>
            </p:nvSpPr>
            <p:spPr>
              <a:xfrm>
                <a:off x="6530400" y="4955400"/>
                <a:ext cx="244800" cy="127800"/>
              </a:xfrm>
              <a:custGeom>
                <a:avLst/>
                <a:gdLst/>
                <a:ahLst/>
                <a:rect l="l" t="t" r="r" b="b"/>
                <a:pathLst>
                  <a:path w="144" h="72">
                    <a:moveTo>
                      <a:pt x="144" y="41"/>
                    </a:moveTo>
                    <a:lnTo>
                      <a:pt x="0" y="72"/>
                    </a:lnTo>
                    <a:lnTo>
                      <a:pt x="0" y="41"/>
                    </a:lnTo>
                    <a:lnTo>
                      <a:pt x="0" y="0"/>
                    </a:lnTo>
                    <a:lnTo>
                      <a:pt x="144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6443640" y="5028120"/>
                <a:ext cx="8676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0" name=""/>
            <p:cNvSpPr/>
            <p:nvPr/>
          </p:nvSpPr>
          <p:spPr>
            <a:xfrm>
              <a:off x="5769360" y="2506680"/>
              <a:ext cx="1960920" cy="2567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7"/>
                  </a:moveTo>
                  <a:arcTo wR="10800" hR="10800" stAng="-10783213" swAng="5362223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7"/>
                  </a:moveTo>
                  <a:arcTo wR="10800" hR="10800" stAng="-10783213" swAng="5362223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1" name=""/>
            <p:cNvGrpSpPr/>
            <p:nvPr/>
          </p:nvGrpSpPr>
          <p:grpSpPr>
            <a:xfrm>
              <a:off x="7126200" y="4937400"/>
              <a:ext cx="331200" cy="127800"/>
              <a:chOff x="7126200" y="4937400"/>
              <a:chExt cx="331200" cy="127800"/>
            </a:xfrm>
          </p:grpSpPr>
          <p:sp>
            <p:nvSpPr>
              <p:cNvPr id="512" name=""/>
              <p:cNvSpPr/>
              <p:nvPr/>
            </p:nvSpPr>
            <p:spPr>
              <a:xfrm>
                <a:off x="7126200" y="4937400"/>
                <a:ext cx="244800" cy="127800"/>
              </a:xfrm>
              <a:custGeom>
                <a:avLst/>
                <a:gdLst/>
                <a:ahLst/>
                <a:rect l="l" t="t" r="r" b="b"/>
                <a:pathLst>
                  <a:path w="144" h="72">
                    <a:moveTo>
                      <a:pt x="0" y="41"/>
                    </a:moveTo>
                    <a:lnTo>
                      <a:pt x="144" y="0"/>
                    </a:lnTo>
                    <a:lnTo>
                      <a:pt x="144" y="41"/>
                    </a:lnTo>
                    <a:lnTo>
                      <a:pt x="144" y="72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 flipH="1">
                <a:off x="7370640" y="5010120"/>
                <a:ext cx="8676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4" name=""/>
            <p:cNvSpPr/>
            <p:nvPr/>
          </p:nvSpPr>
          <p:spPr>
            <a:xfrm>
              <a:off x="6190560" y="2524680"/>
              <a:ext cx="1960200" cy="2567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22" y="0"/>
                  </a:moveTo>
                  <a:arcTo wR="10800" hR="10800" stAng="-5424945" swAng="5407929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22" y="0"/>
                  </a:moveTo>
                  <a:arcTo wR="10800" hR="10800" stAng="-5424945" swAng="5407929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6784560" y="2599200"/>
              <a:ext cx="1368000" cy="241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6"/>
                  </a:moveTo>
                  <a:arcTo wR="10800" hR="10800" stAng="-17173" swAng="5451589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6"/>
                  </a:moveTo>
                  <a:arcTo wR="10800" hR="10800" stAng="-17173" swAng="5451589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80BD5-2E8F-4D91-9AB5-C64FE4A501FF}" type="slidenum">
              <a:t>8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n control reaches the conditional, symbolic values do not allow execution to select a bran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e can choose a branch, and record the choice in 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ath condi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sult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&lt;{a = A, y = Y + 5, x = 2 * Y + A + 7}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&lt;1, 3, 4&gt;, Y + 2 ≤ A&gt;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"/>
          <p:cNvSpPr/>
          <p:nvPr/>
        </p:nvSpPr>
        <p:spPr>
          <a:xfrm>
            <a:off x="1143000" y="548640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971800" y="54864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071720" y="5443560"/>
            <a:ext cx="158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797200" y="5443560"/>
            <a:ext cx="226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th cond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B8141-98ED-47C1-BA08-4715F0CF100E}" type="slidenum">
              <a:t>8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ic execution rules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read (x)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removes any existing binding for x and adds  binding x = X, where X is a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ewly introduce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symbolic val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rite (expression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 algn="just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utput(n) = computed_symbolic_value (n counter initialized to 1 and automatically incremented after each output state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4" name=""/>
          <p:cNvSpPr/>
          <p:nvPr/>
        </p:nvSpPr>
        <p:spPr>
          <a:xfrm>
            <a:off x="92880" y="1143000"/>
            <a:ext cx="8935920" cy="825480"/>
          </a:xfrm>
          <a:prstGeom prst="rect">
            <a:avLst/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ymbolic sta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&lt;symbolic_variable_values, execution_path, path_condition&gt;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A665E-DA18-49A5-A4EB-33C583431993}" type="slidenum">
              <a:t>8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oals of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show th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esenc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of bugs (Dijkstra, 1987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tests do detect failures, we cannot conclude that software is defect-fre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, we need to do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riven by sound and systematic princip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87048-E272-4469-91F1-D6FB8A5D3E8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ic execution rules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x:= expression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struct symbolic value of expression, SV; replace previous binding for x with x = S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fter execution of the last statement of a sequence that corresponds to an edge of control graph, append the edge to execution pat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AABD9-8786-4AE1-947C-385CEC2AA2FC}" type="slidenum">
              <a:t>9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ic execution rules (3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f cond then S1; else S2; endif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cond loop…end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dition is symbolically evaluate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val (cond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f eval (cond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true or false then execution proceeds by following the appropriate bran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therwise, make nondeterministic choice of true or false, and conjoin eval (cond) (resp.,  not eval (cond)) to the path cond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AB082-7502-4759-9A3C-1CDC88036724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grams with array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Let A1 be the symbolic value of array a when statement a(i)= exp is execu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n, after execution of the statement, a receives the new symbolic value A2, denoted as A2 = A1&lt;i, exp&gt;, a shorthand f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 k if k = i then A2(k) = exp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A2(k) = A1(k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0866E-B22A-471D-AC28-86335836DFDE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ic execution of concurrent progr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2" name=""/>
          <p:cNvSpPr/>
          <p:nvPr/>
        </p:nvSpPr>
        <p:spPr>
          <a:xfrm>
            <a:off x="2446200" y="211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3813120" y="2365200"/>
            <a:ext cx="504720" cy="503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3821040" y="2373480"/>
            <a:ext cx="541440" cy="539640"/>
          </a:xfrm>
          <a:prstGeom prst="ellipse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1601640" y="4695840"/>
            <a:ext cx="111456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3726000" y="1808280"/>
            <a:ext cx="71424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1619280" y="2365200"/>
            <a:ext cx="522360" cy="503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1609560" y="2373480"/>
            <a:ext cx="559080" cy="539640"/>
          </a:xfrm>
          <a:prstGeom prst="ellipse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5432400" y="2365200"/>
            <a:ext cx="504720" cy="503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5475240" y="2373480"/>
            <a:ext cx="541440" cy="539640"/>
          </a:xfrm>
          <a:prstGeom prst="ellipse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85160" y="2365200"/>
            <a:ext cx="506160" cy="503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128000" y="2373480"/>
            <a:ext cx="541080" cy="539640"/>
          </a:xfrm>
          <a:prstGeom prst="ellipse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4091040" y="4695840"/>
            <a:ext cx="109692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6024600" y="4695840"/>
            <a:ext cx="109548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4042440" y="1447920"/>
            <a:ext cx="2225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message_recep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3244680" y="4952880"/>
            <a:ext cx="10353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ok_pa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6832440" y="4324320"/>
            <a:ext cx="10353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ok_pa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2263680" y="4343400"/>
            <a:ext cx="3970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no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2588400" y="4343400"/>
            <a:ext cx="1175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ok_pa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0" name=""/>
          <p:cNvGrpSpPr/>
          <p:nvPr/>
        </p:nvGrpSpPr>
        <p:grpSpPr>
          <a:xfrm>
            <a:off x="1881360" y="2903400"/>
            <a:ext cx="172800" cy="1792440"/>
            <a:chOff x="1881360" y="2903400"/>
            <a:chExt cx="172800" cy="1792440"/>
          </a:xfrm>
        </p:grpSpPr>
        <p:sp>
          <p:nvSpPr>
            <p:cNvPr id="551" name=""/>
            <p:cNvSpPr/>
            <p:nvPr/>
          </p:nvSpPr>
          <p:spPr>
            <a:xfrm>
              <a:off x="1949400" y="4468680"/>
              <a:ext cx="104760" cy="227160"/>
            </a:xfrm>
            <a:custGeom>
              <a:avLst/>
              <a:gdLst/>
              <a:ahLst/>
              <a:rect l="l" t="t" r="r" b="b"/>
              <a:pathLst>
                <a:path w="66" h="143">
                  <a:moveTo>
                    <a:pt x="44" y="143"/>
                  </a:moveTo>
                  <a:lnTo>
                    <a:pt x="0" y="11"/>
                  </a:lnTo>
                  <a:lnTo>
                    <a:pt x="22" y="11"/>
                  </a:lnTo>
                  <a:lnTo>
                    <a:pt x="66" y="0"/>
                  </a:lnTo>
                  <a:lnTo>
                    <a:pt x="44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1881360" y="2903400"/>
              <a:ext cx="102960" cy="15829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3" name=""/>
          <p:cNvGrpSpPr/>
          <p:nvPr/>
        </p:nvGrpSpPr>
        <p:grpSpPr>
          <a:xfrm>
            <a:off x="2176560" y="2643120"/>
            <a:ext cx="104760" cy="2052720"/>
            <a:chOff x="2176560" y="2643120"/>
            <a:chExt cx="104760" cy="2052720"/>
          </a:xfrm>
        </p:grpSpPr>
        <p:sp>
          <p:nvSpPr>
            <p:cNvPr id="554" name=""/>
            <p:cNvSpPr/>
            <p:nvPr/>
          </p:nvSpPr>
          <p:spPr>
            <a:xfrm>
              <a:off x="2176560" y="4486320"/>
              <a:ext cx="104760" cy="209520"/>
            </a:xfrm>
            <a:custGeom>
              <a:avLst/>
              <a:gdLst/>
              <a:ahLst/>
              <a:rect l="l" t="t" r="r" b="b"/>
              <a:pathLst>
                <a:path w="66" h="132">
                  <a:moveTo>
                    <a:pt x="44" y="132"/>
                  </a:moveTo>
                  <a:lnTo>
                    <a:pt x="0" y="0"/>
                  </a:lnTo>
                  <a:lnTo>
                    <a:pt x="44" y="0"/>
                  </a:lnTo>
                  <a:lnTo>
                    <a:pt x="66" y="0"/>
                  </a:lnTo>
                  <a:lnTo>
                    <a:pt x="44" y="1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2246400" y="2643120"/>
              <a:ext cx="1440" cy="18432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6" name=""/>
          <p:cNvGrpSpPr/>
          <p:nvPr/>
        </p:nvGrpSpPr>
        <p:grpSpPr>
          <a:xfrm>
            <a:off x="4091040" y="2903400"/>
            <a:ext cx="401760" cy="1792440"/>
            <a:chOff x="4091040" y="2903400"/>
            <a:chExt cx="401760" cy="1792440"/>
          </a:xfrm>
        </p:grpSpPr>
        <p:sp>
          <p:nvSpPr>
            <p:cNvPr id="557" name=""/>
            <p:cNvSpPr/>
            <p:nvPr/>
          </p:nvSpPr>
          <p:spPr>
            <a:xfrm>
              <a:off x="4387680" y="4468680"/>
              <a:ext cx="105120" cy="227160"/>
            </a:xfrm>
            <a:custGeom>
              <a:avLst/>
              <a:gdLst/>
              <a:ahLst/>
              <a:rect l="l" t="t" r="r" b="b"/>
              <a:pathLst>
                <a:path w="66" h="143">
                  <a:moveTo>
                    <a:pt x="66" y="143"/>
                  </a:moveTo>
                  <a:lnTo>
                    <a:pt x="0" y="22"/>
                  </a:lnTo>
                  <a:lnTo>
                    <a:pt x="33" y="11"/>
                  </a:lnTo>
                  <a:lnTo>
                    <a:pt x="66" y="0"/>
                  </a:lnTo>
                  <a:lnTo>
                    <a:pt x="66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4091040" y="2903400"/>
              <a:ext cx="349200" cy="15829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9" name=""/>
          <p:cNvGrpSpPr/>
          <p:nvPr/>
        </p:nvGrpSpPr>
        <p:grpSpPr>
          <a:xfrm>
            <a:off x="4770360" y="2782800"/>
            <a:ext cx="696960" cy="1913040"/>
            <a:chOff x="4770360" y="2782800"/>
            <a:chExt cx="696960" cy="1913040"/>
          </a:xfrm>
        </p:grpSpPr>
        <p:sp>
          <p:nvSpPr>
            <p:cNvPr id="560" name=""/>
            <p:cNvSpPr/>
            <p:nvPr/>
          </p:nvSpPr>
          <p:spPr>
            <a:xfrm>
              <a:off x="4770360" y="4468680"/>
              <a:ext cx="122400" cy="227160"/>
            </a:xfrm>
            <a:custGeom>
              <a:avLst/>
              <a:gdLst/>
              <a:ahLst/>
              <a:rect l="l" t="t" r="r" b="b"/>
              <a:pathLst>
                <a:path w="77" h="143">
                  <a:moveTo>
                    <a:pt x="0" y="143"/>
                  </a:moveTo>
                  <a:lnTo>
                    <a:pt x="11" y="0"/>
                  </a:lnTo>
                  <a:lnTo>
                    <a:pt x="44" y="11"/>
                  </a:lnTo>
                  <a:lnTo>
                    <a:pt x="77" y="33"/>
                  </a:lnTo>
                  <a:lnTo>
                    <a:pt x="0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 flipH="1">
              <a:off x="4840200" y="2782800"/>
              <a:ext cx="627120" cy="17035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2" name=""/>
          <p:cNvGrpSpPr/>
          <p:nvPr/>
        </p:nvGrpSpPr>
        <p:grpSpPr>
          <a:xfrm>
            <a:off x="4370400" y="2782800"/>
            <a:ext cx="2192400" cy="1913040"/>
            <a:chOff x="4370400" y="2782800"/>
            <a:chExt cx="2192400" cy="1913040"/>
          </a:xfrm>
        </p:grpSpPr>
        <p:sp>
          <p:nvSpPr>
            <p:cNvPr id="563" name=""/>
            <p:cNvSpPr/>
            <p:nvPr/>
          </p:nvSpPr>
          <p:spPr>
            <a:xfrm>
              <a:off x="6372360" y="4521240"/>
              <a:ext cx="190440" cy="174600"/>
            </a:xfrm>
            <a:custGeom>
              <a:avLst/>
              <a:gdLst/>
              <a:ahLst/>
              <a:rect l="l" t="t" r="r" b="b"/>
              <a:pathLst>
                <a:path w="120" h="110">
                  <a:moveTo>
                    <a:pt x="120" y="110"/>
                  </a:moveTo>
                  <a:lnTo>
                    <a:pt x="0" y="44"/>
                  </a:lnTo>
                  <a:lnTo>
                    <a:pt x="22" y="11"/>
                  </a:lnTo>
                  <a:lnTo>
                    <a:pt x="33" y="0"/>
                  </a:lnTo>
                  <a:lnTo>
                    <a:pt x="120" y="1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4370400" y="2782800"/>
              <a:ext cx="2036880" cy="17557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5" name=""/>
          <p:cNvGrpSpPr/>
          <p:nvPr/>
        </p:nvGrpSpPr>
        <p:grpSpPr>
          <a:xfrm>
            <a:off x="6684840" y="2643120"/>
            <a:ext cx="434880" cy="2052720"/>
            <a:chOff x="6684840" y="2643120"/>
            <a:chExt cx="434880" cy="2052720"/>
          </a:xfrm>
        </p:grpSpPr>
        <p:sp>
          <p:nvSpPr>
            <p:cNvPr id="566" name=""/>
            <p:cNvSpPr/>
            <p:nvPr/>
          </p:nvSpPr>
          <p:spPr>
            <a:xfrm>
              <a:off x="6684840" y="4468680"/>
              <a:ext cx="104760" cy="227160"/>
            </a:xfrm>
            <a:custGeom>
              <a:avLst/>
              <a:gdLst/>
              <a:ahLst/>
              <a:rect l="l" t="t" r="r" b="b"/>
              <a:pathLst>
                <a:path w="66" h="143">
                  <a:moveTo>
                    <a:pt x="11" y="143"/>
                  </a:moveTo>
                  <a:lnTo>
                    <a:pt x="0" y="0"/>
                  </a:lnTo>
                  <a:lnTo>
                    <a:pt x="33" y="11"/>
                  </a:lnTo>
                  <a:lnTo>
                    <a:pt x="66" y="22"/>
                  </a:lnTo>
                  <a:lnTo>
                    <a:pt x="11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 flipH="1">
              <a:off x="6737040" y="2643120"/>
              <a:ext cx="382680" cy="18432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8" name=""/>
          <p:cNvSpPr/>
          <p:nvPr/>
        </p:nvSpPr>
        <p:spPr>
          <a:xfrm>
            <a:off x="1881360" y="5391000"/>
            <a:ext cx="522000" cy="503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1889280" y="5398920"/>
            <a:ext cx="556920" cy="540000"/>
          </a:xfrm>
          <a:prstGeom prst="ellipse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4335480" y="5391000"/>
            <a:ext cx="504720" cy="503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4378320" y="5398920"/>
            <a:ext cx="541440" cy="540000"/>
          </a:xfrm>
          <a:prstGeom prst="ellipse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6249960" y="5391000"/>
            <a:ext cx="522360" cy="503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6292800" y="5398920"/>
            <a:ext cx="558720" cy="540000"/>
          </a:xfrm>
          <a:prstGeom prst="ellipse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1243080" y="2057400"/>
            <a:ext cx="893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hann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5" name=""/>
          <p:cNvGrpSpPr/>
          <p:nvPr/>
        </p:nvGrpSpPr>
        <p:grpSpPr>
          <a:xfrm>
            <a:off x="4021200" y="1808280"/>
            <a:ext cx="104760" cy="556920"/>
            <a:chOff x="4021200" y="1808280"/>
            <a:chExt cx="104760" cy="556920"/>
          </a:xfrm>
        </p:grpSpPr>
        <p:sp>
          <p:nvSpPr>
            <p:cNvPr id="576" name=""/>
            <p:cNvSpPr/>
            <p:nvPr/>
          </p:nvSpPr>
          <p:spPr>
            <a:xfrm>
              <a:off x="4021200" y="2138400"/>
              <a:ext cx="104760" cy="226800"/>
            </a:xfrm>
            <a:custGeom>
              <a:avLst/>
              <a:gdLst/>
              <a:ahLst/>
              <a:rect l="l" t="t" r="r" b="b"/>
              <a:pathLst>
                <a:path w="66" h="143">
                  <a:moveTo>
                    <a:pt x="44" y="143"/>
                  </a:moveTo>
                  <a:lnTo>
                    <a:pt x="0" y="0"/>
                  </a:lnTo>
                  <a:lnTo>
                    <a:pt x="44" y="0"/>
                  </a:lnTo>
                  <a:lnTo>
                    <a:pt x="66" y="0"/>
                  </a:lnTo>
                  <a:lnTo>
                    <a:pt x="44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4091040" y="1808280"/>
              <a:ext cx="1440" cy="3301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8" name=""/>
          <p:cNvSpPr/>
          <p:nvPr/>
        </p:nvSpPr>
        <p:spPr>
          <a:xfrm>
            <a:off x="5205600" y="2057400"/>
            <a:ext cx="893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hann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6958080" y="2057400"/>
            <a:ext cx="893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hann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0" name=""/>
          <p:cNvGrpSpPr/>
          <p:nvPr/>
        </p:nvGrpSpPr>
        <p:grpSpPr>
          <a:xfrm>
            <a:off x="4578480" y="4695840"/>
            <a:ext cx="104760" cy="695160"/>
            <a:chOff x="4578480" y="4695840"/>
            <a:chExt cx="104760" cy="695160"/>
          </a:xfrm>
        </p:grpSpPr>
        <p:sp>
          <p:nvSpPr>
            <p:cNvPr id="581" name=""/>
            <p:cNvSpPr/>
            <p:nvPr/>
          </p:nvSpPr>
          <p:spPr>
            <a:xfrm>
              <a:off x="4578480" y="5164200"/>
              <a:ext cx="104760" cy="226800"/>
            </a:xfrm>
            <a:custGeom>
              <a:avLst/>
              <a:gdLst/>
              <a:ahLst/>
              <a:rect l="l" t="t" r="r" b="b"/>
              <a:pathLst>
                <a:path w="66" h="143">
                  <a:moveTo>
                    <a:pt x="33" y="143"/>
                  </a:moveTo>
                  <a:lnTo>
                    <a:pt x="0" y="0"/>
                  </a:lnTo>
                  <a:lnTo>
                    <a:pt x="33" y="0"/>
                  </a:lnTo>
                  <a:lnTo>
                    <a:pt x="66" y="0"/>
                  </a:lnTo>
                  <a:lnTo>
                    <a:pt x="33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630680" y="4695840"/>
              <a:ext cx="1800" cy="4683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3" name=""/>
          <p:cNvGrpSpPr/>
          <p:nvPr/>
        </p:nvGrpSpPr>
        <p:grpSpPr>
          <a:xfrm>
            <a:off x="6512040" y="4695840"/>
            <a:ext cx="102960" cy="695160"/>
            <a:chOff x="6512040" y="4695840"/>
            <a:chExt cx="102960" cy="695160"/>
          </a:xfrm>
        </p:grpSpPr>
        <p:sp>
          <p:nvSpPr>
            <p:cNvPr id="584" name=""/>
            <p:cNvSpPr/>
            <p:nvPr/>
          </p:nvSpPr>
          <p:spPr>
            <a:xfrm>
              <a:off x="6512040" y="5164200"/>
              <a:ext cx="102960" cy="226800"/>
            </a:xfrm>
            <a:custGeom>
              <a:avLst/>
              <a:gdLst/>
              <a:ahLst/>
              <a:rect l="l" t="t" r="r" b="b"/>
              <a:pathLst>
                <a:path w="65" h="143">
                  <a:moveTo>
                    <a:pt x="32" y="143"/>
                  </a:moveTo>
                  <a:lnTo>
                    <a:pt x="0" y="0"/>
                  </a:lnTo>
                  <a:lnTo>
                    <a:pt x="32" y="0"/>
                  </a:lnTo>
                  <a:lnTo>
                    <a:pt x="65" y="0"/>
                  </a:lnTo>
                  <a:lnTo>
                    <a:pt x="32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562800" y="4695840"/>
              <a:ext cx="1440" cy="4683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6" name=""/>
          <p:cNvSpPr/>
          <p:nvPr/>
        </p:nvSpPr>
        <p:spPr>
          <a:xfrm>
            <a:off x="984960" y="4800600"/>
            <a:ext cx="1235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end_n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4626360" y="4711680"/>
            <a:ext cx="1093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end_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6558480" y="4711680"/>
            <a:ext cx="1093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end_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784080" y="5668920"/>
            <a:ext cx="109728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0" name=""/>
          <p:cNvGrpSpPr/>
          <p:nvPr/>
        </p:nvGrpSpPr>
        <p:grpSpPr>
          <a:xfrm>
            <a:off x="784080" y="2573280"/>
            <a:ext cx="817560" cy="104760"/>
            <a:chOff x="784080" y="2573280"/>
            <a:chExt cx="817560" cy="104760"/>
          </a:xfrm>
        </p:grpSpPr>
        <p:sp>
          <p:nvSpPr>
            <p:cNvPr id="591" name=""/>
            <p:cNvSpPr/>
            <p:nvPr/>
          </p:nvSpPr>
          <p:spPr>
            <a:xfrm>
              <a:off x="1376280" y="2573280"/>
              <a:ext cx="225360" cy="104760"/>
            </a:xfrm>
            <a:custGeom>
              <a:avLst/>
              <a:gdLst/>
              <a:ahLst/>
              <a:rect l="l" t="t" r="r" b="b"/>
              <a:pathLst>
                <a:path w="142" h="66">
                  <a:moveTo>
                    <a:pt x="142" y="44"/>
                  </a:moveTo>
                  <a:lnTo>
                    <a:pt x="0" y="66"/>
                  </a:lnTo>
                  <a:lnTo>
                    <a:pt x="0" y="44"/>
                  </a:lnTo>
                  <a:lnTo>
                    <a:pt x="0" y="0"/>
                  </a:lnTo>
                  <a:lnTo>
                    <a:pt x="142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784080" y="2643120"/>
              <a:ext cx="592200" cy="1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3" name=""/>
          <p:cNvSpPr/>
          <p:nvPr/>
        </p:nvSpPr>
        <p:spPr>
          <a:xfrm>
            <a:off x="644400" y="4695840"/>
            <a:ext cx="41760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 flipV="1">
            <a:off x="784080" y="2643120"/>
            <a:ext cx="1800" cy="205272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4910040" y="5791320"/>
            <a:ext cx="83520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 flipH="1">
            <a:off x="5484600" y="4468680"/>
            <a:ext cx="55692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7" name=""/>
          <p:cNvGrpSpPr/>
          <p:nvPr/>
        </p:nvGrpSpPr>
        <p:grpSpPr>
          <a:xfrm>
            <a:off x="5675400" y="4486320"/>
            <a:ext cx="104760" cy="1304640"/>
            <a:chOff x="5675400" y="4486320"/>
            <a:chExt cx="104760" cy="1304640"/>
          </a:xfrm>
        </p:grpSpPr>
        <p:sp>
          <p:nvSpPr>
            <p:cNvPr id="598" name=""/>
            <p:cNvSpPr/>
            <p:nvPr/>
          </p:nvSpPr>
          <p:spPr>
            <a:xfrm>
              <a:off x="5675400" y="4486320"/>
              <a:ext cx="104760" cy="277920"/>
            </a:xfrm>
            <a:custGeom>
              <a:avLst/>
              <a:gdLst/>
              <a:ahLst/>
              <a:rect l="l" t="t" r="r" b="b"/>
              <a:pathLst>
                <a:path w="66" h="175">
                  <a:moveTo>
                    <a:pt x="44" y="0"/>
                  </a:moveTo>
                  <a:lnTo>
                    <a:pt x="66" y="175"/>
                  </a:lnTo>
                  <a:lnTo>
                    <a:pt x="44" y="175"/>
                  </a:lnTo>
                  <a:lnTo>
                    <a:pt x="0" y="175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 flipV="1">
              <a:off x="5745240" y="4763880"/>
              <a:ext cx="1440" cy="10270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0" name=""/>
          <p:cNvGrpSpPr/>
          <p:nvPr/>
        </p:nvGrpSpPr>
        <p:grpSpPr>
          <a:xfrm>
            <a:off x="5675400" y="2903400"/>
            <a:ext cx="104760" cy="1565280"/>
            <a:chOff x="5675400" y="2903400"/>
            <a:chExt cx="104760" cy="1565280"/>
          </a:xfrm>
        </p:grpSpPr>
        <p:sp>
          <p:nvSpPr>
            <p:cNvPr id="601" name=""/>
            <p:cNvSpPr/>
            <p:nvPr/>
          </p:nvSpPr>
          <p:spPr>
            <a:xfrm>
              <a:off x="5675400" y="2903400"/>
              <a:ext cx="104760" cy="192240"/>
            </a:xfrm>
            <a:custGeom>
              <a:avLst/>
              <a:gdLst/>
              <a:ahLst/>
              <a:rect l="l" t="t" r="r" b="b"/>
              <a:pathLst>
                <a:path w="66" h="121">
                  <a:moveTo>
                    <a:pt x="44" y="0"/>
                  </a:moveTo>
                  <a:lnTo>
                    <a:pt x="66" y="121"/>
                  </a:lnTo>
                  <a:lnTo>
                    <a:pt x="44" y="121"/>
                  </a:lnTo>
                  <a:lnTo>
                    <a:pt x="0" y="121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 flipV="1">
              <a:off x="5745240" y="3095640"/>
              <a:ext cx="1440" cy="13730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3" name=""/>
          <p:cNvSpPr/>
          <p:nvPr/>
        </p:nvSpPr>
        <p:spPr>
          <a:xfrm>
            <a:off x="6842160" y="5791320"/>
            <a:ext cx="137484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 flipH="1">
            <a:off x="7939080" y="4834080"/>
            <a:ext cx="41760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8164440" y="4834080"/>
            <a:ext cx="104760" cy="956880"/>
            <a:chOff x="8164440" y="4834080"/>
            <a:chExt cx="104760" cy="956880"/>
          </a:xfrm>
        </p:grpSpPr>
        <p:sp>
          <p:nvSpPr>
            <p:cNvPr id="606" name=""/>
            <p:cNvSpPr/>
            <p:nvPr/>
          </p:nvSpPr>
          <p:spPr>
            <a:xfrm>
              <a:off x="8164440" y="4834080"/>
              <a:ext cx="104760" cy="209520"/>
            </a:xfrm>
            <a:custGeom>
              <a:avLst/>
              <a:gdLst/>
              <a:ahLst/>
              <a:rect l="l" t="t" r="r" b="b"/>
              <a:pathLst>
                <a:path w="66" h="132">
                  <a:moveTo>
                    <a:pt x="33" y="0"/>
                  </a:moveTo>
                  <a:lnTo>
                    <a:pt x="66" y="132"/>
                  </a:lnTo>
                  <a:lnTo>
                    <a:pt x="33" y="132"/>
                  </a:lnTo>
                  <a:lnTo>
                    <a:pt x="0" y="132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 flipV="1">
              <a:off x="8217000" y="5043240"/>
              <a:ext cx="1440" cy="7477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8" name=""/>
          <p:cNvSpPr/>
          <p:nvPr/>
        </p:nvSpPr>
        <p:spPr>
          <a:xfrm flipV="1">
            <a:off x="8217000" y="2643120"/>
            <a:ext cx="1440" cy="219096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811160" y="2590920"/>
            <a:ext cx="103320" cy="871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7364520" y="2643120"/>
            <a:ext cx="87120" cy="874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710320" y="2608200"/>
            <a:ext cx="87120" cy="874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2" name=""/>
          <p:cNvGrpSpPr/>
          <p:nvPr/>
        </p:nvGrpSpPr>
        <p:grpSpPr>
          <a:xfrm>
            <a:off x="2298600" y="4695840"/>
            <a:ext cx="417600" cy="1650960"/>
            <a:chOff x="2298600" y="4695840"/>
            <a:chExt cx="417600" cy="1650960"/>
          </a:xfrm>
        </p:grpSpPr>
        <p:sp>
          <p:nvSpPr>
            <p:cNvPr id="613" name=""/>
            <p:cNvSpPr/>
            <p:nvPr/>
          </p:nvSpPr>
          <p:spPr>
            <a:xfrm>
              <a:off x="2593800" y="6121440"/>
              <a:ext cx="122400" cy="225360"/>
            </a:xfrm>
            <a:custGeom>
              <a:avLst/>
              <a:gdLst/>
              <a:ahLst/>
              <a:rect l="l" t="t" r="r" b="b"/>
              <a:pathLst>
                <a:path w="77" h="142">
                  <a:moveTo>
                    <a:pt x="77" y="142"/>
                  </a:moveTo>
                  <a:lnTo>
                    <a:pt x="0" y="22"/>
                  </a:lnTo>
                  <a:lnTo>
                    <a:pt x="33" y="11"/>
                  </a:lnTo>
                  <a:lnTo>
                    <a:pt x="66" y="0"/>
                  </a:lnTo>
                  <a:lnTo>
                    <a:pt x="77" y="1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2298600" y="4695840"/>
              <a:ext cx="347760" cy="14428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5" name=""/>
          <p:cNvGrpSpPr/>
          <p:nvPr/>
        </p:nvGrpSpPr>
        <p:grpSpPr>
          <a:xfrm>
            <a:off x="5972040" y="4695840"/>
            <a:ext cx="172800" cy="1511280"/>
            <a:chOff x="5972040" y="4695840"/>
            <a:chExt cx="172800" cy="1511280"/>
          </a:xfrm>
        </p:grpSpPr>
        <p:sp>
          <p:nvSpPr>
            <p:cNvPr id="616" name=""/>
            <p:cNvSpPr/>
            <p:nvPr/>
          </p:nvSpPr>
          <p:spPr>
            <a:xfrm>
              <a:off x="5972040" y="5981760"/>
              <a:ext cx="103320" cy="225360"/>
            </a:xfrm>
            <a:custGeom>
              <a:avLst/>
              <a:gdLst/>
              <a:ahLst/>
              <a:rect l="l" t="t" r="r" b="b"/>
              <a:pathLst>
                <a:path w="65" h="142">
                  <a:moveTo>
                    <a:pt x="33" y="142"/>
                  </a:moveTo>
                  <a:lnTo>
                    <a:pt x="0" y="0"/>
                  </a:lnTo>
                  <a:lnTo>
                    <a:pt x="33" y="11"/>
                  </a:lnTo>
                  <a:lnTo>
                    <a:pt x="65" y="11"/>
                  </a:lnTo>
                  <a:lnTo>
                    <a:pt x="33" y="1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 flipH="1">
              <a:off x="6024240" y="4695840"/>
              <a:ext cx="120600" cy="13032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8" name=""/>
          <p:cNvSpPr/>
          <p:nvPr/>
        </p:nvSpPr>
        <p:spPr>
          <a:xfrm>
            <a:off x="3033000" y="1828800"/>
            <a:ext cx="8830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 :=  f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2219040" y="4114800"/>
            <a:ext cx="1146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dicat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262320" y="4727520"/>
            <a:ext cx="1146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dicat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 flipH="1">
            <a:off x="2246040" y="2643120"/>
            <a:ext cx="151452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6867360" y="4114800"/>
            <a:ext cx="1146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dicat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3" name=""/>
          <p:cNvGrpSpPr/>
          <p:nvPr/>
        </p:nvGrpSpPr>
        <p:grpSpPr>
          <a:xfrm>
            <a:off x="7624800" y="2590920"/>
            <a:ext cx="557280" cy="122040"/>
            <a:chOff x="7624800" y="2590920"/>
            <a:chExt cx="557280" cy="122040"/>
          </a:xfrm>
        </p:grpSpPr>
        <p:sp>
          <p:nvSpPr>
            <p:cNvPr id="624" name=""/>
            <p:cNvSpPr/>
            <p:nvPr/>
          </p:nvSpPr>
          <p:spPr>
            <a:xfrm>
              <a:off x="7624800" y="2590920"/>
              <a:ext cx="209520" cy="122040"/>
            </a:xfrm>
            <a:custGeom>
              <a:avLst/>
              <a:gdLst/>
              <a:ahLst/>
              <a:rect l="l" t="t" r="r" b="b"/>
              <a:pathLst>
                <a:path w="132" h="77">
                  <a:moveTo>
                    <a:pt x="0" y="33"/>
                  </a:moveTo>
                  <a:lnTo>
                    <a:pt x="132" y="0"/>
                  </a:lnTo>
                  <a:lnTo>
                    <a:pt x="132" y="33"/>
                  </a:lnTo>
                  <a:lnTo>
                    <a:pt x="132" y="77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 flipH="1">
              <a:off x="7834320" y="2643120"/>
              <a:ext cx="347760" cy="1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6" name=""/>
          <p:cNvSpPr/>
          <p:nvPr/>
        </p:nvSpPr>
        <p:spPr>
          <a:xfrm>
            <a:off x="2070720" y="215748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5561640" y="487692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6091920" y="217476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7543080" y="480060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7781040" y="215748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1" name=""/>
          <p:cNvGrpSpPr/>
          <p:nvPr/>
        </p:nvGrpSpPr>
        <p:grpSpPr>
          <a:xfrm>
            <a:off x="696960" y="4695840"/>
            <a:ext cx="122040" cy="973080"/>
            <a:chOff x="696960" y="4695840"/>
            <a:chExt cx="122040" cy="973080"/>
          </a:xfrm>
        </p:grpSpPr>
        <p:sp>
          <p:nvSpPr>
            <p:cNvPr id="632" name=""/>
            <p:cNvSpPr/>
            <p:nvPr/>
          </p:nvSpPr>
          <p:spPr>
            <a:xfrm>
              <a:off x="696960" y="4695840"/>
              <a:ext cx="122040" cy="243000"/>
            </a:xfrm>
            <a:custGeom>
              <a:avLst/>
              <a:gdLst/>
              <a:ahLst/>
              <a:rect l="l" t="t" r="r" b="b"/>
              <a:pathLst>
                <a:path w="77" h="153">
                  <a:moveTo>
                    <a:pt x="44" y="0"/>
                  </a:moveTo>
                  <a:lnTo>
                    <a:pt x="77" y="153"/>
                  </a:lnTo>
                  <a:lnTo>
                    <a:pt x="44" y="153"/>
                  </a:lnTo>
                  <a:lnTo>
                    <a:pt x="0" y="153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 flipV="1">
              <a:off x="766800" y="4938840"/>
              <a:ext cx="1440" cy="7300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4" name=""/>
          <p:cNvGrpSpPr/>
          <p:nvPr/>
        </p:nvGrpSpPr>
        <p:grpSpPr>
          <a:xfrm>
            <a:off x="2089080" y="4695840"/>
            <a:ext cx="122400" cy="695160"/>
            <a:chOff x="2089080" y="4695840"/>
            <a:chExt cx="122400" cy="695160"/>
          </a:xfrm>
        </p:grpSpPr>
        <p:sp>
          <p:nvSpPr>
            <p:cNvPr id="635" name=""/>
            <p:cNvSpPr/>
            <p:nvPr/>
          </p:nvSpPr>
          <p:spPr>
            <a:xfrm>
              <a:off x="2089080" y="5146560"/>
              <a:ext cx="122400" cy="244440"/>
            </a:xfrm>
            <a:custGeom>
              <a:avLst/>
              <a:gdLst/>
              <a:ahLst/>
              <a:rect l="l" t="t" r="r" b="b"/>
              <a:pathLst>
                <a:path w="77" h="154">
                  <a:moveTo>
                    <a:pt x="44" y="154"/>
                  </a:moveTo>
                  <a:lnTo>
                    <a:pt x="0" y="0"/>
                  </a:lnTo>
                  <a:lnTo>
                    <a:pt x="44" y="0"/>
                  </a:lnTo>
                  <a:lnTo>
                    <a:pt x="77" y="0"/>
                  </a:lnTo>
                  <a:lnTo>
                    <a:pt x="44" y="1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158920" y="4695840"/>
              <a:ext cx="1800" cy="4507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7" name=""/>
          <p:cNvGrpSpPr/>
          <p:nvPr/>
        </p:nvGrpSpPr>
        <p:grpSpPr>
          <a:xfrm>
            <a:off x="4021200" y="4695840"/>
            <a:ext cx="436680" cy="1477800"/>
            <a:chOff x="4021200" y="4695840"/>
            <a:chExt cx="436680" cy="1477800"/>
          </a:xfrm>
        </p:grpSpPr>
        <p:sp>
          <p:nvSpPr>
            <p:cNvPr id="638" name=""/>
            <p:cNvSpPr/>
            <p:nvPr/>
          </p:nvSpPr>
          <p:spPr>
            <a:xfrm>
              <a:off x="4021200" y="5911920"/>
              <a:ext cx="122040" cy="261720"/>
            </a:xfrm>
            <a:custGeom>
              <a:avLst/>
              <a:gdLst/>
              <a:ahLst/>
              <a:rect l="l" t="t" r="r" b="b"/>
              <a:pathLst>
                <a:path w="77" h="165">
                  <a:moveTo>
                    <a:pt x="0" y="165"/>
                  </a:moveTo>
                  <a:lnTo>
                    <a:pt x="0" y="0"/>
                  </a:lnTo>
                  <a:lnTo>
                    <a:pt x="33" y="11"/>
                  </a:lnTo>
                  <a:lnTo>
                    <a:pt x="77" y="22"/>
                  </a:lnTo>
                  <a:lnTo>
                    <a:pt x="0" y="1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 flipH="1">
              <a:off x="4073400" y="4695840"/>
              <a:ext cx="384480" cy="12333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1785F-E962-42BC-895A-CBF872387EF3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ssump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implifying assumption: no more than one token in a pl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sequence of atomic steps can be modeled by a firing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is resolves the nondeterminism that is due to several transitions being enab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 triple &lt;symbolic_variable_values, execution_path, path_condition&gt; can be used to model the symbolic state of the interpreter (execution_path is the firing sequen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282B8-D027-4F27-A5F7-71BC2CF8BB0F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ic execution and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path condition describes the data that traverse a certain pat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in testing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bolically execute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hesize data that satisfy the path cond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y will execute that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EFF88-6DD4-436E-BB0F-5481115E1C6C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625320" y="27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5" name=""/>
          <p:cNvSpPr/>
          <p:nvPr/>
        </p:nvSpPr>
        <p:spPr>
          <a:xfrm>
            <a:off x="514440" y="1523880"/>
            <a:ext cx="79912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und := false; counter :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(not found) and counter &lt; number_of_items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f table (counter) = desired_element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und :=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unter := counter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f found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rite ("the desired element exists in the table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rite ("the desired element does not exis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 the table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AACA4-BA98-404A-BC10-2A72B2145189}" type="slidenum">
              <a:t>9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7" name=""/>
          <p:cNvSpPr/>
          <p:nvPr/>
        </p:nvSpPr>
        <p:spPr>
          <a:xfrm>
            <a:off x="257184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3921120" y="1103400"/>
            <a:ext cx="264960" cy="2746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3921120" y="2201760"/>
            <a:ext cx="264960" cy="27324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"/>
          <p:cNvGrpSpPr/>
          <p:nvPr/>
        </p:nvGrpSpPr>
        <p:grpSpPr>
          <a:xfrm>
            <a:off x="3978360" y="1370160"/>
            <a:ext cx="115920" cy="823680"/>
            <a:chOff x="3978360" y="1370160"/>
            <a:chExt cx="115920" cy="823680"/>
          </a:xfrm>
        </p:grpSpPr>
        <p:sp>
          <p:nvSpPr>
            <p:cNvPr id="651" name=""/>
            <p:cNvSpPr/>
            <p:nvPr/>
          </p:nvSpPr>
          <p:spPr>
            <a:xfrm>
              <a:off x="3978360" y="1965240"/>
              <a:ext cx="115920" cy="228600"/>
            </a:xfrm>
            <a:custGeom>
              <a:avLst/>
              <a:gdLst/>
              <a:ahLst/>
              <a:rect l="l" t="t" r="r" b="b"/>
              <a:pathLst>
                <a:path w="73" h="144">
                  <a:moveTo>
                    <a:pt x="42" y="144"/>
                  </a:moveTo>
                  <a:lnTo>
                    <a:pt x="0" y="0"/>
                  </a:lnTo>
                  <a:lnTo>
                    <a:pt x="42" y="0"/>
                  </a:lnTo>
                  <a:lnTo>
                    <a:pt x="73" y="0"/>
                  </a:lnTo>
                  <a:lnTo>
                    <a:pt x="42" y="1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4044960" y="1370160"/>
              <a:ext cx="1440" cy="595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3" name=""/>
          <p:cNvSpPr/>
          <p:nvPr/>
        </p:nvSpPr>
        <p:spPr>
          <a:xfrm>
            <a:off x="5770440" y="5342040"/>
            <a:ext cx="263520" cy="2728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4" name=""/>
          <p:cNvGrpSpPr/>
          <p:nvPr/>
        </p:nvGrpSpPr>
        <p:grpSpPr>
          <a:xfrm>
            <a:off x="5845320" y="4525920"/>
            <a:ext cx="114120" cy="822240"/>
            <a:chOff x="5845320" y="4525920"/>
            <a:chExt cx="114120" cy="822240"/>
          </a:xfrm>
        </p:grpSpPr>
        <p:sp>
          <p:nvSpPr>
            <p:cNvPr id="655" name=""/>
            <p:cNvSpPr/>
            <p:nvPr/>
          </p:nvSpPr>
          <p:spPr>
            <a:xfrm>
              <a:off x="5845320" y="5119560"/>
              <a:ext cx="114120" cy="228600"/>
            </a:xfrm>
            <a:custGeom>
              <a:avLst/>
              <a:gdLst/>
              <a:ahLst/>
              <a:rect l="l" t="t" r="r" b="b"/>
              <a:pathLst>
                <a:path w="72" h="144">
                  <a:moveTo>
                    <a:pt x="41" y="144"/>
                  </a:moveTo>
                  <a:lnTo>
                    <a:pt x="0" y="0"/>
                  </a:lnTo>
                  <a:lnTo>
                    <a:pt x="41" y="0"/>
                  </a:lnTo>
                  <a:lnTo>
                    <a:pt x="72" y="0"/>
                  </a:lnTo>
                  <a:lnTo>
                    <a:pt x="41" y="1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5910120" y="4525920"/>
              <a:ext cx="1800" cy="5936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7" name=""/>
          <p:cNvSpPr/>
          <p:nvPr/>
        </p:nvSpPr>
        <p:spPr>
          <a:xfrm>
            <a:off x="5770440" y="2749680"/>
            <a:ext cx="263520" cy="2746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8" name=""/>
          <p:cNvGrpSpPr/>
          <p:nvPr/>
        </p:nvGrpSpPr>
        <p:grpSpPr>
          <a:xfrm>
            <a:off x="4176720" y="2330280"/>
            <a:ext cx="1585800" cy="549360"/>
            <a:chOff x="4176720" y="2330280"/>
            <a:chExt cx="1585800" cy="549360"/>
          </a:xfrm>
        </p:grpSpPr>
        <p:sp>
          <p:nvSpPr>
            <p:cNvPr id="659" name=""/>
            <p:cNvSpPr/>
            <p:nvPr/>
          </p:nvSpPr>
          <p:spPr>
            <a:xfrm>
              <a:off x="5546880" y="2757600"/>
              <a:ext cx="215640" cy="122040"/>
            </a:xfrm>
            <a:custGeom>
              <a:avLst/>
              <a:gdLst/>
              <a:ahLst/>
              <a:rect l="l" t="t" r="r" b="b"/>
              <a:pathLst>
                <a:path w="136" h="77">
                  <a:moveTo>
                    <a:pt x="136" y="77"/>
                  </a:moveTo>
                  <a:lnTo>
                    <a:pt x="0" y="57"/>
                  </a:lnTo>
                  <a:lnTo>
                    <a:pt x="11" y="29"/>
                  </a:lnTo>
                  <a:lnTo>
                    <a:pt x="21" y="0"/>
                  </a:lnTo>
                  <a:lnTo>
                    <a:pt x="136" y="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4176720" y="2330280"/>
              <a:ext cx="1387440" cy="473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1" name=""/>
          <p:cNvGrpSpPr/>
          <p:nvPr/>
        </p:nvGrpSpPr>
        <p:grpSpPr>
          <a:xfrm>
            <a:off x="5845320" y="3032280"/>
            <a:ext cx="114120" cy="1218960"/>
            <a:chOff x="5845320" y="3032280"/>
            <a:chExt cx="114120" cy="1218960"/>
          </a:xfrm>
        </p:grpSpPr>
        <p:sp>
          <p:nvSpPr>
            <p:cNvPr id="662" name=""/>
            <p:cNvSpPr/>
            <p:nvPr/>
          </p:nvSpPr>
          <p:spPr>
            <a:xfrm>
              <a:off x="5845320" y="4129200"/>
              <a:ext cx="114120" cy="122040"/>
            </a:xfrm>
            <a:custGeom>
              <a:avLst/>
              <a:gdLst/>
              <a:ahLst/>
              <a:rect l="l" t="t" r="r" b="b"/>
              <a:pathLst>
                <a:path w="72" h="77">
                  <a:moveTo>
                    <a:pt x="41" y="77"/>
                  </a:moveTo>
                  <a:lnTo>
                    <a:pt x="0" y="0"/>
                  </a:lnTo>
                  <a:lnTo>
                    <a:pt x="41" y="0"/>
                  </a:lnTo>
                  <a:lnTo>
                    <a:pt x="72" y="0"/>
                  </a:lnTo>
                  <a:lnTo>
                    <a:pt x="41" y="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910120" y="3032280"/>
              <a:ext cx="1800" cy="10969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4" name=""/>
          <p:cNvSpPr/>
          <p:nvPr/>
        </p:nvSpPr>
        <p:spPr>
          <a:xfrm>
            <a:off x="3046320" y="4746600"/>
            <a:ext cx="263520" cy="2746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3938760" y="158256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4731120" y="226836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6662880" y="322884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5654880" y="347328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4153320" y="403704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5721480" y="470844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2964240" y="356544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2337120" y="534816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3888000" y="521172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3430080" y="5913360"/>
            <a:ext cx="50605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write "the desired element exists in the table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51320" y="5791320"/>
            <a:ext cx="2029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write "the desir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717120" y="5989680"/>
            <a:ext cx="2023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element does no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758880" y="6186600"/>
            <a:ext cx="19285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exist in the table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6597720" y="3549600"/>
            <a:ext cx="1436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ound := tr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5842080" y="4678200"/>
            <a:ext cx="2492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ounter := counter +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5391000" y="2978280"/>
            <a:ext cx="1188720" cy="1434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33" y="0"/>
                </a:moveTo>
                <a:arcTo wR="10800" hR="10800" stAng="-5421423" swAng="5403237"/>
                <a:lnTo>
                  <a:pt x="10800" y="10800"/>
                </a:lnTo>
                <a:close/>
              </a:path>
              <a:path fill="none" w="21600" h="21600">
                <a:moveTo>
                  <a:pt x="10733" y="0"/>
                </a:moveTo>
                <a:arcTo wR="10800" hR="10800" stAng="-5421423" swAng="5403237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5802480" y="4243320"/>
            <a:ext cx="264960" cy="2746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5985360" y="3071160"/>
            <a:ext cx="594360" cy="1310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743"/>
                </a:moveTo>
                <a:arcTo wR="10800" hR="10800" stAng="-18127" swAng="5466143"/>
                <a:lnTo>
                  <a:pt x="10800" y="10800"/>
                </a:lnTo>
                <a:close/>
              </a:path>
              <a:path fill="none" w="21600" h="21600">
                <a:moveTo>
                  <a:pt x="21600" y="10743"/>
                </a:moveTo>
                <a:arcTo wR="10800" hR="10800" stAng="-18127" swAng="5466143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6041880" y="4341960"/>
            <a:ext cx="231840" cy="107640"/>
            <a:chOff x="6041880" y="4341960"/>
            <a:chExt cx="231840" cy="107640"/>
          </a:xfrm>
        </p:grpSpPr>
        <p:sp>
          <p:nvSpPr>
            <p:cNvPr id="684" name=""/>
            <p:cNvSpPr/>
            <p:nvPr/>
          </p:nvSpPr>
          <p:spPr>
            <a:xfrm>
              <a:off x="6041880" y="4341960"/>
              <a:ext cx="231840" cy="107640"/>
            </a:xfrm>
            <a:custGeom>
              <a:avLst/>
              <a:gdLst/>
              <a:ahLst/>
              <a:rect l="l" t="t" r="r" b="b"/>
              <a:pathLst>
                <a:path w="146" h="68">
                  <a:moveTo>
                    <a:pt x="0" y="29"/>
                  </a:moveTo>
                  <a:lnTo>
                    <a:pt x="146" y="0"/>
                  </a:lnTo>
                  <a:lnTo>
                    <a:pt x="146" y="29"/>
                  </a:lnTo>
                  <a:lnTo>
                    <a:pt x="146" y="68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257880" y="4387680"/>
              <a:ext cx="1584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4052880" y="2750040"/>
            <a:ext cx="3434760" cy="274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49" y="21600"/>
                </a:moveTo>
                <a:arcTo wR="10800" hR="10800" stAng="5416147" swAng="5403840"/>
                <a:lnTo>
                  <a:pt x="10800" y="10800"/>
                </a:lnTo>
                <a:close/>
              </a:path>
              <a:path fill="none" w="21600" h="21600">
                <a:moveTo>
                  <a:pt x="10749" y="21600"/>
                </a:moveTo>
                <a:arcTo wR="10800" hR="10800" stAng="5416147" swAng="5403840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7" name=""/>
          <p:cNvGrpSpPr/>
          <p:nvPr/>
        </p:nvGrpSpPr>
        <p:grpSpPr>
          <a:xfrm>
            <a:off x="3962520" y="2452680"/>
            <a:ext cx="131760" cy="1630440"/>
            <a:chOff x="3962520" y="2452680"/>
            <a:chExt cx="131760" cy="1630440"/>
          </a:xfrm>
        </p:grpSpPr>
        <p:sp>
          <p:nvSpPr>
            <p:cNvPr id="688" name=""/>
            <p:cNvSpPr/>
            <p:nvPr/>
          </p:nvSpPr>
          <p:spPr>
            <a:xfrm>
              <a:off x="3962520" y="2452680"/>
              <a:ext cx="131760" cy="212760"/>
            </a:xfrm>
            <a:custGeom>
              <a:avLst/>
              <a:gdLst/>
              <a:ahLst/>
              <a:rect l="l" t="t" r="r" b="b"/>
              <a:pathLst>
                <a:path w="83" h="134">
                  <a:moveTo>
                    <a:pt x="42" y="0"/>
                  </a:moveTo>
                  <a:lnTo>
                    <a:pt x="83" y="134"/>
                  </a:lnTo>
                  <a:lnTo>
                    <a:pt x="42" y="134"/>
                  </a:lnTo>
                  <a:lnTo>
                    <a:pt x="0" y="134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 flipV="1">
              <a:off x="4029120" y="2665440"/>
              <a:ext cx="1440" cy="14176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0" name=""/>
          <p:cNvSpPr/>
          <p:nvPr/>
        </p:nvSpPr>
        <p:spPr>
          <a:xfrm>
            <a:off x="3160800" y="2354400"/>
            <a:ext cx="1551960" cy="417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758"/>
                </a:moveTo>
                <a:arcTo wR="10800" hR="10800" stAng="-10786766" swAng="5351509"/>
                <a:lnTo>
                  <a:pt x="10800" y="10800"/>
                </a:lnTo>
                <a:close/>
              </a:path>
              <a:path fill="none" w="21600" h="21600">
                <a:moveTo>
                  <a:pt x="0" y="10758"/>
                </a:moveTo>
                <a:arcTo wR="10800" hR="10800" stAng="-10786766" swAng="5351509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1" name=""/>
          <p:cNvGrpSpPr/>
          <p:nvPr/>
        </p:nvGrpSpPr>
        <p:grpSpPr>
          <a:xfrm>
            <a:off x="3087720" y="4373640"/>
            <a:ext cx="131760" cy="380880"/>
            <a:chOff x="3087720" y="4373640"/>
            <a:chExt cx="131760" cy="380880"/>
          </a:xfrm>
        </p:grpSpPr>
        <p:sp>
          <p:nvSpPr>
            <p:cNvPr id="692" name=""/>
            <p:cNvSpPr/>
            <p:nvPr/>
          </p:nvSpPr>
          <p:spPr>
            <a:xfrm>
              <a:off x="3087720" y="4540320"/>
              <a:ext cx="131760" cy="214200"/>
            </a:xfrm>
            <a:custGeom>
              <a:avLst/>
              <a:gdLst/>
              <a:ahLst/>
              <a:rect l="l" t="t" r="r" b="b"/>
              <a:pathLst>
                <a:path w="83" h="135">
                  <a:moveTo>
                    <a:pt x="41" y="135"/>
                  </a:moveTo>
                  <a:lnTo>
                    <a:pt x="0" y="0"/>
                  </a:lnTo>
                  <a:lnTo>
                    <a:pt x="41" y="0"/>
                  </a:lnTo>
                  <a:lnTo>
                    <a:pt x="83" y="0"/>
                  </a:lnTo>
                  <a:lnTo>
                    <a:pt x="41" y="1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3152880" y="4373640"/>
              <a:ext cx="1440" cy="1666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4" name=""/>
          <p:cNvSpPr/>
          <p:nvPr/>
        </p:nvSpPr>
        <p:spPr>
          <a:xfrm>
            <a:off x="2600280" y="4732560"/>
            <a:ext cx="530280" cy="1308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630" y="21599"/>
                </a:moveTo>
                <a:arcTo wR="10800" hR="10800" stAng="5454071" swAng="5367221"/>
                <a:lnTo>
                  <a:pt x="10800" y="10800"/>
                </a:lnTo>
                <a:close/>
              </a:path>
              <a:path fill="none" w="21600" h="21600">
                <a:moveTo>
                  <a:pt x="10630" y="21599"/>
                </a:moveTo>
                <a:arcTo wR="10800" hR="10800" stAng="5454071" swAng="5367221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2600280" y="4898880"/>
            <a:ext cx="891720" cy="94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743"/>
                </a:moveTo>
                <a:arcTo wR="10800" hR="10800" stAng="-10781960" swAng="5362925"/>
                <a:lnTo>
                  <a:pt x="10800" y="10800"/>
                </a:lnTo>
                <a:close/>
              </a:path>
              <a:path fill="none" w="21600" h="21600">
                <a:moveTo>
                  <a:pt x="0" y="10743"/>
                </a:moveTo>
                <a:arcTo wR="10800" hR="10800" stAng="-10781960" swAng="5362925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2913480" y="4884840"/>
            <a:ext cx="859680" cy="1310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15" y="0"/>
                </a:moveTo>
                <a:arcTo wR="10800" hR="10800" stAng="-5427084" swAng="5405193"/>
                <a:lnTo>
                  <a:pt x="10800" y="10800"/>
                </a:lnTo>
                <a:close/>
              </a:path>
              <a:path fill="none" w="21600" h="21600">
                <a:moveTo>
                  <a:pt x="10715" y="0"/>
                </a:moveTo>
                <a:arcTo wR="10800" hR="10800" stAng="-5427084" swAng="5405193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2979720" y="5997600"/>
            <a:ext cx="264960" cy="2728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3144600" y="4991760"/>
            <a:ext cx="628560" cy="1097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731"/>
                </a:moveTo>
                <a:arcTo wR="10800" hR="10800" stAng="-22094" swAng="5453833"/>
                <a:lnTo>
                  <a:pt x="10800" y="10800"/>
                </a:lnTo>
                <a:close/>
              </a:path>
              <a:path fill="none" w="21600" h="21600">
                <a:moveTo>
                  <a:pt x="21600" y="10731"/>
                </a:moveTo>
                <a:arcTo wR="10800" hR="10800" stAng="-22094" swAng="5453833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2757600" y="5958000"/>
            <a:ext cx="247680" cy="108000"/>
            <a:chOff x="2757600" y="5958000"/>
            <a:chExt cx="247680" cy="108000"/>
          </a:xfrm>
        </p:grpSpPr>
        <p:sp>
          <p:nvSpPr>
            <p:cNvPr id="700" name=""/>
            <p:cNvSpPr/>
            <p:nvPr/>
          </p:nvSpPr>
          <p:spPr>
            <a:xfrm>
              <a:off x="2757600" y="5958000"/>
              <a:ext cx="247680" cy="108000"/>
            </a:xfrm>
            <a:custGeom>
              <a:avLst/>
              <a:gdLst/>
              <a:ahLst/>
              <a:rect l="l" t="t" r="r" b="b"/>
              <a:pathLst>
                <a:path w="156" h="68">
                  <a:moveTo>
                    <a:pt x="156" y="58"/>
                  </a:moveTo>
                  <a:lnTo>
                    <a:pt x="0" y="68"/>
                  </a:lnTo>
                  <a:lnTo>
                    <a:pt x="10" y="29"/>
                  </a:lnTo>
                  <a:lnTo>
                    <a:pt x="21" y="0"/>
                  </a:lnTo>
                  <a:lnTo>
                    <a:pt x="156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 flipH="1" flipV="1">
              <a:off x="2773080" y="6004080"/>
              <a:ext cx="66600" cy="158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2" name=""/>
          <p:cNvGrpSpPr/>
          <p:nvPr/>
        </p:nvGrpSpPr>
        <p:grpSpPr>
          <a:xfrm>
            <a:off x="3252960" y="6033960"/>
            <a:ext cx="230040" cy="108000"/>
            <a:chOff x="3252960" y="6033960"/>
            <a:chExt cx="230040" cy="108000"/>
          </a:xfrm>
        </p:grpSpPr>
        <p:sp>
          <p:nvSpPr>
            <p:cNvPr id="703" name=""/>
            <p:cNvSpPr/>
            <p:nvPr/>
          </p:nvSpPr>
          <p:spPr>
            <a:xfrm>
              <a:off x="3252960" y="6033960"/>
              <a:ext cx="230040" cy="108000"/>
            </a:xfrm>
            <a:custGeom>
              <a:avLst/>
              <a:gdLst/>
              <a:ahLst/>
              <a:rect l="l" t="t" r="r" b="b"/>
              <a:pathLst>
                <a:path w="145" h="68">
                  <a:moveTo>
                    <a:pt x="0" y="29"/>
                  </a:moveTo>
                  <a:lnTo>
                    <a:pt x="145" y="0"/>
                  </a:lnTo>
                  <a:lnTo>
                    <a:pt x="145" y="29"/>
                  </a:lnTo>
                  <a:lnTo>
                    <a:pt x="145" y="68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3433680" y="6080040"/>
              <a:ext cx="4932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EE4B1-2544-407C-B4A6-A985B5E8752D}" type="slidenum">
              <a:t>9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el check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rrectness verification, in general, is an undecidable probl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odel checking is a rather recent verification technique based on the fact that most interesting system properties become decidable (i.e., algorithmically verifiable) when the system is modeled as a finite state machin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E3844-EA44-4D26-9678-73F8C600221F}" type="slidenum">
              <a:t>9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scribe a given system—software or otherwise—as an F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xpress a given property of interest as a suitable formul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Verify whether the system’s behavior does indeed satisfy the desired proper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step can be performed automatical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model checker either provides a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of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that the property holds or gives a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unterexamp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in the form of a test case that exposes the system’s failure to behave according to the proper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32F79-1204-4190-8E97-B81AA3D0046E}" type="slidenum">
              <a:t>9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31T16:46:31Z</dcterms:created>
  <dc:creator>Carlo Ghezzi</dc:creator>
  <dc:description/>
  <dc:language>en-US</dc:language>
  <cp:lastModifiedBy>jazayeri</cp:lastModifiedBy>
  <dcterms:modified xsi:type="dcterms:W3CDTF">2002-02-19T18:10:32Z</dcterms:modified>
  <cp:revision>27</cp:revision>
  <dc:subject/>
  <dc:title>PowerPoint Presentation</dc:title>
</cp:coreProperties>
</file>