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2B0F-2FC5-4DC9-84B7-EA1A93787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2DCC-F742-4063-8EBC-FF084EA5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59EA-5770-4E52-9D95-7D72B626F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C87C-DE6F-48DF-96F9-B487162AB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C84E-F0E4-49F3-81DE-95B41CB4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8C44-DF99-4CC1-A29B-A633631B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F210-4F2F-4012-9381-6DADF0CA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9DED-5B57-415E-BA94-1E60C4E3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C17C-75A5-469C-A9AF-E94DD6BE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68CB-52F8-4A99-A5B9-CE219450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F300-B531-455E-BECF-29420A92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404D-0393-45C5-9EB0-E2CEDAB9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A8F6-2E0A-4F55-B7F5-0F2F6C8C8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nd 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49A7-E0E8-4B0F-AB33-7B33CB14270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underlying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lease of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ptimizing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version of DB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peripheral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"social"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ax reg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RO vs national currency in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ue to development process (transform prototype into produ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D546-D2F4-4140-BAE4-0D8C3F0776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yer residing between the network operating system and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building network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s usefu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services, 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processes or resources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services, such as message passing or RPC (or RMI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1F17-5C9B-408E-AC29-ACB9804D13A8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-oriented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kind of module, ADT,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exports operations (procedures) to manipulate instanc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objects accessible via 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DF25-AC5B-497A-B503-341D4A206CDA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ctic change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export opaqu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name used to decl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is a reference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op (param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CCEF-D3FC-43C5-B3D3-12C9125CF314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urther relation: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 may be organized in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B may specialize class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inherits from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ely, A generaliz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superclass of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is a subclass of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6F8B-872A-4669-B856-E3C81FBD4C03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935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371600"/>
          <a:ext cx="8763120" cy="70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76312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6EAF-EB7A-4D81-9028-27D0A8314717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3500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64560" cy="3952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FA76-55E9-422A-90A3-7C3247DBF066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ay of building software increment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bclass defines a sub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yp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bstitu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referring to type A can refer to an object of type B if B is a subclass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bi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invoked through a reference depends on the type of the object associated with the referenc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8866-E56F-4332-B812-DA0B693B91EB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inheritance be represent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introducing the UM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(Unified Modeling Language) is a widely adopted standard notation for representing OO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the UML 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described by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3EA7-6BCC-4513-ADC4-2F5529CC1B66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representation of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35336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C753-2D1B-42E7-ABD8-2D380569A293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assoc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ociations are relations that the implementation is required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hav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city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9432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685800" y="3048120"/>
            <a:ext cx="11658600" cy="35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DFD2-EDDB-4DCC-AA6B-B9A18717E2C9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ersions of the sa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mily of mobile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family may differ in network standards, end-user interaction language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cility reserv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otels: reserve rooms, restaurant, conference space, …, equipment (video beamers, overhead projector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functionalities are similar, some are different (e.g., facilities may be free of charge or n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6F11-D5E3-4EA2-BB5A-D7A036FF3C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a PART_OF re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s from IS_COMPOSED_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TRANGLE has its ow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citly uses POINT to def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data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855C-FE6A-403D-ABFD-C0CC9FFF6AB8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UM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 of IS_COMPONENT_OF via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DBD0-32FD-4CC6-ADA5-FA1839C262BE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s overall system organization and structure in terms of its major constituents and their interaction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architectures can be iden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based (publish-subscri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AF45-9BFD-4927-84BF-B187FE844BAF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752480"/>
          <a:ext cx="6934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934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347880" y="18288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5960" y="4800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2360" y="30812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BB78-B2F3-47AB-81A1-977D688A1D3C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 specific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205740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–view–controller" architecture for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has a significant amount of user interac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746748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A195-12DC-4BA4-83AA-1605D634BE45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systems out of pre-existing librarie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most mature engineering areas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L for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Beans and Swing for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117C-3310-4AA3-BB52-16BA7ACE9A6C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nent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B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nd servers connected via an Object Request Broker (OR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vided by servers defined by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Microsoft world: DCO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ed Component Object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AE96-3DF4-4018-91A1-A4ADBFDB93A9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20120" cy="41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6BC8-D02E-48B1-A541-407187E344D0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chitectures for distributed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wo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ree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906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286000"/>
          <a:ext cx="70866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70866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1666-4924-4C71-B559-B07CEDC94C80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goal for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whole family as one system, not each individual member of the family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3F07-060C-4151-9F47-BFD1D2EB1B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rong 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irst member of product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existing software to get next member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9E50-5657-47BE-A58B-29B00BA604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920" y="1676520"/>
            <a:ext cx="1419480" cy="3932280"/>
            <a:chOff x="610920" y="1676520"/>
            <a:chExt cx="1419480" cy="3932280"/>
          </a:xfrm>
        </p:grpSpPr>
        <p:sp>
          <p:nvSpPr>
            <p:cNvPr id="75" name=""/>
            <p:cNvSpPr/>
            <p:nvPr/>
          </p:nvSpPr>
          <p:spPr>
            <a:xfrm>
              <a:off x="610920" y="167652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3520" y="2430360"/>
              <a:ext cx="58608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3520" y="3533760"/>
              <a:ext cx="586080" cy="55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3520" y="4656240"/>
              <a:ext cx="58608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85760" y="1998720"/>
              <a:ext cx="145800" cy="405720"/>
              <a:chOff x="1085760" y="1998720"/>
              <a:chExt cx="145800" cy="405720"/>
            </a:xfrm>
          </p:grpSpPr>
          <p:sp>
            <p:nvSpPr>
              <p:cNvPr id="80" name=""/>
              <p:cNvSpPr/>
              <p:nvPr/>
            </p:nvSpPr>
            <p:spPr>
              <a:xfrm>
                <a:off x="1085760" y="216792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77200" y="1998720"/>
                <a:ext cx="252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085760" y="2982960"/>
              <a:ext cx="145800" cy="524520"/>
              <a:chOff x="1085760" y="2982960"/>
              <a:chExt cx="145800" cy="524520"/>
            </a:xfrm>
          </p:grpSpPr>
          <p:sp>
            <p:nvSpPr>
              <p:cNvPr id="83" name=""/>
              <p:cNvSpPr/>
              <p:nvPr/>
            </p:nvSpPr>
            <p:spPr>
              <a:xfrm>
                <a:off x="1085760" y="327096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7200" y="2982960"/>
                <a:ext cx="2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085760" y="4084560"/>
              <a:ext cx="145800" cy="545760"/>
              <a:chOff x="1085760" y="4084560"/>
              <a:chExt cx="145800" cy="545760"/>
            </a:xfrm>
          </p:grpSpPr>
          <p:sp>
            <p:nvSpPr>
              <p:cNvPr id="86" name=""/>
              <p:cNvSpPr/>
              <p:nvPr/>
            </p:nvSpPr>
            <p:spPr>
              <a:xfrm>
                <a:off x="1085760" y="4392360"/>
                <a:ext cx="145800" cy="237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7200" y="4084560"/>
                <a:ext cx="252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65960" y="2506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5960" y="361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6480" y="473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" y="53341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63600" y="579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6400" y="1600200"/>
            <a:ext cx="4494240" cy="4343400"/>
            <a:chOff x="4496400" y="1600200"/>
            <a:chExt cx="4494240" cy="4343400"/>
          </a:xfrm>
        </p:grpSpPr>
        <p:sp>
          <p:nvSpPr>
            <p:cNvPr id="94" name=""/>
            <p:cNvSpPr/>
            <p:nvPr/>
          </p:nvSpPr>
          <p:spPr>
            <a:xfrm>
              <a:off x="5258160" y="40384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62360" y="5029200"/>
              <a:ext cx="447120" cy="420120"/>
              <a:chOff x="5562360" y="5029200"/>
              <a:chExt cx="447120" cy="420120"/>
            </a:xfrm>
          </p:grpSpPr>
          <p:sp>
            <p:nvSpPr>
              <p:cNvPr id="96" name=""/>
              <p:cNvSpPr/>
              <p:nvPr/>
            </p:nvSpPr>
            <p:spPr>
              <a:xfrm>
                <a:off x="5562360" y="5292000"/>
                <a:ext cx="15768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706720" y="5029200"/>
                <a:ext cx="30276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496400" y="54864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0520" y="5427720"/>
              <a:ext cx="4348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6160" y="549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208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1080" y="2184120"/>
              <a:ext cx="43344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91080" y="303840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1080" y="3905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29320" y="1849320"/>
              <a:ext cx="104400" cy="315720"/>
              <a:chOff x="6529320" y="1849320"/>
              <a:chExt cx="104400" cy="315720"/>
            </a:xfrm>
          </p:grpSpPr>
          <p:sp>
            <p:nvSpPr>
              <p:cNvPr id="106" name=""/>
              <p:cNvSpPr/>
              <p:nvPr/>
            </p:nvSpPr>
            <p:spPr>
              <a:xfrm>
                <a:off x="6529320" y="19810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4840" y="1849320"/>
                <a:ext cx="180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529320" y="2611440"/>
              <a:ext cx="104400" cy="407520"/>
              <a:chOff x="6529320" y="2611440"/>
              <a:chExt cx="104400" cy="40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529320" y="283500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4840" y="261144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529320" y="3465360"/>
              <a:ext cx="104400" cy="420480"/>
              <a:chOff x="6529320" y="3465360"/>
              <a:chExt cx="104400" cy="420480"/>
            </a:xfrm>
          </p:grpSpPr>
          <p:sp>
            <p:nvSpPr>
              <p:cNvPr id="112" name=""/>
              <p:cNvSpPr/>
              <p:nvPr/>
            </p:nvSpPr>
            <p:spPr>
              <a:xfrm>
                <a:off x="6529320" y="37018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4840" y="3465360"/>
                <a:ext cx="1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16360" y="224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6360" y="309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16360" y="396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13240" y="4332240"/>
              <a:ext cx="379800" cy="382320"/>
              <a:chOff x="6213240" y="4332240"/>
              <a:chExt cx="379800" cy="38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240" y="4570560"/>
                <a:ext cx="144000" cy="144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42" y="0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30600" y="4332240"/>
                <a:ext cx="26244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43240" y="46479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5522760"/>
              <a:ext cx="4348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94120" y="4332240"/>
              <a:ext cx="382320" cy="396360"/>
              <a:chOff x="6594120" y="4332240"/>
              <a:chExt cx="382320" cy="39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18040" y="4571280"/>
                <a:ext cx="15840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72"/>
                    </a:moveTo>
                    <a:lnTo>
                      <a:pt x="0" y="30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94120" y="4332240"/>
                <a:ext cx="26352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891120" y="4708440"/>
              <a:ext cx="4190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250040" y="5095800"/>
              <a:ext cx="407160" cy="420120"/>
              <a:chOff x="7250040" y="5095800"/>
              <a:chExt cx="407160" cy="4201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99880" y="5345280"/>
                <a:ext cx="157320" cy="1706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0040" y="5095800"/>
                <a:ext cx="28908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068960" y="482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2760" y="5595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6920" y="5595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71600" y="1600200"/>
            <a:ext cx="3399120" cy="4647960"/>
            <a:chOff x="1371600" y="1600200"/>
            <a:chExt cx="3399120" cy="4647960"/>
          </a:xfrm>
        </p:grpSpPr>
        <p:sp>
          <p:nvSpPr>
            <p:cNvPr id="133" name=""/>
            <p:cNvSpPr/>
            <p:nvPr/>
          </p:nvSpPr>
          <p:spPr>
            <a:xfrm>
              <a:off x="3276720" y="5105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124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2440" y="2235240"/>
              <a:ext cx="503280" cy="45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92440" y="3160440"/>
              <a:ext cx="50328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2440" y="4103640"/>
              <a:ext cx="50328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757680" y="1871640"/>
              <a:ext cx="124920" cy="340920"/>
              <a:chOff x="3757680" y="1871640"/>
              <a:chExt cx="124920" cy="34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757680" y="2013840"/>
                <a:ext cx="124920" cy="1987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35800" y="1871640"/>
                <a:ext cx="21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57680" y="2697120"/>
              <a:ext cx="124920" cy="442080"/>
              <a:chOff x="3757680" y="2697120"/>
              <a:chExt cx="124920" cy="442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57680" y="2939760"/>
                <a:ext cx="124920" cy="1994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5800" y="2697120"/>
                <a:ext cx="216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7680" y="3624120"/>
              <a:ext cx="124920" cy="458280"/>
              <a:chOff x="3757680" y="3624120"/>
              <a:chExt cx="124920" cy="45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7680" y="3882600"/>
                <a:ext cx="124920" cy="1998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35800" y="3624120"/>
                <a:ext cx="216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1840" y="22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41840" y="3225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1840" y="4168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429000" y="4566960"/>
              <a:ext cx="407520" cy="537480"/>
              <a:chOff x="3429000" y="4566960"/>
              <a:chExt cx="407520" cy="537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429000" y="4896360"/>
                <a:ext cx="155520" cy="2080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48" y="0"/>
                    </a:lnTo>
                    <a:lnTo>
                      <a:pt x="60" y="12"/>
                    </a:lnTo>
                    <a:lnTo>
                      <a:pt x="78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60760" y="4566960"/>
                <a:ext cx="275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073320" y="5030640"/>
              <a:ext cx="51912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59436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05120" y="5395680"/>
              <a:ext cx="323640" cy="304560"/>
              <a:chOff x="2805120" y="5395680"/>
              <a:chExt cx="323640" cy="30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5120" y="55861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909880" y="5395680"/>
                <a:ext cx="218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438280" y="571500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586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920" y="38098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2428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8800" y="3352680"/>
            <a:ext cx="1682280" cy="2121120"/>
            <a:chOff x="1828800" y="3352680"/>
            <a:chExt cx="1682280" cy="2121120"/>
          </a:xfrm>
        </p:grpSpPr>
        <p:sp>
          <p:nvSpPr>
            <p:cNvPr id="163" name=""/>
            <p:cNvSpPr/>
            <p:nvPr/>
          </p:nvSpPr>
          <p:spPr>
            <a:xfrm>
              <a:off x="1828800" y="3352680"/>
              <a:ext cx="685800" cy="5335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9320" y="510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54680" y="236232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8840" y="3352680"/>
            <a:ext cx="8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1975-620C-45EA-B76A-C020E0CE09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o bet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e definition of all family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at is common to all family members, delay decisions that differentiate among different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learn how to manage chang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963C-C6D1-4350-9DB7-2C97C646A0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ll-defined component of a softwar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rt of a system that provides a set of services to other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are computational elements that other modules ma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3475-B803-4A06-AA89-7977659B8F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 the structure of a modular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desirable properties of that 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FFC5-1E40-40B8-B97A-33CBE43F07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 and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S be a set of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{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 . .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inary relation r on S is a subse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x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in S, 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 can be written a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E1AB-C535-4A2C-8898-3114933BFD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ve closur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S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e assume our relations to be irreflex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is a hierarchy iff there are no two element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4736-932B-4FAF-BEE8-1D39DD117A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desig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How can a system b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decomp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into modu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is 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module’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are the main relationships among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ominent software design techniq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and 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nform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UML collec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f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of 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on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distribute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chitectural 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 based softwar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9C85-2E0A-4103-A34F-7DCE76B912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represented as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ierarchy is a DAG (directed acyclic grap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87760"/>
          <a:ext cx="73152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87760"/>
                    <a:ext cx="73152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4960" y="34624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520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274B-3534-4D2D-BCE6-C72935FB1C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quires the correct operation 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n access the services exported by B through it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“statically”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pends on B to provide it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calls a routine exported by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client of B; B is a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B85F-B45E-4EF3-9B5E-A50F73D943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rable prope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hould be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makes software easier to under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proceed from leaf nodes (who do not use others) up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bu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D828-F3FC-4160-9611-2534474E856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s the modular structure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vels of 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evel defines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(virtual)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the n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v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precis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0 if no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ists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k be the maximum level of all node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k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E37E-666E-448A-9926-85D1DEF928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_COMPONENT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scribe a higher level module as constituted by a number of lower level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S_COMPONENT_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onsists of several modules, of which one i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OMPRISE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_COMPONENT_OF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A934-6C18-491F-BF8B-E63ABEA2929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1924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840" y="1828800"/>
            <a:ext cx="7807320" cy="3559680"/>
            <a:chOff x="609840" y="1828800"/>
            <a:chExt cx="7807320" cy="3559680"/>
          </a:xfrm>
        </p:grpSpPr>
        <p:sp>
          <p:nvSpPr>
            <p:cNvPr id="196" name=""/>
            <p:cNvSpPr/>
            <p:nvPr/>
          </p:nvSpPr>
          <p:spPr>
            <a:xfrm>
              <a:off x="7029720" y="19476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48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14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9000" y="32050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112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640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0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86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332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368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60920" y="3323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7200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8200" y="4271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2880" y="4319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590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2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506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160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3040" y="2445840"/>
              <a:ext cx="687240" cy="829080"/>
              <a:chOff x="6323040" y="2445840"/>
              <a:chExt cx="687240" cy="829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3040" y="301464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485040" y="2445840"/>
                <a:ext cx="525240" cy="615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51760" y="2468160"/>
              <a:ext cx="120600" cy="830520"/>
              <a:chOff x="7151760" y="2468160"/>
              <a:chExt cx="120600" cy="83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151760" y="301464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11880" y="2468160"/>
                <a:ext cx="180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53360" y="2468520"/>
              <a:ext cx="584280" cy="736560"/>
              <a:chOff x="7353360" y="2468520"/>
              <a:chExt cx="584280" cy="73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7716960" y="2943000"/>
                <a:ext cx="220680" cy="26208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9" y="165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353360" y="2468520"/>
                <a:ext cx="40320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32240" y="3584520"/>
              <a:ext cx="849240" cy="544320"/>
              <a:chOff x="5232240" y="3584520"/>
              <a:chExt cx="849240" cy="544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232240" y="3916080"/>
                <a:ext cx="222480" cy="212760"/>
              </a:xfrm>
              <a:custGeom>
                <a:avLst/>
                <a:gdLst/>
                <a:ahLst/>
                <a:rect l="l" t="t" r="r" b="b"/>
                <a:pathLst>
                  <a:path w="140" h="134">
                    <a:moveTo>
                      <a:pt x="0" y="134"/>
                    </a:moveTo>
                    <a:lnTo>
                      <a:pt x="115" y="0"/>
                    </a:lnTo>
                    <a:lnTo>
                      <a:pt x="128" y="45"/>
                    </a:lnTo>
                    <a:lnTo>
                      <a:pt x="140" y="75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435280" y="3584520"/>
                <a:ext cx="64620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59360" y="3584520"/>
              <a:ext cx="382680" cy="544320"/>
              <a:chOff x="5859360" y="3584520"/>
              <a:chExt cx="382680" cy="544320"/>
            </a:xfrm>
          </p:grpSpPr>
          <p:sp>
            <p:nvSpPr>
              <p:cNvPr id="227" name=""/>
              <p:cNvSpPr/>
              <p:nvPr/>
            </p:nvSpPr>
            <p:spPr>
              <a:xfrm>
                <a:off x="5859360" y="3844800"/>
                <a:ext cx="181080" cy="28404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0" y="179"/>
                    </a:moveTo>
                    <a:lnTo>
                      <a:pt x="63" y="0"/>
                    </a:lnTo>
                    <a:lnTo>
                      <a:pt x="89" y="30"/>
                    </a:lnTo>
                    <a:lnTo>
                      <a:pt x="114" y="6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00840" y="3584520"/>
                <a:ext cx="241200" cy="30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62560" y="3608280"/>
              <a:ext cx="120600" cy="639720"/>
              <a:chOff x="6262560" y="3608280"/>
              <a:chExt cx="12060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2560" y="396396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3040" y="360828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10360" y="3678120"/>
              <a:ext cx="120600" cy="546120"/>
              <a:chOff x="7110360" y="3678120"/>
              <a:chExt cx="120600" cy="54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110360" y="3939840"/>
                <a:ext cx="120600" cy="2844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0840" y="3678120"/>
                <a:ext cx="1440" cy="261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51840" y="3654360"/>
              <a:ext cx="504720" cy="546120"/>
              <a:chOff x="7251840" y="3654360"/>
              <a:chExt cx="504720" cy="54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534080" y="3939840"/>
                <a:ext cx="222480" cy="26064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74"/>
                    </a:lnTo>
                    <a:lnTo>
                      <a:pt x="26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1840" y="3654360"/>
                <a:ext cx="323640" cy="33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82800" y="3322440"/>
              <a:ext cx="685800" cy="830160"/>
              <a:chOff x="1882800" y="3322440"/>
              <a:chExt cx="685800" cy="83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6120" y="3892320"/>
                <a:ext cx="22248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82800" y="3322440"/>
                <a:ext cx="503280" cy="617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709720" y="3298680"/>
              <a:ext cx="120600" cy="830160"/>
              <a:chOff x="2709720" y="3298680"/>
              <a:chExt cx="120600" cy="83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2709720" y="38448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70200" y="3298680"/>
                <a:ext cx="144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911320" y="3394080"/>
              <a:ext cx="586080" cy="734760"/>
              <a:chOff x="2911320" y="3394080"/>
              <a:chExt cx="586080" cy="734760"/>
            </a:xfrm>
          </p:grpSpPr>
          <p:sp>
            <p:nvSpPr>
              <p:cNvPr id="245" name=""/>
              <p:cNvSpPr/>
              <p:nvPr/>
            </p:nvSpPr>
            <p:spPr>
              <a:xfrm>
                <a:off x="2911320" y="386856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073320" y="3394080"/>
                <a:ext cx="42408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92000" y="2468520"/>
              <a:ext cx="847800" cy="546120"/>
              <a:chOff x="792000" y="2468520"/>
              <a:chExt cx="847800" cy="54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396800" y="2801880"/>
                <a:ext cx="243000" cy="21276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153" y="134"/>
                    </a:moveTo>
                    <a:lnTo>
                      <a:pt x="0" y="74"/>
                    </a:lnTo>
                    <a:lnTo>
                      <a:pt x="13" y="44"/>
                    </a:lnTo>
                    <a:lnTo>
                      <a:pt x="26" y="0"/>
                    </a:lnTo>
                    <a:lnTo>
                      <a:pt x="15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792000" y="2468520"/>
                <a:ext cx="62568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17320" y="2468520"/>
              <a:ext cx="384480" cy="546120"/>
              <a:chOff x="1417320" y="2468520"/>
              <a:chExt cx="384480" cy="546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600200" y="2730240"/>
                <a:ext cx="201600" cy="284400"/>
              </a:xfrm>
              <a:custGeom>
                <a:avLst/>
                <a:gdLst/>
                <a:ahLst/>
                <a:rect l="l" t="t" r="r" b="b"/>
                <a:pathLst>
                  <a:path w="127" h="179">
                    <a:moveTo>
                      <a:pt x="127" y="179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27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417320" y="2468520"/>
                <a:ext cx="222120" cy="309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820880" y="2350800"/>
              <a:ext cx="122040" cy="639720"/>
              <a:chOff x="1820880" y="2350800"/>
              <a:chExt cx="12204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0880" y="2706480"/>
                <a:ext cx="122040" cy="284040"/>
              </a:xfrm>
              <a:custGeom>
                <a:avLst/>
                <a:gdLst/>
                <a:ahLst/>
                <a:rect l="l" t="t" r="r" b="b"/>
                <a:pathLst>
                  <a:path w="77" h="179">
                    <a:moveTo>
                      <a:pt x="39" y="17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7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82800" y="235080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70120" y="2374560"/>
              <a:ext cx="120600" cy="544680"/>
              <a:chOff x="2670120" y="2374560"/>
              <a:chExt cx="120600" cy="54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70120" y="26352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730600" y="2374560"/>
                <a:ext cx="1440" cy="260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811600" y="2398320"/>
              <a:ext cx="502920" cy="544680"/>
              <a:chOff x="2811600" y="2398320"/>
              <a:chExt cx="502920" cy="54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2811600" y="268272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1" y="30"/>
                    </a:lnTo>
                    <a:lnTo>
                      <a:pt x="127" y="7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2398320"/>
                <a:ext cx="342720" cy="331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56896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568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8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64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116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6040" y="2019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520" y="20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87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0120" y="28731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2040" y="2990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948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716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89480" y="4130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0360" y="42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3680" y="4976640"/>
              <a:ext cx="295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S_COMPONENT_OF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8080" y="505296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RISE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02800" y="56386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y are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AE2F-4F2B-4973-9F8A-10AE355759E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ful recording of (hierarchical) USES relation and IS_COMPONENT_OF supports design of program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F480-0BD1-4CC1-AEF4-CB2A9F6265D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the nature of USES, we need to know what a used modu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resources that are exported by its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expor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D229-F04E-45C8-90AA-3853AFCE75A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istinction between interface and implementation is a key desig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care about resources exported from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re abou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contract between a module and its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3AE2-13AD-4DAC-A873-F3B03DBC459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9480" y="2705040"/>
            <a:ext cx="7285320" cy="394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35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is like the tip of the 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2C1A-307D-47B0-ABE0-A68E42EB9DA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structure to any artif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system into parts, assigns responsibilities, ensures that parts fit together to achieve a glob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refers to both an activity and the result of th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03D4-8F25-45A8-B2A2-C5E7F96140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design (i.e. module decomposi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ecrets a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changed freely if the change does not affect the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den design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y to encapsulate changeable design decisions as implementation secrets within modul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D506-F7C5-4122-8D5E-C09797C08CC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sign module interfa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sign of an interpreter for language 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ntroduce a SYMBOL_TAB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peration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entry for a new var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value associated with a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new value for a give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e hides the internal data structure of th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structure may freely change without affecting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EE90-529B-4179-B8C3-2CB015C7863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should not reveal what we expect may change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hould not reveal unnecessary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firewall preventing access to hidden p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9C65-72A8-4909-B5E7-D967BFE4CD6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an interface is defined, implementation can be d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quickly but in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rogressively turned into the final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version acts as a prototype that evolves into the final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8F26-3B6A-414A-8451-C1601FE5809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likely change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separated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uspend and resume tasks in a concurr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select the next task to resu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scheduling polici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hidden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be encapsulated as modul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1155-4872-4012-8CB8-4E392DBB79A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s allow designs to be described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textual or grap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llustrate two sample not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N (Textu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N (Graphic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the notations provided by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1489-6292-437D-93C2-4A9F5D680C7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&amp; G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how a notation may help in documenting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hat a generic notation may look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representative of many proposed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DN inherits from modern languages, like Java, Ad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FFDA-E3D4-4D87-B899-B96E06DC2AD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0001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859140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C26C-167E-4C07-9890-C246C0242C6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y be used to specify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be followed by the clients so that exported services are correctly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certain operation which does the initialization of the module should be called before any other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n insert operation cannot be called if the table is fu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A713-4459-4E3F-8346-7A1A78A8D9D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15280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0104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B42A-C873-4971-B3E3-97A6ADA7DE8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meanings of "design“ activity in our cont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acts as a bridge between requirements and the implementation of the softw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gives a structure to the artifac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requirements specification documen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given a structure that makes it easy to understand and evol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AB40-1662-4D1E-BCC4-4920D43842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 helps describe a design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an be assessed for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defined module X, modules R and T must be defined event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T replace 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one or both must use Y,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3807-2072-4F1E-AA82-C84D0F23FCF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35080" y="99072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 is called to compile the program stored in PR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 the object code in file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conventional compiler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R performs both lexical and syntactic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s an abstract tree, as well as entri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 table; CODE_GENERATOR generate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the abstract tree and information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ymbol table. MAIN acts as a job coordinator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mposed of ANALYZER, SYMBOL_TA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, CODE_GENERATOR,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E2BF-D874-418C-AC27-6C528AF823B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361440" y="762120"/>
            <a:ext cx="795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AI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ANALYZER, CODE_GENERATO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ANALYZ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ANALYZE (SOURCE: in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 is analyzed; an abstract tree is produ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the services provided by the tree han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recognized entities, with their attributes,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d in the symbo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B3D8-1928-4D47-9EB7-6F7298D7848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9320" y="1752480"/>
            <a:ext cx="737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CODE (OBJECT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stract tree is traversed by us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 expor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 and ac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formation stored in the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generate code in the outpu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0734-29A3-4458-B2BB-25FE9A163C2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 of module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4771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39D5-52E0-4196-A007-29E95B35553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's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9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43EE-762C-41CC-B364-9341CA670E8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form of modula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rocedural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 a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rting module, fast Fourier transform modul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81BF-45D1-4D78-A60F-02D64F6C5FF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up of related procedural abst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hematical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by routine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ools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hared by different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nfigur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MON FORTRAN constr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8BE6-49A1-4A54-B3E9-4048EE4469F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nipulated via interfa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instances of abstract objects may b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7AE3-D044-49ED-8B5E-AD6761333D6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object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culator of expressions expressed in Polish postfix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(b+c)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bc+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mplements a stack where the values of operands are shifted until an operator is encountered in th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ssume only binary oper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C46E-DE55-492C-985B-21EB738CDA1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w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system decomposition into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s a Software Desig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system decomposition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e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produced prior to a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F7A4-8943-4F07-8491-4EA01E6CD8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3048120"/>
            <a:ext cx="827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: in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: out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00" y="2057400"/>
            <a:ext cx="64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of the abstract objec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99A9-BCD4-49DF-813B-A0B3F565D61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design anticipate change in type of expressions to be evalu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it does not adapt to unary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67AC-EE94-4999-B4D0-5EE155D0730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02392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9144000" cy="3294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657600" y="28954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54600" y="2209680"/>
            <a:ext cx="4062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that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 are h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A524-B2BA-4F7E-AFDE-1222539374E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 to Java and C++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may also be implemented by Ada private types and Modula-2 opaq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 notational details to specify if certain built-in operations are available by default on instance objects of the 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ype A_TYPE: ? (:=, =) indicates that assignment and equality check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4EAD-23F7-4EE8-A69B-FDC2176C89C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ulation of a gas s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51520" y="1752480"/>
            <a:ext cx="76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QUEUE : ?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ENQUEUE (Q: in out QUEUE ; C: in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DEQUEUE (Q: in out QUEUE ; C: out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_EMPTY (Q: in QUEUE) 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Q: in QUEUE) :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MERGE (Q1, Q2 : in QUEUE ; Q : out QUE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n abstract data-type module represe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of cars, handled in a strict FIFO w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are not assignable 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able for equal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“:=” and “=” are not ex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5E88-2711-459A-BE38-9FF2586F771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modules (templat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parametric wrt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7280" y="2895480"/>
            <a:ext cx="739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 : in T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 : out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070A-C534-4E03-8EB4-7F6EB2312224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nti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synta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INTEGER_STACK_2 is GENERIC_STACK_2 (INTEG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761D-F347-4575-8D1E-7F064BF9C02E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gener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pecify that besides a type also an operation must be provided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M (T) with O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_A_TYPE is M(A_TYP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(M_A_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1CAF-4E6D-42AA-BB1A-2AA53683111F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configuration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ng constant values into symbolic constants is a common implementatio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#define in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e 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0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F897-1F98-4A7B-AE40-3C50F68D946F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common to all vers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ifdef hardwar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1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fdef hardwar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compiler compilers (yacc, interface prototyping to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6934-B9D6-4DBB-836F-0A6C2FA0DD58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s gross structure and organization of the system to be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s description includes description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component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 among thos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 for decomposition into it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ts that must be respected by any design of the componen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uides the development of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FA15-8459-484F-8D3C-8EFEE0289F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atic, iterative program design technique that unfortunately may lead to software that is hard to evol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, problem P decompos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subproblems: P1; P2; …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ection: if (cond) then P1 else 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ion: while (cond) do_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3C5C-3E7D-4090-8DF0-0EFC33078696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ation of selection s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50160" y="2057400"/>
            <a:ext cx="78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the  smallest of ai .. .an, and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with the element at positio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C3C3-B182-4C54-B3A0-44B8339E17E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change the elements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ons j and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2C48-E85D-4B5B-85FC-86690EDC4955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60948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(i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i) := a(j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j)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1541-467F-4F41-92EA-853738B9E161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mposit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wise refinement process may be depicted by a decomposition tree (D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labeled by name of top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roblem nodes labeled as children of parent node corresponding to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ren from left to right represent sequential order of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d while nodes denoted by suitable dec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FD5C-8739-4460-9439-AE2621156A0C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33520"/>
            <a:ext cx="7696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problem to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P2; P3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decomposed into sequen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  decomposed in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loo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1 the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 decomposed into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9EF0-6F8E-42A0-9DAB-84DEF66F4030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sponding 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308320" y="1523880"/>
            <a:ext cx="43448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9922-0E9F-4042-9590-322828B4C60E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 with IS_COMPOSED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, M1, M2, M3 be modules representing P, P1, P2, P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not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IS_COMPOSED_OF {M1,M2,M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to add further module acting as glue to impose a sequential flow from M1 to M2 to M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ADF1-EB06-45E0-8113-6EEA8CEEB411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wise refinement is a programming technique, not a modulariz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ed to decompose system into modules, it tends to analyze problems in isolation, not recognizing comm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 not stress 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FC61-5CE7-4731-AB30-A329D09FDCC5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ttention is paid to data (it decomposes functionali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that a top fun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hich one is it in the case of an operating system? or a word process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orces premature commitment to control flow structures amo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1C81-7986-43C6-89EE-A3D6000F2331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important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change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rs tend to concentrate on curr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ffort needed to anticipate likel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families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he current system under design as a member of a program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F575-7C54-4F8C-B04B-98ACA6A920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alyz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828800"/>
            <a:ext cx="7391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a program stored in a given file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f according to the language defin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program 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BC86-931A-4476-B225-091434D90F9C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0000" y="228600"/>
            <a:ext cx="8454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lexical analy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ogram as token sequence  in file 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ymbol table in file fs, and set error_in_lexical_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lexical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yntactic analysis and se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olea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_in_syntactic_phase 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syntactic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C1AA-1B42-4C62-987C-29061A5E3E0B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it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 comes first on the entire program, producing two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we want to switch to a process driven by syntax analysis (it requests the lexical analyzer to provide a token when need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change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2E9D-9A7D-4F55-9303-FBA428D1BE2C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etter design based on 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_H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physical representation of input fi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access source file on a character-by-character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etails of lexical structure of the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provide nex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ata structure used to perform syntactic analysis (abstract object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1934-8EA6-4125-8B45-8A2A47EDD700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-down vs. bottom-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hiding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d application of IS_COMPOSED_OF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wise refinement is intrinsically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one is b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actice, people proceed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o-yo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documentation as a top-down flow may be useful for reading purposes, even if the process followed was not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4EA5-F223-418D-AAD8-0866715BEB8F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anoma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omal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vide the service as expected and as specified in its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ais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omalous state is recog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C9C5-04BF-45F6-8DB4-58A27A98B77B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failures ar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M should fail and raise an exception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i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s does not satisfy the requir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invoking one of M’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does not satisfy the required protocol when using one of its servers, and the server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ardware generated exception (e.g., division by ze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C4E1-F31F-400D-8CC3-1A17C104B5F8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 module can do before fai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efore failing, modules may try to recover from the anomaly by executing 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ion handler (E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H is a local piece of code that may try to recover from anomaly (if successful, module does not fa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may simply do some cleanup of the module’s state and then let the module fail, signaling an exception to it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AEC8-D3C6-4DEF-AC6F-E1CFFC014E3A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6072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2026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DE79-ED4F-4B65-ABDA-D8DF64B0EF25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exception propa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34084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4377-A033-4F1D-B1B3-A7A55CAB6084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eplace inefficient sorting algorithm with a more efficient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from binary tree to a threaded tree (see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% of maintenance costs attributed to data representation changes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entz and Swanson, 19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DF20-DC86-408C-BAC2-2CD9EAD314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for the MIDI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nguage is block-struct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quires a symbol table module that can cope with block static n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here module SYMBOL_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259C-8120-4AF8-B1B4-B9C08DF2C0CD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19620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228600" y="1905120"/>
            <a:ext cx="895356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19F7-2813-43B2-AE4D-CBC14FADF143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 1 is not rob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ensive design should be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must be raised in these c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sertion cannot 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ecause identifier with same name  already exists in current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TRIEVE and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dentifier with specified name not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ximum nesting depth exc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IT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o matching block entry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1A92-74C8-4A2F-AA47-71ED66F19BF3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861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07960"/>
            <a:ext cx="74678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BA50-07E1-4D3F-8871-33E7CEB1688D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uses a list management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6200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-228600" y="1981080"/>
            <a:ext cx="86104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2263-0961-4072-A7C2-A1AE68E22508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t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e of a module defining 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bstract objec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QUEUE_OF_CHAR is GENERIC_FIFO_QUEUE (CHAR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 : QUEUE_OF_CHAR.QUE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T: inserts a character 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: extracts a character from BUFF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FULL: returns true if BUFFER not fu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EMPTY: returns true if BUFFER not empt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7ECC-AE09-471F-B22D-30A524F56ABC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control correct access to shared da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fficient that clients check operation invocations, such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_1 and Consumer_2 might do this concurr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one slot is left, both may find the buffer not full, the first who writes fills it, and the other writes in a full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C4F6-0BA9-479A-BC6B-2C6388BCDC80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forcing synchro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on buffer are executed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executed as logically non-interruptib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54D3-C78B-4A72-820A-42386EE3886E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 used in a concurrent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the Jav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E417-ED78-4A1D-9C5E-B399E08ADFF5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96704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378A-8040-4529-8CC1-A02BF4B272C0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5904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420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8782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rot="10904400">
            <a:off x="3656520" y="5257440"/>
            <a:ext cx="1905120" cy="914400"/>
          </a:xfrm>
          <a:custGeom>
            <a:avLst/>
            <a:gdLst>
              <a:gd name="textAreaLeft" fmla="*/ 360 w 1905120"/>
              <a:gd name="textAreaRight" fmla="*/ 190584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80C1-68C1-4350-878C-E44961C6B7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operations are assumed to be executed in 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may be associated with an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utomatically checked when operation is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 is false, the current process is suspended until it becomes true (at that stage it becomes eligible for re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750E-27C9-4479-A392-911FDB8B81EE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 type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879804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0D96-F370-4DE0-B1DB-3353341BC61C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ardians and rendez-v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a style of designing concurr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da a shared object is active (whereas a monitor is pass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manag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uar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which can accept rendez-vous requests from tasks willing to access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625C-98B4-4415-B750-3B9280989A12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uardian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20271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64400" cy="448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60520" y="1219320"/>
            <a:ext cx="5418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nondeterministic accep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z-vou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FE6E-9D2A-45FE-9590-9B01B14F2515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l-time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where processes interact with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a put operation on a shared buffer is invoked by a plant sensor sending data to a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cannot be suspended if buffer fu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must ensure that producer never finds the buffer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onstrains the speed of  the consumer process in th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F8CB-614C-44C0-A004-B29F7DA13F2D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04624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21640" cy="34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D2B0-024D-410D-B8C2-8B7CB463A2A2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56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9250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139760" y="533412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g-zag arrow indicates asynchronous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23A0-36E1-4DAD-91C7-93D9F586087F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-machine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te procedure call or message 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shar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quire replication for efficiency rea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DB05-119D-4C41-9371-86E974D8452B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popular distributed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modules provide services to client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and servers may reside on different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C0A1-7DF4-4279-99E9-558508D124D7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modules to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vs. dynamic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modul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 to define interface of remot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 and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8CEC-C707-4D03-A32B-BC19CE704116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47:01Z</dcterms:modified>
  <cp:revision>36</cp:revision>
  <dc:subject/>
  <dc:title>Software Engineering Principles</dc:title>
</cp:coreProperties>
</file>