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4E81-0ACE-4968-84F5-49863EF0D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3F5B-34B5-4530-8CF1-FAF198DA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CA9-93C1-4BA5-81D5-91FD3CBE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F990-D694-479F-9C7A-A3F5BAAC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9ACD-6166-4ED1-83FD-D47AB8951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FF8E-F498-4E86-9440-47B4E901F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F342-497B-44A4-9F5B-FB6756AC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B098D-E268-44A8-8B9A-B37AB374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FAE7-92ED-40D1-9D30-1B23FA4DA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E28-36B5-4312-8971-1A4DEF29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C735-1239-4687-A380-8A4E7818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CDFE-A7BC-40B3-A34F-CBC65D11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E811-BD1D-4CC4-8866-A1BAC5AFD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-380880" y="1523880"/>
          <a:ext cx="11658600" cy="354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1523880"/>
                    <a:ext cx="11658600" cy="354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6:46Z</dcterms:modified>
  <cp:revision>2</cp:revision>
  <dc:subject/>
  <dc:title>PowerPoint Presentation</dc:title>
</cp:coreProperties>
</file>