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46EE-651A-421E-8EFC-2E5FD0C40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8F51-2135-4944-890E-62249DDC1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C2DD5-179A-44C3-A83E-BA6A733E5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5D6F-C8D4-4590-B7C2-068548DF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0B68-ABD2-4690-9A53-9F46622E2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9B88-FBA3-4150-87EE-BED74401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8B5CB-EAEF-4B4D-AD32-931C901B8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8598-4E05-4057-A209-E0632F09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51F5-4695-46DD-BC2F-1C2DD10DB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EEC5-0200-4EB6-873C-E0C7EA9E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B7603-5B55-4D2C-81F0-6B0A92063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FEE2-F02D-4AEE-A3FC-3AF72F7D4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803B0-8CAC-4986-A432-05C8D79E98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690560" y="2889360"/>
          <a:ext cx="2256120" cy="1038240"/>
        </p:xfrm>
        <a:graphic>
          <a:graphicData uri="http://schemas.openxmlformats.org/drawingml/2006/table">
            <a:tbl>
              <a:tblPr/>
              <a:tblGrid>
                <a:gridCol w="752760"/>
                <a:gridCol w="750600"/>
                <a:gridCol w="7527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19Z</dcterms:modified>
  <cp:revision>1</cp:revision>
  <dc:subject/>
  <dc:title>PowerPoint Presentation</dc:title>
</cp:coreProperties>
</file>