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5A30-E86E-419A-9EFE-6E8DE2020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D1C8-7006-4CD9-894F-BC5D46D48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87497-C5E3-4588-B640-D28DBD9E9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D486-A5C3-4118-A655-FDDE33B64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B613-F669-4582-9C63-6FE686C84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787E-9ABD-4012-973F-656D93FF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0750-C6F9-4E17-BB2E-49A1F2494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9680-932C-487D-8980-32519F30B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03D1-2A67-4943-99D6-2D36767E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9282-7543-43B1-8C4F-8408EBD25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2FA4-3988-4F29-B733-2D832675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8AE1-F55A-4D56-A357-8F786F44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860B-4F9F-4E3A-8668-30D28C4C14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7:07Z</dcterms:modified>
  <cp:revision>1</cp:revision>
  <dc:subject/>
  <dc:title>PowerPoint Presentation</dc:title>
</cp:coreProperties>
</file>