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99E3-EE6D-4144-930D-BEF6A48B6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F9996-DC01-4BC2-83FB-812C56AF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E0CB9-9E20-41DE-A7A8-6BE65D11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61A8-ED66-4709-9154-62C1C915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7C21-A32A-4A46-B948-78C4D99E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B2E1-0177-43A6-94C7-68C631BF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92A2-31D0-4831-B7DE-6AF62EC9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2B22-FD48-4646-A2B0-BE188D20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063C-8FF2-42B6-ADDA-A634C4BFE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21F-7072-438C-B0E7-80E611BD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7BFC-296E-406D-A2C6-DEB3C5B59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23C7-75C4-44E4-AF46-25ED8E2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8390-5858-4520-8AEF-2D86FE0043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403360" y="4525920"/>
          <a:ext cx="1554120" cy="1557360"/>
        </p:xfrm>
        <a:graphic>
          <a:graphicData uri="http://schemas.openxmlformats.org/drawingml/2006/table">
            <a:tbl>
              <a:tblPr/>
              <a:tblGrid>
                <a:gridCol w="777960"/>
                <a:gridCol w="776160"/>
              </a:tblGrid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8720">
                      <a:solidFill>
                        <a:srgbClr val="030000"/>
                      </a:solidFill>
                    </a:lnR>
                    <a:lnT>
                      <a:noFill/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b31"/>
                          </a:solidFill>
                          <a:latin typeface="Times New Roman"/>
                        </a:rPr>
                        <a:t>v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30000"/>
                      </a:solidFill>
                    </a:lnL>
                    <a:lnR w="18720">
                      <a:solidFill>
                        <a:srgbClr val="030000"/>
                      </a:solidFill>
                    </a:lnR>
                    <a:lnT w="18720">
                      <a:solidFill>
                        <a:srgbClr val="030000"/>
                      </a:solidFill>
                    </a:lnT>
                    <a:lnB w="18720">
                      <a:solidFill>
                        <a:srgbClr val="03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6:09:30Z</dcterms:created>
  <dc:creator>Spencer Smith</dc:creator>
  <dc:description/>
  <dc:language>en-US</dc:language>
  <cp:lastModifiedBy>Spencer Smith</cp:lastModifiedBy>
  <dcterms:modified xsi:type="dcterms:W3CDTF">2008-03-12T16:23:53Z</dcterms:modified>
  <cp:revision>2</cp:revision>
  <dc:subject/>
  <dc:title>PowerPoint Presentation</dc:title>
</cp:coreProperties>
</file>