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E8BA-9117-44AC-8F33-BAD0A1FF2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CF56-3B13-453E-A6E3-1599E57B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C8F5-B4F1-4611-807D-587C0D6FE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1114-E604-48B4-A76D-71D51DCAD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B0C6-18A7-4681-B62E-EC4C93098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BC1C-3897-48A3-A43F-B7A6849A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A3EB-ACEB-4931-A143-D2813DAAD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03B2-A6B7-468C-AB48-C33DC114E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C827-F8B3-4DF6-9831-ABE147CF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9BC3-B474-414F-B825-B63E07F9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1830-6F27-4571-9A2D-16AEEAB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DE53-381D-4E60-8F93-E07F29300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E8054-2C03-4375-AB5F-1FE8437029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01Z</dcterms:modified>
  <cp:revision>2</cp:revision>
  <dc:subject/>
  <dc:title>PowerPoint Presentation</dc:title>
</cp:coreProperties>
</file>