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E6C6-5BED-4A44-900D-2B878A4F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666C-A272-4387-85AD-44FDE1B8E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246E-099A-4089-A361-BEC1C6054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5374-0979-4C34-8077-AEFEB0C20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2DCF-B30B-4BA5-8DD8-5055CE223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DAD-7C69-4934-89A9-E1BF1C1D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E0A9-C02D-4B1A-94B5-DAACFCC9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BB9C-777F-4E22-AA04-E2450DCF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AE4D-40B8-4D2A-A24E-ACCEC3936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6434-E62C-4179-9819-1EC235EB1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6D3D-95EC-4EA0-96C7-D7EE1603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42CA-E953-47DF-9BAE-5949BFEA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E8F0-76C6-4FAB-9D4D-70701B85DA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01520" y="2239920"/>
          <a:ext cx="9045720" cy="374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520" y="2239920"/>
                    <a:ext cx="9045720" cy="37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5:54:07Z</dcterms:created>
  <dc:creator>Spencer Smith</dc:creator>
  <dc:description/>
  <dc:language>en-US</dc:language>
  <cp:lastModifiedBy>Spencer Smith</cp:lastModifiedBy>
  <dcterms:modified xsi:type="dcterms:W3CDTF">2008-03-12T15:54:41Z</dcterms:modified>
  <cp:revision>1</cp:revision>
  <dc:subject/>
  <dc:title>PowerPoint Presentation</dc:title>
</cp:coreProperties>
</file>