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934F-AB53-4CB3-B9E7-8D9885D31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B0B6-76D8-4C2D-8EC9-90AE7F4D6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54A-3519-4331-8EFC-1BDA1D63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146E-973A-412B-B936-2FE31091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F7DD-1D39-4137-8108-09E6B7033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9913-A216-4F4F-BF7F-30AD9B18C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8307-BB7D-4433-8672-0F1F44B74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F16F-3DF2-4390-B6A0-AFC3C60F7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A1CC-AF7F-4286-9A60-A26EFDC67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2A0EF-4183-4E8E-A237-95DF8F72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56C27-2888-4C8C-8EC7-277A5B7A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F5C8-F2EC-46A5-8A0C-91ED8AD8E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DFC8-B951-4130-A12A-C32E332B27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78080" y="2836800"/>
            <a:ext cx="158760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192800" y="2836800"/>
            <a:ext cx="1563840" cy="924120"/>
          </a:xfrm>
          <a:prstGeom prst="rect">
            <a:avLst/>
          </a:prstGeom>
          <a:solidFill>
            <a:srgbClr val="fdf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765680" y="2836800"/>
            <a:ext cx="2417760" cy="924120"/>
          </a:xfrm>
          <a:prstGeom prst="rect">
            <a:avLst/>
          </a:prstGeom>
          <a:solidFill>
            <a:srgbClr val="ff4b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7040" y="325764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b31"/>
                </a:solidFill>
                <a:latin typeface="Times New Roman"/>
              </a:rPr>
              <a:t>OP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2680" y="3817800"/>
          <a:ext cx="8216640" cy="304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2680" y="3817800"/>
                    <a:ext cx="8216640" cy="30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178080" y="30718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78080" y="3529080"/>
            <a:ext cx="5578560" cy="0"/>
          </a:xfrm>
          <a:prstGeom prst="line">
            <a:avLst/>
          </a:prstGeom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38400" y="3097080"/>
            <a:ext cx="1138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m_signal</a:t>
            </a:r>
            <a:r>
              <a:rPr b="0" lang="en-GB" sz="16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48120" y="2782800"/>
            <a:ext cx="102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set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60360" y="3119400"/>
            <a:ext cx="118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k_hyster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262480" y="3546360"/>
            <a:ext cx="153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85000" y="3132000"/>
            <a:ext cx="0" cy="325440"/>
          </a:xfrm>
          <a:prstGeom prst="line">
            <a:avLst/>
          </a:prstGeom>
          <a:ln w="936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182000" y="2844720"/>
            <a:ext cx="158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38400" y="3546360"/>
            <a:ext cx="1819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NON-TRIP REG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129120" y="2938320"/>
            <a:ext cx="214200" cy="828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03560" y="3243240"/>
            <a:ext cx="263520" cy="1224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90840" y="2909880"/>
            <a:ext cx="4934160" cy="782640"/>
          </a:xfrm>
          <a:custGeom>
            <a:avLst/>
            <a:gdLst/>
            <a:ahLst/>
            <a:rect l="l" t="t" r="r" b="b"/>
            <a:pathLst>
              <a:path w="3108" h="493">
                <a:moveTo>
                  <a:pt x="3108" y="248"/>
                </a:moveTo>
                <a:cubicBezTo>
                  <a:pt x="3059" y="261"/>
                  <a:pt x="3011" y="275"/>
                  <a:pt x="2976" y="300"/>
                </a:cubicBezTo>
                <a:cubicBezTo>
                  <a:pt x="2941" y="325"/>
                  <a:pt x="2923" y="366"/>
                  <a:pt x="2896" y="396"/>
                </a:cubicBezTo>
                <a:cubicBezTo>
                  <a:pt x="2869" y="426"/>
                  <a:pt x="2856" y="467"/>
                  <a:pt x="2816" y="480"/>
                </a:cubicBezTo>
                <a:cubicBezTo>
                  <a:pt x="2776" y="493"/>
                  <a:pt x="2711" y="483"/>
                  <a:pt x="2656" y="476"/>
                </a:cubicBezTo>
                <a:cubicBezTo>
                  <a:pt x="2601" y="469"/>
                  <a:pt x="2533" y="451"/>
                  <a:pt x="2484" y="436"/>
                </a:cubicBezTo>
                <a:cubicBezTo>
                  <a:pt x="2435" y="421"/>
                  <a:pt x="2400" y="402"/>
                  <a:pt x="2364" y="384"/>
                </a:cubicBezTo>
                <a:cubicBezTo>
                  <a:pt x="2328" y="366"/>
                  <a:pt x="2301" y="339"/>
                  <a:pt x="2268" y="328"/>
                </a:cubicBezTo>
                <a:cubicBezTo>
                  <a:pt x="2235" y="317"/>
                  <a:pt x="2207" y="348"/>
                  <a:pt x="2164" y="320"/>
                </a:cubicBezTo>
                <a:cubicBezTo>
                  <a:pt x="2121" y="292"/>
                  <a:pt x="2055" y="208"/>
                  <a:pt x="2008" y="160"/>
                </a:cubicBezTo>
                <a:cubicBezTo>
                  <a:pt x="1961" y="112"/>
                  <a:pt x="1939" y="57"/>
                  <a:pt x="1884" y="32"/>
                </a:cubicBezTo>
                <a:cubicBezTo>
                  <a:pt x="1829" y="7"/>
                  <a:pt x="1752" y="13"/>
                  <a:pt x="1676" y="8"/>
                </a:cubicBezTo>
                <a:cubicBezTo>
                  <a:pt x="1600" y="3"/>
                  <a:pt x="1515" y="0"/>
                  <a:pt x="1428" y="0"/>
                </a:cubicBezTo>
                <a:cubicBezTo>
                  <a:pt x="1341" y="0"/>
                  <a:pt x="1227" y="2"/>
                  <a:pt x="1156" y="8"/>
                </a:cubicBezTo>
                <a:cubicBezTo>
                  <a:pt x="1085" y="14"/>
                  <a:pt x="1046" y="25"/>
                  <a:pt x="1004" y="36"/>
                </a:cubicBezTo>
                <a:cubicBezTo>
                  <a:pt x="962" y="47"/>
                  <a:pt x="939" y="53"/>
                  <a:pt x="904" y="76"/>
                </a:cubicBezTo>
                <a:cubicBezTo>
                  <a:pt x="869" y="99"/>
                  <a:pt x="834" y="143"/>
                  <a:pt x="792" y="176"/>
                </a:cubicBezTo>
                <a:cubicBezTo>
                  <a:pt x="750" y="209"/>
                  <a:pt x="702" y="247"/>
                  <a:pt x="652" y="272"/>
                </a:cubicBezTo>
                <a:cubicBezTo>
                  <a:pt x="602" y="297"/>
                  <a:pt x="539" y="321"/>
                  <a:pt x="492" y="328"/>
                </a:cubicBezTo>
                <a:cubicBezTo>
                  <a:pt x="445" y="335"/>
                  <a:pt x="409" y="318"/>
                  <a:pt x="368" y="312"/>
                </a:cubicBezTo>
                <a:cubicBezTo>
                  <a:pt x="327" y="306"/>
                  <a:pt x="283" y="283"/>
                  <a:pt x="244" y="292"/>
                </a:cubicBezTo>
                <a:cubicBezTo>
                  <a:pt x="205" y="301"/>
                  <a:pt x="173" y="339"/>
                  <a:pt x="132" y="364"/>
                </a:cubicBezTo>
                <a:cubicBezTo>
                  <a:pt x="91" y="389"/>
                  <a:pt x="22" y="431"/>
                  <a:pt x="0" y="444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3:27:41Z</dcterms:created>
  <dc:creator>Spencer Smith</dc:creator>
  <dc:description/>
  <dc:language>en-US</dc:language>
  <cp:lastModifiedBy>Spencer Smith</cp:lastModifiedBy>
  <dcterms:modified xsi:type="dcterms:W3CDTF">2008-03-12T15:22:48Z</dcterms:modified>
  <cp:revision>3</cp:revision>
  <dc:subject/>
  <dc:title>PowerPoint Presentation</dc:title>
</cp:coreProperties>
</file>