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D6E7-34D5-4173-A1D4-19913C12A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50EC-C731-496E-BDF4-58BD22447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DD65-5C08-45C1-8A8A-A553CEC9A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6CE3-059B-4777-B5EC-52F96AE99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647-8991-41CB-B63A-ECA402E29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B99F-F2DE-429A-B0EE-177ABD5BC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EF6-7604-438C-AA0A-0AE71BC6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E00F-1CE6-44E6-90FF-B490F217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4A40-6A0E-490E-939F-D988A54F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BB1-47C0-4409-9B69-B9D5BFAF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1ACCC-7AED-4C04-9647-0111E90C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8A05-199A-405E-9020-9D23A1DAE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4AA10-C3CE-40CD-8347-18922B1393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3:25Z</dcterms:modified>
  <cp:revision>6</cp:revision>
  <dc:subject/>
  <dc:title>PowerPoint Presentation</dc:title>
</cp:coreProperties>
</file>