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5864-F8C8-4F74-8D0C-922138FFF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C715-2126-4D3D-9F4B-3C2295D75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3CB6-3DE4-41A1-B0A4-71BBA67F7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4ABE-319A-4934-A8E6-95670BD4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3EE0-CEE2-4D4D-9748-D18D52BC7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3AD6-208C-4913-98AB-C3F9ABDF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04BFB-BB79-4036-B369-9EC65CA56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1E7C-465F-4DEE-898C-CF8685889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0BD1-BB87-458C-AA8A-387416733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9C2E-8467-4E1E-8B99-AF96EE41D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826-ABD0-41CE-B2FA-65531F2B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1E42-259B-4960-82AB-662FEEB7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C034-CF5C-4A6F-A143-2FE2FBED9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219320" y="468360"/>
            <a:ext cx="6997680" cy="58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2:21Z</dcterms:modified>
  <cp:revision>1</cp:revision>
  <dc:subject/>
  <dc:title>PowerPoint Presentation</dc:title>
</cp:coreProperties>
</file>