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0912-01D6-4ECC-8519-0C55B12C1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AD8D0-BCFD-4E55-A777-EDC142D42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2A36D-FBFD-426E-A791-2F41CEA8D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0DE8-A4F3-4858-8BEC-09BD9956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36CD-9178-4705-A5AA-D0E1B41A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89F1-A199-4B90-99A8-93E4AAA81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9208-549D-42F2-B713-A0FCDDC8E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17B1-E31C-49F6-9669-38360543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5936-5396-43EF-9762-8A200304F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B7B-469C-4B49-A461-4693577A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F94-34C8-48F8-8263-CEA40882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6016-E2ED-46D4-B5CB-48BD5C50D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8BC7-708C-42D1-AFF9-7DEF4AF866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346560" y="2766960"/>
          <a:ext cx="5514840" cy="138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6560" y="2766960"/>
                    <a:ext cx="551484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146320" y="4179960"/>
            <a:ext cx="4854600" cy="23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021040" y="1717560"/>
            <a:ext cx="5143320" cy="18162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6400" y="1182600"/>
            <a:ext cx="46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 of a table describing f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4440" y="3681360"/>
            <a:ext cx="239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sponding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02360" y="2295360"/>
            <a:ext cx="0" cy="22392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230640" y="2905200"/>
            <a:ext cx="295200" cy="0"/>
          </a:xfrm>
          <a:prstGeom prst="line">
            <a:avLst/>
          </a:prstGeom>
          <a:ln w="19080">
            <a:solidFill>
              <a:srgbClr val="ff0b3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252200" y="2351160"/>
            <a:ext cx="16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60000" y="15080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56640" y="208764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48920" y="3317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3120" y="1609560"/>
            <a:ext cx="2009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ds(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95360" y="1920960"/>
            <a:ext cx="265320" cy="61920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95360" y="1909800"/>
            <a:ext cx="1200240" cy="1317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240" y="2282760"/>
            <a:ext cx="208116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 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 =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: R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i,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64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50280" y="3247920"/>
            <a:ext cx="23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252400" y="354024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ues(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943600" y="3311640"/>
            <a:ext cx="385920" cy="387360"/>
          </a:xfrm>
          <a:prstGeom prst="line">
            <a:avLst/>
          </a:prstGeom>
          <a:ln w="19080">
            <a:solidFill>
              <a:srgbClr val="1c4a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3:04Z</dcterms:created>
  <dc:creator>Spencer Smith</dc:creator>
  <dc:description/>
  <dc:language>en-US</dc:language>
  <cp:lastModifiedBy>Spencer Smith</cp:lastModifiedBy>
  <dcterms:modified xsi:type="dcterms:W3CDTF">2008-03-12T16:04:21Z</dcterms:modified>
  <cp:revision>1</cp:revision>
  <dc:subject/>
  <dc:title>PowerPoint Presentation</dc:title>
</cp:coreProperties>
</file>