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229D-3DDC-4065-BB3F-BA17C64E9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458C-3616-45A0-B17C-9B4BFC9A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CAD-3190-4E54-A6A8-958D2533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E3D7-6102-42B7-B56C-AE35860A4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7DFC-11A3-400F-AC10-A08F3DB17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BF6F-76B0-49C6-8A3F-8BCAF10F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E34C6-F565-4992-BB83-4496B1D1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7398-3772-4FF6-A350-8EADB36A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7E36-A65C-4EC7-8529-AFFDACA07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6EB2-AF6F-42D2-870C-945A06E6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7011-CCE2-4183-9645-C4277719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331-7CA3-4AF2-85F5-41A63CE6A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51C6-9642-48DC-B626-320C420F6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9:55Z</dcterms:modified>
  <cp:revision>4</cp:revision>
  <dc:subject/>
  <dc:title>PowerPoint Presentation</dc:title>
</cp:coreProperties>
</file>