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9121-DD66-4B46-99C3-93ED6A085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86F91-56AA-473B-A2EA-0B98F1BD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CFCC-8BF1-496C-8239-6137C9A4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A931-C305-4E57-A758-05901890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7391-34E5-4764-B38E-97DD2CB4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7DD7-CF32-4CAC-BB78-F72DCCD0A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50CC-40BF-498A-AACF-4C7F64A8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A806-C15F-447F-ACD1-780C57FE6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3D33-74A9-464A-AC2B-6FDF8B95E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88AB-F4C1-4CB5-ADE5-AE79A1345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3022-D09A-45E5-BF69-88E135436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345F-B30B-4713-B7EC-BC9C8E1CE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E07-059C-45EF-9D41-153C38914C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0" y="1523880"/>
          <a:ext cx="4419720" cy="294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523880"/>
                    <a:ext cx="4419720" cy="29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5T15:14:48Z</dcterms:created>
  <dc:creator>Spencer Smith</dc:creator>
  <dc:description/>
  <dc:language>en-US</dc:language>
  <cp:lastModifiedBy>Spencer Smith</cp:lastModifiedBy>
  <dcterms:modified xsi:type="dcterms:W3CDTF">2008-02-15T15:17:25Z</dcterms:modified>
  <cp:revision>3</cp:revision>
  <dc:subject/>
  <dc:title>PowerPoint Presentation</dc:title>
</cp:coreProperties>
</file>