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8FBB9-0A52-4DF7-A57B-E9B6DEB2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412F-6AE4-429F-80D4-24637ABAB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E61F-C130-45D5-91E9-F13FA908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9AB2-5173-493D-A1B6-C8A2928F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C9AA-138B-487C-8261-D78BE244F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A711-22EC-4502-A8E5-DDC9D4D71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F29-74E4-446B-B413-02F2C569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EC9C-767E-4C1E-86D3-FF4C0F51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5D25-A085-4944-B667-C421DAB84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540D-3050-4034-9116-D19962990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A400-91F5-4A98-8B73-71A2B3AB1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92ED-E566-45B3-8DD0-B9787148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F0E62-7A89-46AE-8750-624E52C17F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2248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8928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4:25Z</dcterms:modified>
  <cp:revision>7</cp:revision>
  <dc:subject/>
  <dc:title>PowerPoint Presentation</dc:title>
</cp:coreProperties>
</file>