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C215-2B83-4D9F-BA8F-2C977EE7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E119-7371-41D4-B491-59E9DA3C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E24C-7940-42FC-B42D-BE175A15D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72A1-2233-4529-8D3A-C80A3213E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D249-C0CF-4333-AAD1-49E8D593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2891-EA66-485A-A0BD-0A9600D8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E2A5A-0689-4F99-AF1C-876134944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EBB8-AF26-4356-BF8D-078AE64C4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73F7-CB76-460B-8171-CD8F079C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EA9A-F7A8-4A19-95BA-3156904D6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18361-CA01-4371-B034-5CEAA042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FBC5-B3D1-4019-8CC4-FE532E15F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E75A6-7F53-4F2D-977F-04CEA849B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5280" y="1430280"/>
            <a:ext cx="3602160" cy="1079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22400" y="3274920"/>
            <a:ext cx="3720960" cy="106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42920" y="5183280"/>
            <a:ext cx="4451400" cy="1226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4775040" y="1338120"/>
            <a:ext cx="4232520" cy="31276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4957920" y="5102280"/>
            <a:ext cx="4049640" cy="1165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60" y="111276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90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4b900"/>
                </a:solidFill>
                <a:latin typeface="Times New Roman"/>
              </a:rPr>
              <a:t>Inver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20" y="471024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339080" y="1122480"/>
            <a:ext cx="12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65040" y="466884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d5c00"/>
                </a:solidFill>
                <a:latin typeface="Times New Roman"/>
              </a:rPr>
              <a:t>Generalized Dec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934760" y="108432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965000" y="48117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70600" y="63882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94680" y="282240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value cel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3179520" y="6329160"/>
            <a:ext cx="112680" cy="214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2997000" y="2539800"/>
            <a:ext cx="161640" cy="35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260880" y="3057480"/>
            <a:ext cx="204480" cy="243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7862760" y="1252440"/>
            <a:ext cx="12384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7873560" y="5010120"/>
            <a:ext cx="133560" cy="141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08080"/>
            <a:ext cx="4308480" cy="1736640"/>
          </a:xfrm>
          <a:prstGeom prst="rect">
            <a:avLst/>
          </a:prstGeom>
          <a:solidFill>
            <a:srgbClr val="bbe0e3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0" y="2865600"/>
            <a:ext cx="4308480" cy="1747800"/>
          </a:xfrm>
          <a:prstGeom prst="rect">
            <a:avLst/>
          </a:prstGeom>
          <a:solidFill>
            <a:srgbClr val="3333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622760"/>
            <a:ext cx="4794120" cy="1979640"/>
          </a:xfrm>
          <a:prstGeom prst="rect">
            <a:avLst/>
          </a:prstGeom>
          <a:solidFill>
            <a:srgbClr val="cdffc6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805280" y="4632480"/>
            <a:ext cx="4338720" cy="1962000"/>
          </a:xfrm>
          <a:prstGeom prst="rect">
            <a:avLst/>
          </a:prstGeom>
          <a:solidFill>
            <a:srgbClr val="b4b9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308480" y="1087560"/>
            <a:ext cx="4835520" cy="3535200"/>
          </a:xfrm>
          <a:prstGeom prst="rect">
            <a:avLst/>
          </a:prstGeom>
          <a:solidFill>
            <a:srgbClr val="009999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517320" y="6287760"/>
            <a:ext cx="2786040" cy="297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8:55Z</dcterms:modified>
  <cp:revision>3</cp:revision>
  <dc:subject/>
  <dc:title>PowerPoint Presentation</dc:title>
</cp:coreProperties>
</file>