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F396-C805-43B7-8C28-827E1048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E01AB-42D8-431B-9F96-62A2595BB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22F-FF39-4477-87BC-05474EC87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C7CC-5170-44C7-B81A-DBC950EBF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799-F71D-45BE-98E8-C3C26AD6D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88E-A82A-4E9A-BB15-910DC1BF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1B30-C9BD-4773-AAD4-87CC15AC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398F-E54A-43BE-8108-D230FF05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E301-F849-4532-97EA-AD5B0C5C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A505-5F49-4A05-BAA9-53FCD15F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9BA4-A675-4214-AC70-D3A7E7529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FED1-CD8E-4F7B-A74D-20322E16C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3460-6CAC-4AAA-9CEB-126D03A21A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69720" y="3397320"/>
          <a:ext cx="5578560" cy="2766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397320"/>
                    <a:ext cx="557856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 flipH="1">
            <a:off x="7314840" y="3568680"/>
            <a:ext cx="12600" cy="237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92840" y="4749840"/>
            <a:ext cx="29210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277040" y="46735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0484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6438960" y="4673520"/>
            <a:ext cx="114120" cy="1144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892840" y="4673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05640" y="46609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102520" y="468648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24960" y="46609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264440" y="4889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277040" y="52196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264440" y="57405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51840" y="440676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77040" y="397512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277040" y="3594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30920" y="43052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981760" y="37846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59800" y="5105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56680" y="581652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67560" y="5181480"/>
            <a:ext cx="11412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56200" y="572760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051760" y="416556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458200" y="3619440"/>
            <a:ext cx="114480" cy="139680"/>
          </a:xfrm>
          <a:prstGeom prst="octagon">
            <a:avLst>
              <a:gd name="adj" fmla="val 29287"/>
            </a:avLst>
          </a:prstGeom>
          <a:solidFill>
            <a:srgbClr val="d11b00"/>
          </a:solidFill>
          <a:ln w="76320">
            <a:solidFill>
              <a:srgbClr val="d71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595920" y="5430960"/>
            <a:ext cx="90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x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147160" y="4795920"/>
            <a:ext cx="99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y =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8T04:21:28Z</dcterms:created>
  <dc:creator>Spencer Smith</dc:creator>
  <dc:description/>
  <dc:language>en-US</dc:language>
  <cp:lastModifiedBy>Spencer Smith</cp:lastModifiedBy>
  <dcterms:modified xsi:type="dcterms:W3CDTF">2008-03-28T04:22:58Z</dcterms:modified>
  <cp:revision>1</cp:revision>
  <dc:subject/>
  <dc:title>PowerPoint Presentation</dc:title>
</cp:coreProperties>
</file>