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C39-5A5E-45B4-A2B7-D9DBABA3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8964D-B5C8-43A3-A315-F54DF888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EB27-F36A-47BC-8704-04B0EA69F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C1CD-9885-4EAD-BFC1-41B0B2A1D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449-A1FA-4920-AB5D-6C545DAE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160E-7927-4810-81B0-8E7A66FC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3DA0-DE71-49EC-9E5B-905987872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6DBE-FC70-4FD2-8A8D-C18B00BFB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3D99-E247-40A7-B1A7-0028885A5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D618-38BC-4ABD-B56E-E292D9B0D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1E30-092C-4C96-9D52-66CF48F6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AE80-C766-4AB6-8C6D-3C165129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5FBA-FB99-4F7D-9EC9-954876A064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52440" y="1704960"/>
            <a:ext cx="8562960" cy="1527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13200" y="14018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ac"/>
                </a:solidFill>
                <a:latin typeface="Times New Roman"/>
              </a:rPr>
              <a:t>SCR/A7-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3:30:15Z</dcterms:modified>
  <cp:revision>1</cp:revision>
  <dc:subject/>
  <dc:title>PowerPoint Presentation</dc:title>
</cp:coreProperties>
</file>