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D8BC5-93B4-4CDF-B141-8CD7D0E47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B118A-3263-4A2F-BA2C-75EBADBA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A13B-A583-4EE2-A64A-8379B891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FB4-A6E1-48E7-AFE6-923E097BC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9A84C-B50C-41D2-8907-EAA8ABB97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200E-1FD3-4752-94CB-061E9B022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013F-85B7-4ACA-9A7C-5A7AAC0AD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F538-8B97-4793-ACB7-E0CE4CA01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46AA-F153-4E1F-97B0-440E46FD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D328-6402-4CAE-9F44-F63DBC31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4FB2-7F55-419C-8F7A-AF7F3EE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2A76-31DB-491F-B040-CBC2A0485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F9D3B-FBE9-4CA9-8327-B69267986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0312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8896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00Z</dcterms:modified>
  <cp:revision>2</cp:revision>
  <dc:subject/>
  <dc:title>PowerPoint Presentation</dc:title>
</cp:coreProperties>
</file>