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BA82-6553-444A-AC3D-32E07E220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463-85ED-4C6A-AE76-1E66F63EB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48EC-4FC5-4A74-84A3-8A5E5F234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9D11-1819-4B5C-8276-2289B12C5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6422-2BCB-457E-A641-8338696A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749-20B5-4D73-B7DA-08291915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C1FC-0099-487E-9E8B-1DAF5870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A6D2-5D7D-48D2-9B57-BEEF3CDFB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6DDD3-67CA-429E-8D50-47966940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A9C5-FF68-4EF4-BAD5-64EC179E0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662E-379B-43EF-A6E0-D915451C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7C77-2733-4314-9E79-548E21EE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2AB6-8231-4980-A103-2A44CBE47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905120" y="762120"/>
          <a:ext cx="487368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762120"/>
                    <a:ext cx="487368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30:02Z</dcterms:modified>
  <cp:revision>7</cp:revision>
  <dc:subject/>
  <dc:title>PowerPoint Presentation</dc:title>
</cp:coreProperties>
</file>