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80412-E2E8-403D-8E34-58A71A3A6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753F-114C-41DF-A9F5-4534E31B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4BB0-6502-4C56-8422-41A81B4BD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C658-45B8-4504-A74C-5DA1B42AF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1418D-C167-4E4B-9CEE-CCAB6500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AC4A-0165-45D0-BC7A-7095895D5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4DB9-1511-4FC5-87B6-0DC82395E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A0E8-7DF1-4DA0-81C2-E950A6C1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4925-AC85-47FE-A0D8-4FB1D0B5B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B59C-C3CE-4878-BAD9-8A7278F0B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CC2A-9ED1-4579-8027-B69450732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634E-0AFD-4C66-94B5-5734A15A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A513-1363-4C9F-B7F1-79C02C8BE7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308240" y="1168560"/>
            <a:ext cx="6629400" cy="49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47Z</dcterms:modified>
  <cp:revision>8</cp:revision>
  <dc:subject/>
  <dc:title>PowerPoint Presentation</dc:title>
</cp:coreProperties>
</file>