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6B766-937B-446E-B2BF-B0B0EBBF7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AFDD-4545-4555-95BD-44AE3F20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220-B31C-40D1-BDA9-91A0EC71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FBF0-4272-4253-A9D4-CB4455C6B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FDA4-BB8E-494C-AF32-7FBD9BFCA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D159-86C2-44CD-B974-F65307A87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EB88-ADDB-4158-B24C-50C5555CD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F18D-8A7C-406A-9DB5-E818AF825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31FB-A0BD-4D96-8D2C-EC36BDFA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8BCD-CB4F-4301-B87F-D6B46146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7498-0EC5-4B71-90A6-2430CDD43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7B15-6883-4700-9ECA-88C5C1A0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8E82B-04BC-437E-8009-8D72B8F76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43000" y="762120"/>
          <a:ext cx="7008840" cy="550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762120"/>
                    <a:ext cx="700884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6:45Z</dcterms:modified>
  <cp:revision>3</cp:revision>
  <dc:subject/>
  <dc:title>PowerPoint Presentation</dc:title>
</cp:coreProperties>
</file>