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A7AB-857D-49C5-B63C-E444C56B3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E02-B8E2-4218-8A2A-3A2E1FA8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7E33-F00B-4316-9B0B-099279BC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345B-A484-40B9-8391-B343E736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81E-C56A-4A8A-9CE2-53C57432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9EA5-2605-44FA-A0F5-8EC80E264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F7F4-2D9E-4E97-A645-3C4CB718E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495-FDF7-4A4E-96E4-7AAEEA98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C9F5-6599-42C0-AB8D-B66D9B723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D7C2-D974-494F-968A-8958C064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3FB4-09ED-4735-A470-3A8DFA22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33B7-9D0F-4971-9BC0-9DC0440E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9E2F6-15C2-4CC7-B12A-C3543C01B2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752480" y="1600200"/>
          <a:ext cx="52578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600200"/>
                    <a:ext cx="52578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8:05Z</dcterms:modified>
  <cp:revision>4</cp:revision>
  <dc:subject/>
  <dc:title>PowerPoint Presentation</dc:title>
</cp:coreProperties>
</file>