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5CD7-0512-4ADE-B6C3-06C225F0B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0F25-B855-4B32-802D-6F46B807D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DD92-7A9C-47F5-ABA9-87276A4C0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B260-CBC9-47C9-8E1A-8F5422ED2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43A5-5F78-4E32-BBF4-FA825E1A4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84363-865C-4F3D-A9EC-ACEBB17AE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3992-FF40-43B8-8E23-A71DE9DEE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EBC0-312C-4A9D-8A25-8CBA483E6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3EA4-1C72-4A8B-AE9A-ED7CBFF56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2933-EB3E-46BC-AFC4-55320821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136F-EBEB-4BE4-8921-BE9C517C1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1F28-E7AD-4FA3-A2C9-E37EA5F55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DA2FF-8E77-4E1A-9CDA-F9B2D34741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32484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09:16Z</dcterms:modified>
  <cp:revision>3</cp:revision>
  <dc:subject/>
  <dc:title>PowerPoint Presentation</dc:title>
</cp:coreProperties>
</file>