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33F8-F708-4571-95EE-DDB05715F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7577-D6AD-426E-A6C7-89F8AD3E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3CD9-1273-45E1-B560-AF12E3BE2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228B-D302-4087-8CFF-467149666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F0DE-BDDF-4D3F-9D6D-9969D938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933E-1A00-414C-8569-98382C7B5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E65D-CAB1-4E55-AA7F-29731FC1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8D3E-2A3A-4ABB-9F3E-3F6AADFE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DA136-4270-46F5-9980-AF1B5BFDE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2D3C-1BB5-4204-B0E6-395F0F61C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FE3C-8FA7-4658-B3CD-E5FCBA6CE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4487-F868-4CFD-9B23-FE563F42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CEDF-081F-46C3-BE7A-340582F876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42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9530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36512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52016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9544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74760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ra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47352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9:23Z</dcterms:modified>
  <cp:revision>4</cp:revision>
  <dc:subject/>
  <dc:title>PowerPoint Presentation</dc:title>
</cp:coreProperties>
</file>