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7932-5D63-4AA5-ABA4-1797578CF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0BD2-85C0-4BFD-B1D0-1AA3B7492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2311-DA95-4A79-9709-3CACC9886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DF1D-68B4-48D5-A5BF-D7A442154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9B8E-1194-47DE-B72F-26A1AA8D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8B77-8CEE-4134-BA69-67C61F48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D39E-8850-4FC2-927D-9A5EED16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C65F-0081-4988-AED2-29B7E189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1075-D8FB-4577-AD0F-52D34B56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8A4C-D619-4DBC-AF3A-316039D1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DEA6-F7F4-460E-BF9F-B151EF70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109C-EABD-47F4-8123-64EA17E8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89CB-BB97-4657-897F-CEF02CE23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A9C0-58FE-4384-BECC-60ECAB1F090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cise, unambiguous, cle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ther example (from a real safety-critical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718920" y="2971800"/>
            <a:ext cx="7861680" cy="1922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ssage must be triplicated.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pies must be forwarded through th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ferent physical channels. The rece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s the message on the basis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wo-out-of-three voting policy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9000" y="5334120"/>
            <a:ext cx="830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 message be accepted as soon as we receive 2 out of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ntical copies of message or do we need to wai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eipt of the 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4344-9004-4030-9C79-AFE45A48F9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-11520" y="1828800"/>
            <a:ext cx="955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0: Reserving F from inside E, which is not standing at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auses immediate update of L according to previous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12200" y="2971800"/>
            <a:ext cx="70412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F = insert_in_order(L, F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27E7-58AC-442F-B603-FCD1DE868E8B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635760" y="990720"/>
            <a:ext cx="598968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1: Effect of arrival of E at floor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79480" y="1523880"/>
            <a:ext cx="53146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 = first (L) and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= tail (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0640" y="3505320"/>
            <a:ext cx="4276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2: How lis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23000" y="4038480"/>
            <a:ext cx="6537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2D79-E73A-43D1-9BFE-F215D36715F9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stem can be simulated by providing a state (set of facts) and using rules to make de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2, 3, 5, 7)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levator 2 at floor 3 at least from instant 5 to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(2, empty, 5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(2, 8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(2, {8}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excluding other ev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2, up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 arrival (2, 8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*(8-3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F212-2F51-4AE6-BCC3-2F7E6B9565C6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can be stated and proved via ded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ll requests are served eventuall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7614-6488-4A2F-A0A0-DAA64DD6589F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ve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ystem and its properties are described in the same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ng properties, however, cannot be fully mechanized for mos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7A31-29C9-4AAF-97F0-767968C7F4E2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eterogene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lgebr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erogeneous = more than 1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ially useful to specify AD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AA84-E8E8-411B-8B65-D35DBF360569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strings, with operations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ing new, empty strings (operation n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ing strings (operation appe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ing a new character at the end of a string (operation ad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the length of a given string (operation leng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a string is empty (operation isEmp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two strings are equal (operation equ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A8AF-C14F-4914-A993-49ED49033E12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1398960" y="1676520"/>
            <a:ext cx="624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: String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0A16-2EA9-4760-BDD3-0B79CBBFBB40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80880" y="1289160"/>
            <a:ext cx="825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, append, add, length, isEmpty, equal s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s, s1, s2: String; c: Cha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new ())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add (s, c)) = length (s)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, new ()) =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1, add (s2,c)) = add (append (s1,s2)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 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, c), new ()) = fal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1, c), add (s2, c) = equal (s1,s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0A07-31D2-49F1-8A5F-EC5F897F1DE7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edito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es a new, empty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s whether a file 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s a string of characters to the end of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s a string at a given position of a 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 rest of the file will be rewritten just after the inserted st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en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es two file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A530-5D6C-4AC2-A30C-5B64A61746F0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s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796680" y="2514600"/>
            <a:ext cx="7861680" cy="2288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whole text should be kept in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equ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. The length is specifi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 the user. Unless the user give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licit hyphenation comman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carriage return should occur o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 the end of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5280" y="5334120"/>
            <a:ext cx="81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hat if the length of a word exceeds the length of the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A71A-A068-4F57-B100-42FA0B04D9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35080" y="228600"/>
            <a:ext cx="8679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TextEdi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Text, String, Char, Bool,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F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: Tex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: Text, Na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ete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C: Text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This is an auxiliary operation that will be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efine addF and other operations on files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089F-F264-428F-8412-77047CFEC6EC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70320" y="343080"/>
            <a:ext cx="7517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F, isEmptyF, addF, appendF, insertF, delete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xtEditor generated by [newF, addF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f, f1,f2: Text; s: String; c: Char; cursor: Na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addS (s, c)) = addFC (addF (f, s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newF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addFC (f, c)) = lengthF (f)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, newF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1, addFC (f2, c)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C (appendF (f1, f2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 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, c), new ()) = fal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1, c1), addFC (f2, c2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f1, f2) and equalC (c1, c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 (f, cursor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(equalF (f, appendF (f1, f2)) and (lengthF (f1) = cursor -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insertF (f, cursor, s), appendF (addF (f1, s), f2)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d TextEdi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1975-B63A-43F5-B068-9C1C90FACD0A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for a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eparate functional specs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spec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-interface spe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different 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00A7-B359-40B5-AC79-A99EE7A99DAB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view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cument p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2412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705720" cy="3816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8760" y="1676520"/>
            <a:ext cx="474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view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C894-52A7-40C7-95D7-AB978C92CDE6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flow view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486400" cy="45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2C31-12D4-4475-9E9E-667FFEC03BF6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tatic architecture in terms of classes and assoc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evolution can be described via Statecharts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equential and parallel composition of method executions, and synchro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0C36-2387-452F-A708-B322AD56E68D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ctivity 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11430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80880" y="1447920"/>
          <a:ext cx="82296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2296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0FAA-D147-4C22-8FCF-68526AC0A92E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modular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ase of 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combine algebras taken from a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organize them in a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9A46-5F61-42A4-B440-2A5934630B4E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537480" y="857160"/>
            <a:ext cx="579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Bool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ru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als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nd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r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true, false, not, and, or, implies,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 generated by [true, false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a, b: Boo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true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false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and b = not (not (a) or not (b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implies b = not (a) or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oolAlg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BA91-C488-4C26-911D-051792891207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1006920" y="1936800"/>
            <a:ext cx="3896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Nat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0: (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: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+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-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=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0, Succ, +, -, =,...,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Numb generated by [0, Succ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NatNum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83800" y="2286000"/>
            <a:ext cx="336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har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har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’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’ 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harA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B78B-D416-4314-9D45-38F40EED439D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l complet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efine any new concept or terminology that it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lossary helpful for this purpo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ocument all the needed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: when should one stop?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4247-5DA8-493F-B178-FD35D079E7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ingSpec revisi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1342440" y="1981080"/>
            <a:ext cx="635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BoolAlg, NatNumb, CharAl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3148-4DD3-4971-A1DF-B6DA1C1FACDE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specification of an A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ant to target stacks, queues, s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from "container" and then progressively specializ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another structuring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inheritance relation among algeb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EE66-E323-4D98-A02E-75D1AA821D5B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ainer algeb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438840" y="1143000"/>
            <a:ext cx="7971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ontain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DataType, BoolAlg,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: Cont, Dat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{Data is the sort of algebra DataType, to whi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lements to be stored in Cont belong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new, insert, isEmpty, size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 generated by [new, inser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c: Co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new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insert (c, d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new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ABE7-A704-412C-B554-2A334F6F8E56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78440" y="861840"/>
            <a:ext cx="62218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Tabl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: Table,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 Table, Data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rest, equalT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, d1, d2: Data; t, t1, t2: Tabl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t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insert (t, d)) = 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insert (t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insert (t,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t1,t2) = equalD(last (t1), last (t2)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rest (t1),rest (t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, d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d),d) = delete (t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D(d1, d2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 d1), d2) = insert (delete (t, d2), d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Tabl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31E5-2DBB-49AD-904B-6137084A97BF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u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72120" y="762120"/>
            <a:ext cx="68252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Queu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 Que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: Queue ,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Queu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first, equalQ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q, q1, q2: Queu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q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new(), d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q, d)) = if not isEmpty (q) then first (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insert (q, 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1, d1), insert (q2, d2)) = equalD (d1, d2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q1,q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new (), d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Q (q, new ()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q,d)) = insert (delete (q)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Queu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2FA4-6BE1-46E5-A6CD-E77DEBBF2B4A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368460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873880" y="1647720"/>
            <a:ext cx="3199680" cy="4366440"/>
            <a:chOff x="2873880" y="1647720"/>
            <a:chExt cx="3199680" cy="4366440"/>
          </a:xfrm>
        </p:grpSpPr>
        <p:sp>
          <p:nvSpPr>
            <p:cNvPr id="590" name=""/>
            <p:cNvSpPr/>
            <p:nvPr/>
          </p:nvSpPr>
          <p:spPr>
            <a:xfrm>
              <a:off x="3992400" y="2946240"/>
              <a:ext cx="843120" cy="8892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14720" y="1647720"/>
              <a:ext cx="753840" cy="8683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92640" y="1746360"/>
              <a:ext cx="754200" cy="809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52720" y="4341960"/>
              <a:ext cx="754200" cy="8301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992400" y="4341960"/>
              <a:ext cx="771840" cy="850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84640" y="4381560"/>
              <a:ext cx="862200" cy="9097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768840" y="2308320"/>
              <a:ext cx="573120" cy="630000"/>
              <a:chOff x="3768840" y="2308320"/>
              <a:chExt cx="573120" cy="630000"/>
            </a:xfrm>
          </p:grpSpPr>
          <p:sp>
            <p:nvSpPr>
              <p:cNvPr id="597" name=""/>
              <p:cNvSpPr/>
              <p:nvPr/>
            </p:nvSpPr>
            <p:spPr>
              <a:xfrm>
                <a:off x="4091040" y="2682720"/>
                <a:ext cx="250920" cy="255600"/>
              </a:xfrm>
              <a:custGeom>
                <a:avLst/>
                <a:gdLst/>
                <a:ahLst/>
                <a:rect l="l" t="t" r="r" b="b"/>
                <a:pathLst>
                  <a:path w="158" h="161">
                    <a:moveTo>
                      <a:pt x="158" y="161"/>
                    </a:moveTo>
                    <a:lnTo>
                      <a:pt x="0" y="49"/>
                    </a:lnTo>
                    <a:lnTo>
                      <a:pt x="34" y="24"/>
                    </a:lnTo>
                    <a:lnTo>
                      <a:pt x="79" y="0"/>
                    </a:lnTo>
                    <a:lnTo>
                      <a:pt x="158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768840" y="2308320"/>
                <a:ext cx="376200" cy="41256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557600" y="2406600"/>
              <a:ext cx="627120" cy="550800"/>
              <a:chOff x="4557600" y="2406600"/>
              <a:chExt cx="627120" cy="550800"/>
            </a:xfrm>
          </p:grpSpPr>
          <p:sp>
            <p:nvSpPr>
              <p:cNvPr id="600" name=""/>
              <p:cNvSpPr/>
              <p:nvPr/>
            </p:nvSpPr>
            <p:spPr>
              <a:xfrm>
                <a:off x="4557600" y="2682720"/>
                <a:ext cx="322200" cy="274680"/>
              </a:xfrm>
              <a:custGeom>
                <a:avLst/>
                <a:gdLst/>
                <a:ahLst/>
                <a:rect l="l" t="t" r="r" b="b"/>
                <a:pathLst>
                  <a:path w="203" h="173">
                    <a:moveTo>
                      <a:pt x="0" y="173"/>
                    </a:moveTo>
                    <a:lnTo>
                      <a:pt x="101" y="0"/>
                    </a:lnTo>
                    <a:lnTo>
                      <a:pt x="146" y="24"/>
                    </a:lnTo>
                    <a:lnTo>
                      <a:pt x="203" y="62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4789440" y="2406600"/>
                <a:ext cx="395280" cy="3142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5306040" y="187488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57480" y="187488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90920" y="211140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96080" y="181620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50840" y="18162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95360" y="20527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62520" y="451152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28640" y="45115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51000" y="47480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26960" y="317340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440" y="31734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36680" y="34099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94640" y="447192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77960" y="44719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90680" y="47084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37200" y="46292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Typ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66360" y="48657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02000" y="486576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73880" y="555480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gen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79760" y="555480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35240" y="555480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392000" y="57704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u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31080" y="577044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3714840" y="5810400"/>
              <a:ext cx="555480" cy="196560"/>
              <a:chOff x="3714840" y="5810400"/>
              <a:chExt cx="555480" cy="196560"/>
            </a:xfrm>
          </p:grpSpPr>
          <p:sp>
            <p:nvSpPr>
              <p:cNvPr id="626" name=""/>
              <p:cNvSpPr/>
              <p:nvPr/>
            </p:nvSpPr>
            <p:spPr>
              <a:xfrm>
                <a:off x="4037040" y="5810400"/>
                <a:ext cx="233280" cy="196560"/>
              </a:xfrm>
              <a:custGeom>
                <a:avLst/>
                <a:gdLst/>
                <a:ahLst/>
                <a:rect l="l" t="t" r="r" b="b"/>
                <a:pathLst>
                  <a:path w="147" h="124">
                    <a:moveTo>
                      <a:pt x="147" y="62"/>
                    </a:moveTo>
                    <a:lnTo>
                      <a:pt x="0" y="124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14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714840" y="5908680"/>
                <a:ext cx="322200" cy="1440"/>
              </a:xfrm>
              <a:prstGeom prst="line">
                <a:avLst/>
              </a:prstGeom>
              <a:ln w="71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341960" y="3822840"/>
              <a:ext cx="107640" cy="511200"/>
              <a:chOff x="4341960" y="3822840"/>
              <a:chExt cx="107640" cy="511200"/>
            </a:xfrm>
          </p:grpSpPr>
          <p:sp>
            <p:nvSpPr>
              <p:cNvPr id="629" name=""/>
              <p:cNvSpPr/>
              <p:nvPr/>
            </p:nvSpPr>
            <p:spPr>
              <a:xfrm>
                <a:off x="4341960" y="4138560"/>
                <a:ext cx="107640" cy="195480"/>
              </a:xfrm>
              <a:custGeom>
                <a:avLst/>
                <a:gdLst/>
                <a:ahLst/>
                <a:rect l="l" t="t" r="r" b="b"/>
                <a:pathLst>
                  <a:path w="68" h="123">
                    <a:moveTo>
                      <a:pt x="34" y="123"/>
                    </a:moveTo>
                    <a:lnTo>
                      <a:pt x="0" y="0"/>
                    </a:lnTo>
                    <a:lnTo>
                      <a:pt x="34" y="37"/>
                    </a:lnTo>
                    <a:lnTo>
                      <a:pt x="68" y="0"/>
                    </a:lnTo>
                    <a:lnTo>
                      <a:pt x="34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395960" y="3822840"/>
                <a:ext cx="1440" cy="374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3554280" y="3705120"/>
              <a:ext cx="555480" cy="708120"/>
              <a:chOff x="3554280" y="3705120"/>
              <a:chExt cx="555480" cy="708120"/>
            </a:xfrm>
          </p:grpSpPr>
          <p:sp>
            <p:nvSpPr>
              <p:cNvPr id="632" name=""/>
              <p:cNvSpPr/>
              <p:nvPr/>
            </p:nvSpPr>
            <p:spPr>
              <a:xfrm>
                <a:off x="3554280" y="4237200"/>
                <a:ext cx="160560" cy="176040"/>
              </a:xfrm>
              <a:custGeom>
                <a:avLst/>
                <a:gdLst/>
                <a:ahLst/>
                <a:rect l="l" t="t" r="r" b="b"/>
                <a:pathLst>
                  <a:path w="101" h="111">
                    <a:moveTo>
                      <a:pt x="0" y="111"/>
                    </a:moveTo>
                    <a:lnTo>
                      <a:pt x="45" y="0"/>
                    </a:lnTo>
                    <a:lnTo>
                      <a:pt x="45" y="49"/>
                    </a:lnTo>
                    <a:lnTo>
                      <a:pt x="101" y="37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625560" y="3705120"/>
                <a:ext cx="484200" cy="609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4754520" y="3646440"/>
              <a:ext cx="536760" cy="766800"/>
              <a:chOff x="4754520" y="3646440"/>
              <a:chExt cx="536760" cy="766800"/>
            </a:xfrm>
          </p:grpSpPr>
          <p:sp>
            <p:nvSpPr>
              <p:cNvPr id="635" name=""/>
              <p:cNvSpPr/>
              <p:nvPr/>
            </p:nvSpPr>
            <p:spPr>
              <a:xfrm>
                <a:off x="5148360" y="4216320"/>
                <a:ext cx="142920" cy="19692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90" y="124"/>
                    </a:moveTo>
                    <a:lnTo>
                      <a:pt x="0" y="50"/>
                    </a:lnTo>
                    <a:lnTo>
                      <a:pt x="45" y="62"/>
                    </a:lnTo>
                    <a:lnTo>
                      <a:pt x="45" y="0"/>
                    </a:lnTo>
                    <a:lnTo>
                      <a:pt x="9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754520" y="3646440"/>
                <a:ext cx="465120" cy="6685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714840" y="5613480"/>
              <a:ext cx="573120" cy="117360"/>
              <a:chOff x="3714840" y="5613480"/>
              <a:chExt cx="573120" cy="117360"/>
            </a:xfrm>
          </p:grpSpPr>
          <p:sp>
            <p:nvSpPr>
              <p:cNvPr id="638" name=""/>
              <p:cNvSpPr/>
              <p:nvPr/>
            </p:nvSpPr>
            <p:spPr>
              <a:xfrm>
                <a:off x="4110120" y="5613480"/>
                <a:ext cx="177840" cy="117360"/>
              </a:xfrm>
              <a:custGeom>
                <a:avLst/>
                <a:gdLst/>
                <a:ahLst/>
                <a:rect l="l" t="t" r="r" b="b"/>
                <a:pathLst>
                  <a:path w="112" h="74">
                    <a:moveTo>
                      <a:pt x="112" y="37"/>
                    </a:moveTo>
                    <a:lnTo>
                      <a:pt x="0" y="74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112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714840" y="5672160"/>
                <a:ext cx="44748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7802-E12F-44C5-9F2D-D9CE9D43F839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icher 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321948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3741840" cy="47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4F1B-225A-46C3-A158-44799080A5DE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specs to an implem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 language described so far is based on the "Larch shared languag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"interface languages" are available to help transitioning to an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ch/C++, Larch/Pa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6F45-5800-4E82-8035-74C198B2E3BC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ing Larch/Pascal for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7920" y="1523880"/>
            <a:ext cx="901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String exports isEmpty, add, appen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ased on Boolean, integer,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Empty (s: String) 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{i.e., it has no side effect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dd (var s : String; c : ch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mod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es only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tring parameter 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s: String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ppend (var s1, s2, s3: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nly s3, the result of the operation, is modified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8854-EC65-4AC0-9E67-9F1F7412040C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finite state mach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charts do 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ave been incorporated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provide the notion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com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0DEA-963C-449F-910B-B33D83470D73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from a sketchy document and progressively add 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ocument is structured and can be understood in incre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04D8-FDC7-408E-849A-18C8A6B894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decomposi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mical plant control example-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201924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848720" cy="58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CB1F-FCDB-4895-9865-1CCB2F4481CC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17146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2BF7-3678-4C42-8DAD-DEFB3CDB8E49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 state diagram using State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1687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-534960" y="1828800"/>
            <a:ext cx="9129600" cy="3087720"/>
            <a:chOff x="-534960" y="1828800"/>
            <a:chExt cx="9129600" cy="3087720"/>
          </a:xfrm>
        </p:grpSpPr>
        <p:sp>
          <p:nvSpPr>
            <p:cNvPr id="658" name=""/>
            <p:cNvSpPr/>
            <p:nvPr/>
          </p:nvSpPr>
          <p:spPr>
            <a:xfrm>
              <a:off x="-534960" y="1828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66880" y="3411360"/>
              <a:ext cx="955800" cy="447840"/>
            </a:xfrm>
            <a:custGeom>
              <a:avLst/>
              <a:gdLst/>
              <a:ahLst/>
              <a:rect l="l" t="t" r="r" b="b"/>
              <a:pathLst>
                <a:path w="602" h="282">
                  <a:moveTo>
                    <a:pt x="37" y="0"/>
                  </a:moveTo>
                  <a:lnTo>
                    <a:pt x="29" y="1"/>
                  </a:lnTo>
                  <a:lnTo>
                    <a:pt x="22" y="3"/>
                  </a:lnTo>
                  <a:lnTo>
                    <a:pt x="10" y="10"/>
                  </a:lnTo>
                  <a:lnTo>
                    <a:pt x="3" y="22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2" y="253"/>
                  </a:lnTo>
                  <a:lnTo>
                    <a:pt x="3" y="260"/>
                  </a:lnTo>
                  <a:lnTo>
                    <a:pt x="10" y="272"/>
                  </a:lnTo>
                  <a:lnTo>
                    <a:pt x="22" y="279"/>
                  </a:lnTo>
                  <a:lnTo>
                    <a:pt x="29" y="282"/>
                  </a:lnTo>
                  <a:lnTo>
                    <a:pt x="37" y="282"/>
                  </a:lnTo>
                  <a:lnTo>
                    <a:pt x="564" y="282"/>
                  </a:lnTo>
                  <a:lnTo>
                    <a:pt x="571" y="282"/>
                  </a:lnTo>
                  <a:lnTo>
                    <a:pt x="578" y="279"/>
                  </a:lnTo>
                  <a:lnTo>
                    <a:pt x="591" y="272"/>
                  </a:lnTo>
                  <a:lnTo>
                    <a:pt x="599" y="260"/>
                  </a:lnTo>
                  <a:lnTo>
                    <a:pt x="602" y="253"/>
                  </a:lnTo>
                  <a:lnTo>
                    <a:pt x="602" y="246"/>
                  </a:lnTo>
                  <a:lnTo>
                    <a:pt x="602" y="36"/>
                  </a:lnTo>
                  <a:lnTo>
                    <a:pt x="602" y="29"/>
                  </a:lnTo>
                  <a:lnTo>
                    <a:pt x="599" y="22"/>
                  </a:lnTo>
                  <a:lnTo>
                    <a:pt x="591" y="10"/>
                  </a:lnTo>
                  <a:lnTo>
                    <a:pt x="578" y="3"/>
                  </a:lnTo>
                  <a:lnTo>
                    <a:pt x="571" y="1"/>
                  </a:lnTo>
                  <a:lnTo>
                    <a:pt x="56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18880" y="350208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98840" y="3502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90440" y="3546360"/>
              <a:ext cx="138240" cy="1382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1212840" y="3559320"/>
              <a:ext cx="565200" cy="141120"/>
              <a:chOff x="1212840" y="3559320"/>
              <a:chExt cx="565200" cy="141120"/>
            </a:xfrm>
          </p:grpSpPr>
          <p:sp>
            <p:nvSpPr>
              <p:cNvPr id="664" name=""/>
              <p:cNvSpPr/>
              <p:nvPr/>
            </p:nvSpPr>
            <p:spPr>
              <a:xfrm>
                <a:off x="1212840" y="3629160"/>
                <a:ext cx="5652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627200" y="3559320"/>
                <a:ext cx="150840" cy="141120"/>
              </a:xfrm>
              <a:custGeom>
                <a:avLst/>
                <a:gdLst/>
                <a:ahLst/>
                <a:rect l="l" t="t" r="r" b="b"/>
                <a:pathLst>
                  <a:path w="95" h="89">
                    <a:moveTo>
                      <a:pt x="0" y="89"/>
                    </a:moveTo>
                    <a:lnTo>
                      <a:pt x="95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4808520" y="3411360"/>
              <a:ext cx="1203480" cy="447840"/>
            </a:xfrm>
            <a:custGeom>
              <a:avLst/>
              <a:gdLst/>
              <a:ahLst/>
              <a:rect l="l" t="t" r="r" b="b"/>
              <a:pathLst>
                <a:path w="758" h="282">
                  <a:moveTo>
                    <a:pt x="38" y="0"/>
                  </a:moveTo>
                  <a:lnTo>
                    <a:pt x="31" y="1"/>
                  </a:lnTo>
                  <a:lnTo>
                    <a:pt x="23" y="3"/>
                  </a:lnTo>
                  <a:lnTo>
                    <a:pt x="12" y="10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1" y="253"/>
                  </a:lnTo>
                  <a:lnTo>
                    <a:pt x="3" y="260"/>
                  </a:lnTo>
                  <a:lnTo>
                    <a:pt x="12" y="272"/>
                  </a:lnTo>
                  <a:lnTo>
                    <a:pt x="23" y="279"/>
                  </a:lnTo>
                  <a:lnTo>
                    <a:pt x="31" y="282"/>
                  </a:lnTo>
                  <a:lnTo>
                    <a:pt x="38" y="282"/>
                  </a:lnTo>
                  <a:lnTo>
                    <a:pt x="720" y="282"/>
                  </a:lnTo>
                  <a:lnTo>
                    <a:pt x="727" y="282"/>
                  </a:lnTo>
                  <a:lnTo>
                    <a:pt x="734" y="279"/>
                  </a:lnTo>
                  <a:lnTo>
                    <a:pt x="746" y="272"/>
                  </a:lnTo>
                  <a:lnTo>
                    <a:pt x="755" y="260"/>
                  </a:lnTo>
                  <a:lnTo>
                    <a:pt x="756" y="253"/>
                  </a:lnTo>
                  <a:lnTo>
                    <a:pt x="758" y="246"/>
                  </a:lnTo>
                  <a:lnTo>
                    <a:pt x="758" y="36"/>
                  </a:lnTo>
                  <a:lnTo>
                    <a:pt x="756" y="29"/>
                  </a:lnTo>
                  <a:lnTo>
                    <a:pt x="755" y="22"/>
                  </a:lnTo>
                  <a:lnTo>
                    <a:pt x="746" y="10"/>
                  </a:lnTo>
                  <a:lnTo>
                    <a:pt x="734" y="3"/>
                  </a:lnTo>
                  <a:lnTo>
                    <a:pt x="727" y="1"/>
                  </a:lnTo>
                  <a:lnTo>
                    <a:pt x="72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84200" y="3495600"/>
              <a:ext cx="90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t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09360" y="37465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14840" y="37465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2719440" y="3476520"/>
              <a:ext cx="2085840" cy="141480"/>
              <a:chOff x="2719440" y="3476520"/>
              <a:chExt cx="2085840" cy="141480"/>
            </a:xfrm>
          </p:grpSpPr>
          <p:sp>
            <p:nvSpPr>
              <p:cNvPr id="671" name=""/>
              <p:cNvSpPr/>
              <p:nvPr/>
            </p:nvSpPr>
            <p:spPr>
              <a:xfrm>
                <a:off x="2719440" y="3546360"/>
                <a:ext cx="20858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56240" y="3476520"/>
                <a:ext cx="149040" cy="141480"/>
              </a:xfrm>
              <a:custGeom>
                <a:avLst/>
                <a:gdLst/>
                <a:ahLst/>
                <a:rect l="l" t="t" r="r" b="b"/>
                <a:pathLst>
                  <a:path w="94" h="89">
                    <a:moveTo>
                      <a:pt x="0" y="89"/>
                    </a:moveTo>
                    <a:lnTo>
                      <a:pt x="94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2719440" y="3625920"/>
              <a:ext cx="2085840" cy="141120"/>
              <a:chOff x="2719440" y="3625920"/>
              <a:chExt cx="2085840" cy="141120"/>
            </a:xfrm>
          </p:grpSpPr>
          <p:sp>
            <p:nvSpPr>
              <p:cNvPr id="674" name=""/>
              <p:cNvSpPr/>
              <p:nvPr/>
            </p:nvSpPr>
            <p:spPr>
              <a:xfrm flipH="1">
                <a:off x="2719440" y="3695760"/>
                <a:ext cx="20858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19440" y="3625920"/>
                <a:ext cx="154080" cy="141120"/>
              </a:xfrm>
              <a:custGeom>
                <a:avLst/>
                <a:gdLst/>
                <a:ahLst/>
                <a:rect l="l" t="t" r="r" b="b"/>
                <a:pathLst>
                  <a:path w="97" h="89">
                    <a:moveTo>
                      <a:pt x="97" y="0"/>
                    </a:moveTo>
                    <a:lnTo>
                      <a:pt x="0" y="46"/>
                    </a:lnTo>
                    <a:lnTo>
                      <a:pt x="97" y="8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5437080" y="2685960"/>
              <a:ext cx="14511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646600" y="275112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99040" y="27511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59600" y="3881520"/>
              <a:ext cx="14508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09080" y="394668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367400" y="3946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6440" y="4559400"/>
              <a:ext cx="4678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08480" y="4624560"/>
              <a:ext cx="322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more than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64320" y="46245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78160" y="3216240"/>
              <a:ext cx="14511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527640" y="328140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86320" y="32814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97040" y="3743280"/>
              <a:ext cx="3581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30400" y="3809880"/>
              <a:ext cx="229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56000" y="38098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970520" y="2836800"/>
              <a:ext cx="619200" cy="574560"/>
              <a:chOff x="4970520" y="2836800"/>
              <a:chExt cx="619200" cy="574560"/>
            </a:xfrm>
          </p:grpSpPr>
          <p:sp>
            <p:nvSpPr>
              <p:cNvPr id="692" name=""/>
              <p:cNvSpPr/>
              <p:nvPr/>
            </p:nvSpPr>
            <p:spPr>
              <a:xfrm>
                <a:off x="4970520" y="2836800"/>
                <a:ext cx="619200" cy="574560"/>
              </a:xfrm>
              <a:custGeom>
                <a:avLst/>
                <a:gdLst/>
                <a:ahLst/>
                <a:rect l="l" t="t" r="r" b="b"/>
                <a:pathLst>
                  <a:path w="390" h="362">
                    <a:moveTo>
                      <a:pt x="206" y="362"/>
                    </a:moveTo>
                    <a:lnTo>
                      <a:pt x="151" y="347"/>
                    </a:lnTo>
                    <a:lnTo>
                      <a:pt x="124" y="339"/>
                    </a:lnTo>
                    <a:lnTo>
                      <a:pt x="99" y="329"/>
                    </a:lnTo>
                    <a:lnTo>
                      <a:pt x="76" y="319"/>
                    </a:lnTo>
                    <a:lnTo>
                      <a:pt x="56" y="307"/>
                    </a:lnTo>
                    <a:lnTo>
                      <a:pt x="38" y="292"/>
                    </a:lnTo>
                    <a:lnTo>
                      <a:pt x="24" y="276"/>
                    </a:lnTo>
                    <a:lnTo>
                      <a:pt x="13" y="255"/>
                    </a:lnTo>
                    <a:lnTo>
                      <a:pt x="6" y="232"/>
                    </a:lnTo>
                    <a:lnTo>
                      <a:pt x="2" y="206"/>
                    </a:lnTo>
                    <a:lnTo>
                      <a:pt x="0" y="177"/>
                    </a:lnTo>
                    <a:lnTo>
                      <a:pt x="0" y="150"/>
                    </a:lnTo>
                    <a:lnTo>
                      <a:pt x="3" y="124"/>
                    </a:lnTo>
                    <a:lnTo>
                      <a:pt x="7" y="99"/>
                    </a:lnTo>
                    <a:lnTo>
                      <a:pt x="10" y="89"/>
                    </a:lnTo>
                    <a:lnTo>
                      <a:pt x="15" y="80"/>
                    </a:lnTo>
                    <a:lnTo>
                      <a:pt x="25" y="63"/>
                    </a:lnTo>
                    <a:lnTo>
                      <a:pt x="38" y="48"/>
                    </a:lnTo>
                    <a:lnTo>
                      <a:pt x="54" y="36"/>
                    </a:lnTo>
                    <a:lnTo>
                      <a:pt x="72" y="26"/>
                    </a:lnTo>
                    <a:lnTo>
                      <a:pt x="91" y="17"/>
                    </a:lnTo>
                    <a:lnTo>
                      <a:pt x="111" y="10"/>
                    </a:lnTo>
                    <a:lnTo>
                      <a:pt x="132" y="6"/>
                    </a:lnTo>
                    <a:lnTo>
                      <a:pt x="152" y="2"/>
                    </a:lnTo>
                    <a:lnTo>
                      <a:pt x="174" y="0"/>
                    </a:lnTo>
                    <a:lnTo>
                      <a:pt x="197" y="2"/>
                    </a:lnTo>
                    <a:lnTo>
                      <a:pt x="222" y="5"/>
                    </a:lnTo>
                    <a:lnTo>
                      <a:pt x="248" y="10"/>
                    </a:lnTo>
                    <a:lnTo>
                      <a:pt x="273" y="17"/>
                    </a:lnTo>
                    <a:lnTo>
                      <a:pt x="297" y="25"/>
                    </a:lnTo>
                    <a:lnTo>
                      <a:pt x="317" y="35"/>
                    </a:lnTo>
                    <a:lnTo>
                      <a:pt x="335" y="46"/>
                    </a:lnTo>
                    <a:lnTo>
                      <a:pt x="349" y="59"/>
                    </a:lnTo>
                    <a:lnTo>
                      <a:pt x="361" y="74"/>
                    </a:lnTo>
                    <a:lnTo>
                      <a:pt x="371" y="92"/>
                    </a:lnTo>
                    <a:lnTo>
                      <a:pt x="380" y="110"/>
                    </a:lnTo>
                    <a:lnTo>
                      <a:pt x="386" y="130"/>
                    </a:lnTo>
                    <a:lnTo>
                      <a:pt x="389" y="151"/>
                    </a:lnTo>
                    <a:lnTo>
                      <a:pt x="390" y="172"/>
                    </a:lnTo>
                    <a:lnTo>
                      <a:pt x="389" y="191"/>
                    </a:lnTo>
                    <a:lnTo>
                      <a:pt x="384" y="211"/>
                    </a:lnTo>
                    <a:lnTo>
                      <a:pt x="377" y="232"/>
                    </a:lnTo>
                    <a:lnTo>
                      <a:pt x="365" y="252"/>
                    </a:lnTo>
                    <a:lnTo>
                      <a:pt x="354" y="274"/>
                    </a:lnTo>
                    <a:lnTo>
                      <a:pt x="339" y="296"/>
                    </a:lnTo>
                    <a:lnTo>
                      <a:pt x="323" y="318"/>
                    </a:lnTo>
                    <a:lnTo>
                      <a:pt x="289" y="36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32400" y="3254400"/>
                <a:ext cx="147600" cy="1569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14" y="0"/>
                    </a:moveTo>
                    <a:lnTo>
                      <a:pt x="0" y="99"/>
                    </a:lnTo>
                    <a:lnTo>
                      <a:pt x="93" y="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008760" y="3295800"/>
              <a:ext cx="598320" cy="604800"/>
              <a:chOff x="6008760" y="3295800"/>
              <a:chExt cx="598320" cy="604800"/>
            </a:xfrm>
          </p:grpSpPr>
          <p:sp>
            <p:nvSpPr>
              <p:cNvPr id="695" name=""/>
              <p:cNvSpPr/>
              <p:nvPr/>
            </p:nvSpPr>
            <p:spPr>
              <a:xfrm>
                <a:off x="6008760" y="3295800"/>
                <a:ext cx="598320" cy="604800"/>
              </a:xfrm>
              <a:custGeom>
                <a:avLst/>
                <a:gdLst/>
                <a:ahLst/>
                <a:rect l="l" t="t" r="r" b="b"/>
                <a:pathLst>
                  <a:path w="377" h="381">
                    <a:moveTo>
                      <a:pt x="0" y="150"/>
                    </a:moveTo>
                    <a:lnTo>
                      <a:pt x="41" y="102"/>
                    </a:lnTo>
                    <a:lnTo>
                      <a:pt x="62" y="80"/>
                    </a:lnTo>
                    <a:lnTo>
                      <a:pt x="82" y="59"/>
                    </a:lnTo>
                    <a:lnTo>
                      <a:pt x="103" y="40"/>
                    </a:lnTo>
                    <a:lnTo>
                      <a:pt x="123" y="25"/>
                    </a:lnTo>
                    <a:lnTo>
                      <a:pt x="143" y="13"/>
                    </a:lnTo>
                    <a:lnTo>
                      <a:pt x="164" y="4"/>
                    </a:lnTo>
                    <a:lnTo>
                      <a:pt x="186" y="0"/>
                    </a:lnTo>
                    <a:lnTo>
                      <a:pt x="209" y="2"/>
                    </a:lnTo>
                    <a:lnTo>
                      <a:pt x="234" y="4"/>
                    </a:lnTo>
                    <a:lnTo>
                      <a:pt x="259" y="11"/>
                    </a:lnTo>
                    <a:lnTo>
                      <a:pt x="282" y="20"/>
                    </a:lnTo>
                    <a:lnTo>
                      <a:pt x="304" y="30"/>
                    </a:lnTo>
                    <a:lnTo>
                      <a:pt x="323" y="43"/>
                    </a:lnTo>
                    <a:lnTo>
                      <a:pt x="338" y="55"/>
                    </a:lnTo>
                    <a:lnTo>
                      <a:pt x="349" y="70"/>
                    </a:lnTo>
                    <a:lnTo>
                      <a:pt x="360" y="87"/>
                    </a:lnTo>
                    <a:lnTo>
                      <a:pt x="367" y="106"/>
                    </a:lnTo>
                    <a:lnTo>
                      <a:pt x="373" y="126"/>
                    </a:lnTo>
                    <a:lnTo>
                      <a:pt x="376" y="147"/>
                    </a:lnTo>
                    <a:lnTo>
                      <a:pt x="377" y="169"/>
                    </a:lnTo>
                    <a:lnTo>
                      <a:pt x="377" y="189"/>
                    </a:lnTo>
                    <a:lnTo>
                      <a:pt x="374" y="210"/>
                    </a:lnTo>
                    <a:lnTo>
                      <a:pt x="370" y="230"/>
                    </a:lnTo>
                    <a:lnTo>
                      <a:pt x="363" y="254"/>
                    </a:lnTo>
                    <a:lnTo>
                      <a:pt x="352" y="278"/>
                    </a:lnTo>
                    <a:lnTo>
                      <a:pt x="342" y="302"/>
                    </a:lnTo>
                    <a:lnTo>
                      <a:pt x="329" y="325"/>
                    </a:lnTo>
                    <a:lnTo>
                      <a:pt x="314" y="345"/>
                    </a:lnTo>
                    <a:lnTo>
                      <a:pt x="298" y="362"/>
                    </a:lnTo>
                    <a:lnTo>
                      <a:pt x="291" y="367"/>
                    </a:lnTo>
                    <a:lnTo>
                      <a:pt x="282" y="373"/>
                    </a:lnTo>
                    <a:lnTo>
                      <a:pt x="265" y="378"/>
                    </a:lnTo>
                    <a:lnTo>
                      <a:pt x="243" y="381"/>
                    </a:lnTo>
                    <a:lnTo>
                      <a:pt x="221" y="380"/>
                    </a:lnTo>
                    <a:lnTo>
                      <a:pt x="198" y="376"/>
                    </a:lnTo>
                    <a:lnTo>
                      <a:pt x="174" y="369"/>
                    </a:lnTo>
                    <a:lnTo>
                      <a:pt x="151" y="362"/>
                    </a:lnTo>
                    <a:lnTo>
                      <a:pt x="129" y="355"/>
                    </a:lnTo>
                    <a:lnTo>
                      <a:pt x="110" y="347"/>
                    </a:lnTo>
                    <a:lnTo>
                      <a:pt x="92" y="339"/>
                    </a:lnTo>
                    <a:lnTo>
                      <a:pt x="76" y="329"/>
                    </a:lnTo>
                    <a:lnTo>
                      <a:pt x="49" y="306"/>
                    </a:lnTo>
                    <a:lnTo>
                      <a:pt x="24" y="280"/>
                    </a:lnTo>
                    <a:lnTo>
                      <a:pt x="0" y="2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12000" y="3699000"/>
                <a:ext cx="155520" cy="152280"/>
              </a:xfrm>
              <a:custGeom>
                <a:avLst/>
                <a:gdLst/>
                <a:ahLst/>
                <a:rect l="l" t="t" r="r" b="b"/>
                <a:pathLst>
                  <a:path w="98" h="96">
                    <a:moveTo>
                      <a:pt x="98" y="37"/>
                    </a:moveTo>
                    <a:lnTo>
                      <a:pt x="0" y="0"/>
                    </a:lnTo>
                    <a:lnTo>
                      <a:pt x="26" y="9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910040" y="3857760"/>
              <a:ext cx="790560" cy="733320"/>
              <a:chOff x="4910040" y="3857760"/>
              <a:chExt cx="790560" cy="733320"/>
            </a:xfrm>
          </p:grpSpPr>
          <p:sp>
            <p:nvSpPr>
              <p:cNvPr id="698" name=""/>
              <p:cNvSpPr/>
              <p:nvPr/>
            </p:nvSpPr>
            <p:spPr>
              <a:xfrm>
                <a:off x="4910040" y="3859200"/>
                <a:ext cx="790560" cy="731880"/>
              </a:xfrm>
              <a:custGeom>
                <a:avLst/>
                <a:gdLst/>
                <a:ahLst/>
                <a:rect l="l" t="t" r="r" b="b"/>
                <a:pathLst>
                  <a:path w="498" h="461">
                    <a:moveTo>
                      <a:pt x="181" y="0"/>
                    </a:moveTo>
                    <a:lnTo>
                      <a:pt x="124" y="37"/>
                    </a:lnTo>
                    <a:lnTo>
                      <a:pt x="98" y="55"/>
                    </a:lnTo>
                    <a:lnTo>
                      <a:pt x="73" y="74"/>
                    </a:lnTo>
                    <a:lnTo>
                      <a:pt x="50" y="94"/>
                    </a:lnTo>
                    <a:lnTo>
                      <a:pt x="32" y="116"/>
                    </a:lnTo>
                    <a:lnTo>
                      <a:pt x="18" y="138"/>
                    </a:lnTo>
                    <a:lnTo>
                      <a:pt x="8" y="163"/>
                    </a:lnTo>
                    <a:lnTo>
                      <a:pt x="2" y="190"/>
                    </a:lnTo>
                    <a:lnTo>
                      <a:pt x="0" y="222"/>
                    </a:lnTo>
                    <a:lnTo>
                      <a:pt x="2" y="255"/>
                    </a:lnTo>
                    <a:lnTo>
                      <a:pt x="8" y="289"/>
                    </a:lnTo>
                    <a:lnTo>
                      <a:pt x="16" y="323"/>
                    </a:lnTo>
                    <a:lnTo>
                      <a:pt x="29" y="353"/>
                    </a:lnTo>
                    <a:lnTo>
                      <a:pt x="44" y="381"/>
                    </a:lnTo>
                    <a:lnTo>
                      <a:pt x="53" y="393"/>
                    </a:lnTo>
                    <a:lnTo>
                      <a:pt x="62" y="403"/>
                    </a:lnTo>
                    <a:lnTo>
                      <a:pt x="72" y="411"/>
                    </a:lnTo>
                    <a:lnTo>
                      <a:pt x="85" y="419"/>
                    </a:lnTo>
                    <a:lnTo>
                      <a:pt x="114" y="434"/>
                    </a:lnTo>
                    <a:lnTo>
                      <a:pt x="146" y="445"/>
                    </a:lnTo>
                    <a:lnTo>
                      <a:pt x="183" y="455"/>
                    </a:lnTo>
                    <a:lnTo>
                      <a:pt x="219" y="460"/>
                    </a:lnTo>
                    <a:lnTo>
                      <a:pt x="254" y="461"/>
                    </a:lnTo>
                    <a:lnTo>
                      <a:pt x="288" y="459"/>
                    </a:lnTo>
                    <a:lnTo>
                      <a:pt x="317" y="453"/>
                    </a:lnTo>
                    <a:lnTo>
                      <a:pt x="330" y="449"/>
                    </a:lnTo>
                    <a:lnTo>
                      <a:pt x="345" y="442"/>
                    </a:lnTo>
                    <a:lnTo>
                      <a:pt x="358" y="434"/>
                    </a:lnTo>
                    <a:lnTo>
                      <a:pt x="371" y="425"/>
                    </a:lnTo>
                    <a:lnTo>
                      <a:pt x="397" y="404"/>
                    </a:lnTo>
                    <a:lnTo>
                      <a:pt x="422" y="378"/>
                    </a:lnTo>
                    <a:lnTo>
                      <a:pt x="446" y="352"/>
                    </a:lnTo>
                    <a:lnTo>
                      <a:pt x="465" y="325"/>
                    </a:lnTo>
                    <a:lnTo>
                      <a:pt x="481" y="299"/>
                    </a:lnTo>
                    <a:lnTo>
                      <a:pt x="491" y="274"/>
                    </a:lnTo>
                    <a:lnTo>
                      <a:pt x="497" y="251"/>
                    </a:lnTo>
                    <a:lnTo>
                      <a:pt x="498" y="227"/>
                    </a:lnTo>
                    <a:lnTo>
                      <a:pt x="495" y="203"/>
                    </a:lnTo>
                    <a:lnTo>
                      <a:pt x="489" y="178"/>
                    </a:lnTo>
                    <a:lnTo>
                      <a:pt x="481" y="155"/>
                    </a:lnTo>
                    <a:lnTo>
                      <a:pt x="470" y="133"/>
                    </a:lnTo>
                    <a:lnTo>
                      <a:pt x="459" y="112"/>
                    </a:lnTo>
                    <a:lnTo>
                      <a:pt x="446" y="94"/>
                    </a:lnTo>
                    <a:lnTo>
                      <a:pt x="432" y="78"/>
                    </a:lnTo>
                    <a:lnTo>
                      <a:pt x="416" y="64"/>
                    </a:lnTo>
                    <a:lnTo>
                      <a:pt x="397" y="51"/>
                    </a:lnTo>
                    <a:lnTo>
                      <a:pt x="378" y="40"/>
                    </a:lnTo>
                    <a:lnTo>
                      <a:pt x="336" y="19"/>
                    </a:lnTo>
                    <a:lnTo>
                      <a:pt x="291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72280" y="3857760"/>
                <a:ext cx="171360" cy="129960"/>
              </a:xfrm>
              <a:custGeom>
                <a:avLst/>
                <a:gdLst/>
                <a:ahLst/>
                <a:rect l="l" t="t" r="r" b="b"/>
                <a:pathLst>
                  <a:path w="108" h="82">
                    <a:moveTo>
                      <a:pt x="108" y="0"/>
                    </a:moveTo>
                    <a:lnTo>
                      <a:pt x="0" y="1"/>
                    </a:lnTo>
                    <a:lnTo>
                      <a:pt x="66" y="8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DBE2-8563-446E-9D6B-D4BDF15A6D10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logic specifications: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specified by describing state space, using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Z she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of state space described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vari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edic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cates written in first-order log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define state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2747-C893-48A9-A1F1-9D3FB3A040B0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levator example in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35608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4971-8DA4-4685-A963-6DFBD362D4D2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7308720" cy="192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DF85-5139-49C5-8393-33D6F1126E56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7619760" cy="44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7830-AEA5-4C42-A761-FF1910B62F27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143000" y="1389240"/>
            <a:ext cx="6705720" cy="48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7CB3-6D53-4AA9-BB8A-907188DD1DF3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4419360" cy="64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30C6-47EB-413E-83BB-101955C17F79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2411280" y="111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z5(2)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5481720" cy="586728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68F6-D49F-4521-96E4-153B657A194C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pecification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l, semi-formal, for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specification in terms of some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described in terms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2295-C1EA-4CFD-AE32-7D729451CE9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s for the    end-us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s should be used as common reference for producer and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elp removing ambiguity, incompleteness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they be understood by end-us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the starting point for a proto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support some form of animation (e.g., see Petri ne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D31F-E156-4997-B6E9-0C6058EB02F9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s descri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the users need from a system (requirements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sign of a software system (design and architectur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eatures offered by a system (functional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erformance characteristics of a system (performanc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ternal behavior of a module (module interface specifica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ternal structure of a module (internal structural specification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B693-1EED-401C-B8C9-8917DE5845B3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ons are given via suitable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“ideal”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support communication and interaction between designers and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4306-5F09-4709-A82E-35CB443FA0CE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 of a geometric figure 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1050840" y="2438280"/>
            <a:ext cx="710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can be drawn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two points P1 and P2 on 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 string of a certain length and fix its ends to P1 and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 a pencil as shown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xt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ve the pen clockwise, keeping the string tightly stretched, until you reach the point where you started dra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36800" y="556272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is is an operation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FEBE-599A-4DEB-95B3-4A31823987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1320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DE37-5EDA-4258-B3E1-639BCAB727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scriptiv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ometric figure E is describe by the following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x2 + by2 + c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a, b, and c are suitable consta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C236-9BEA-4BB8-902C-78257DF75E4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t a be an array of n elements. Th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ult of its sorting is an array b of n elements such that the first element of b is the minimum of a (if several elements of a have the same value, any one of them is acceptable); the second element of b is the minimum of the array of n-1 elements obtained from a by removing its minimum element; and so on until all n elements of a have been removed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181480"/>
            <a:ext cx="7467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result of sorting array a is an array b which is a permutation of a and is sort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057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7640" y="2362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4760" y="5519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6397-C5EE-49CD-8616-4732D190528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verify a specifica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” dynamic behavior of specified system (simulation, prototyping, “testing” spec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perties of the specified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y with traditional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emat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3F5B-8BD4-4C1F-BCC3-55894A8BFF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of the term "specification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spec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Data Flow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(Some)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UML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Finite 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tri Net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Entity Relationship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ogic-based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ic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s for modular specification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E0B0-D140-43FB-B518-6AC3EF0F16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Diagrams (DFD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 semi-formal operational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ystem viewed as collection of data manipulated by “function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be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stored in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reposi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fl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represented by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FDs have a graphica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E1C3-017D-4F8D-8CF8-FBB673D9E7F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cal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bubbl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arc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data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open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persistent s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closed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I/O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6146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7574040" cy="175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56FE-CBB7-45A8-B66F-8B621D5FCA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26290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762120" y="1066680"/>
            <a:ext cx="6096240" cy="537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2920" y="2819520"/>
            <a:ext cx="33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s evalu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a + b) * (c + a * d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ABB3-527D-4B7E-B7EA-0C674D6E363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7920" y="3048120"/>
          <a:ext cx="634500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8120"/>
                    <a:ext cx="63450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444320" y="1817640"/>
            <a:ext cx="68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Start from the “context”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6D1D-EAF9-4836-A6F8-FAF6C32940A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2133720"/>
          <a:ext cx="5867640" cy="44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133720"/>
                    <a:ext cx="5867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5800" y="914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ceed by refinements until you reach        “elementary” functions (preserve balanc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13BB-3565-439C-81D9-AC7126CB207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brary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71600" y="1027080"/>
          <a:ext cx="6248520" cy="55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27080"/>
                    <a:ext cx="624852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758E-F566-4CE4-8213-C0BA96A56DB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fine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Get a book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1371600"/>
          <a:ext cx="7239240" cy="47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2392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34CA-7165-48AF-A848-C4A3C29CCE2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ient monitoring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27400" y="1219320"/>
            <a:ext cx="834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urpose is to monitor the patients’ vital factors--bloo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sure, temperature, …--reading them at specified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analog devices and storing readings in a DB. If readings f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side the range specified for patient or device fails an ala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 be sent to a nurse. The system also provides re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3352680"/>
          <a:ext cx="632484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32484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2E38-A784-4169-8976-750E47F0D55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914400"/>
          <a:ext cx="803916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80391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71CE-1CD7-46EA-A051-61AE0C41AEA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371600"/>
          <a:ext cx="80010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0010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CEED-BE0F-4B67-85D4-265C1883B1C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road term that mean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at different stages of software development for different purp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, a statement of agreement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ntra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betwe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r and consumer of 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r and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desirable qualities must be spec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CCD1-9385-4F9A-BF24-FDC077CE04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read, but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define leaf func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ent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3200400"/>
          <a:ext cx="3936960" cy="261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3936960" cy="26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03960" y="396252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rom A, B, C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or E and F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d at the sam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4488-7F25-4063-98B6-FF2239FBC00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formation is ab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19520" y="2743200"/>
          <a:ext cx="2895480" cy="67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743200"/>
                    <a:ext cx="28954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42880" y="3538440"/>
            <a:ext cx="7959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interpre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duces datum, waits until B consume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an read the datum many times 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ipe is inserted between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EE87-8668-4F21-BB15-C1528E45E6A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alization/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maliz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te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 (e.g., for real-time system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7004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2976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0352-7AE8-4F1E-87DC-4B564185355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use-cas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functions on basis of actors and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171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39560" y="2103480"/>
            <a:ext cx="6051960" cy="3882960"/>
            <a:chOff x="1339560" y="2103480"/>
            <a:chExt cx="6051960" cy="3882960"/>
          </a:xfrm>
        </p:grpSpPr>
        <p:sp>
          <p:nvSpPr>
            <p:cNvPr id="145" name=""/>
            <p:cNvSpPr/>
            <p:nvPr/>
          </p:nvSpPr>
          <p:spPr>
            <a:xfrm>
              <a:off x="1339560" y="21034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4360" y="4040280"/>
              <a:ext cx="18756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81200" y="42307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51240" y="4381560"/>
              <a:ext cx="258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6840" y="4545000"/>
              <a:ext cx="266760" cy="20016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56120" y="4051440"/>
              <a:ext cx="187560" cy="20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52960" y="42451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23000" y="4395960"/>
              <a:ext cx="25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08600" y="4559400"/>
              <a:ext cx="266760" cy="19980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8400" y="2765520"/>
              <a:ext cx="2428920" cy="32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3360" y="2921040"/>
              <a:ext cx="1224000" cy="80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52080" y="308772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rrow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4880" y="332424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33760" y="3324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3978360"/>
              <a:ext cx="1222560" cy="80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08960" y="4148280"/>
              <a:ext cx="53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42800" y="438768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43120" y="43876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02160" y="4976640"/>
              <a:ext cx="1222200" cy="80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01760" y="5143680"/>
              <a:ext cx="59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01760" y="538020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30600" y="5380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792520" y="3505320"/>
              <a:ext cx="836640" cy="74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0440" y="4416480"/>
              <a:ext cx="77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745160" y="3470400"/>
              <a:ext cx="1008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779720" y="4441680"/>
              <a:ext cx="9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807080" y="4676760"/>
              <a:ext cx="89856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7800" y="4383000"/>
              <a:ext cx="1233720" cy="12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47880" y="445140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i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21440" y="4451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5040" y="4745160"/>
              <a:ext cx="123336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96200" y="481320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5560" y="4813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03FD-CE14-47BD-8774-1EAD33DD788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sequenc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 how objects interact by exchanging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dynamic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13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631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9285-3EB7-424D-A24F-ED5E00184FB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collaboration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 object interactions and their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to sequence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838080" y="2895480"/>
            <a:ext cx="11353680" cy="37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7EA0-6E29-4515-86EC-DA3C25C233D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ite state machines (FSM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specify control flow asp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84480" y="2971800"/>
            <a:ext cx="619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states,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inputs,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ransition function d : Q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 can be a partial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488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181480" y="3747960"/>
            <a:ext cx="3048120" cy="25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8C46-54C6-4495-93A0-795A0706041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lam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34862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828800" y="1932120"/>
            <a:ext cx="5181480" cy="31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E908-2CEC-4694-BED6-5620A5D26A3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lant control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00200" y="2133720"/>
          <a:ext cx="5410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5410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9E29-F172-4180-97F8-333A7083C25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371600"/>
          <a:ext cx="6629400" cy="427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62940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B665-61FE-47BB-BB69-5B97BCB99CA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ment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jor failures occur because of misunderstandings between the producer and the us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he hardest single part of building a softw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ystem is deciding precisely what to bui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 (F. Brook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2923-BE4D-454E-8100-EF9F398EE3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es of FS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istic/nondeterminis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final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transduc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set of outp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4D1A-562B-4782-93A4-81C51517202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25225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155000" cy="2779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8640" y="5334120"/>
            <a:ext cx="237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s a 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1C47-13BD-4FF8-9469-DCABF731BCF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28465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7B36-2416-4331-A82A-F2B14AF969E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ite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explo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a number of FSMs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…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s, their composition is a FSM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…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rowth is exponential with the number of FSMs, not linear (we would like it to b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…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05A6-F593-41E9-844D-9C25321700B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explosion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057400" y="1371600"/>
          <a:ext cx="487512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487512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28AA-F8DF-4CF9-AE5B-84E77DBB2DC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sulting F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2789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6294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83F3-ECC1-4755-92BF-86D1F9B109F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 quadruple (P,T,F,W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: places  T: transitions (P, T are finit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F: flow rela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}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                             W: weight func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: 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 – {0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roperties: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=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2) 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3)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)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W: 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N-{0}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 value of W is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fined by marking: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: P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5C30-2174-4654-90A5-EFF883FE516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43000" y="914400"/>
          <a:ext cx="61722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172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1219320" y="1981080"/>
            <a:ext cx="6400800" cy="4533840"/>
            <a:chOff x="1219320" y="1981080"/>
            <a:chExt cx="6400800" cy="4533840"/>
          </a:xfrm>
        </p:grpSpPr>
        <p:sp>
          <p:nvSpPr>
            <p:cNvPr id="222" name=""/>
            <p:cNvSpPr/>
            <p:nvPr/>
          </p:nvSpPr>
          <p:spPr>
            <a:xfrm>
              <a:off x="26701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32320" y="3143160"/>
              <a:ext cx="585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21000" y="4491000"/>
              <a:ext cx="68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090960" y="3986280"/>
              <a:ext cx="536400" cy="458640"/>
              <a:chOff x="3090960" y="3986280"/>
              <a:chExt cx="536400" cy="458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74360" y="4307400"/>
                <a:ext cx="153000" cy="13752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120" y="120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90960" y="3986280"/>
                <a:ext cx="40896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807000" y="3943440"/>
              <a:ext cx="508680" cy="501120"/>
              <a:chOff x="3807000" y="3943440"/>
              <a:chExt cx="508680" cy="501120"/>
            </a:xfrm>
          </p:grpSpPr>
          <p:sp>
            <p:nvSpPr>
              <p:cNvPr id="229" name=""/>
              <p:cNvSpPr/>
              <p:nvPr/>
            </p:nvSpPr>
            <p:spPr>
              <a:xfrm>
                <a:off x="3807000" y="4353480"/>
                <a:ext cx="10152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3857400" y="3943440"/>
                <a:ext cx="4582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065760" y="4467240"/>
              <a:ext cx="434520" cy="410760"/>
              <a:chOff x="3065760" y="4467240"/>
              <a:chExt cx="434520" cy="410760"/>
            </a:xfrm>
          </p:grpSpPr>
          <p:sp>
            <p:nvSpPr>
              <p:cNvPr id="232" name=""/>
              <p:cNvSpPr/>
              <p:nvPr/>
            </p:nvSpPr>
            <p:spPr>
              <a:xfrm>
                <a:off x="3065760" y="4763880"/>
                <a:ext cx="76320" cy="114120"/>
              </a:xfrm>
              <a:custGeom>
                <a:avLst/>
                <a:gdLst/>
                <a:ahLst/>
                <a:rect l="l" t="t" r="r" b="b"/>
                <a:pathLst>
                  <a:path w="60" h="100">
                    <a:moveTo>
                      <a:pt x="0" y="100"/>
                    </a:moveTo>
                    <a:lnTo>
                      <a:pt x="40" y="0"/>
                    </a:lnTo>
                    <a:lnTo>
                      <a:pt x="40" y="40"/>
                    </a:lnTo>
                    <a:lnTo>
                      <a:pt x="60" y="6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116520" y="4467240"/>
                <a:ext cx="38376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143520" y="5106960"/>
              <a:ext cx="431280" cy="568080"/>
              <a:chOff x="3143520" y="5106960"/>
              <a:chExt cx="431280" cy="568080"/>
            </a:xfrm>
          </p:grpSpPr>
          <p:sp>
            <p:nvSpPr>
              <p:cNvPr id="235" name=""/>
              <p:cNvSpPr/>
              <p:nvPr/>
            </p:nvSpPr>
            <p:spPr>
              <a:xfrm>
                <a:off x="3448080" y="5538600"/>
                <a:ext cx="126720" cy="13644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4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43520" y="5106960"/>
                <a:ext cx="329760" cy="45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63520" y="1981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39800" y="3074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92120" y="359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43160" y="266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8880" y="4491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50440" y="4740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28080" y="514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17680" y="2822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30760" y="460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17960" y="209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2440" y="323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0640" y="3805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79320" y="4924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28880" y="528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95680" y="3633840"/>
              <a:ext cx="4586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54560" y="3611520"/>
              <a:ext cx="459000" cy="40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8240" y="4911840"/>
              <a:ext cx="45864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45120" y="5697360"/>
              <a:ext cx="6886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7480" y="2308320"/>
              <a:ext cx="1024560" cy="392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4"/>
                  </a:moveTo>
                  <a:arcTo wR="10800" hR="10800" stAng="-17791" swAng="549282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4"/>
                  </a:moveTo>
                  <a:arcTo wR="10800" hR="10800" stAng="-17791" swAng="5492822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92600" y="5100120"/>
              <a:ext cx="510840" cy="113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3" y="21599"/>
                  </a:moveTo>
                  <a:arcTo wR="10800" hR="10800" stAng="5443603" swAng="53734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3" y="21599"/>
                  </a:moveTo>
                  <a:arcTo wR="10800" hR="10800" stAng="5443603" swAng="5373408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54760" y="4467240"/>
              <a:ext cx="689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4749840" y="4010040"/>
              <a:ext cx="534600" cy="456840"/>
              <a:chOff x="4749840" y="4010040"/>
              <a:chExt cx="534600" cy="456840"/>
            </a:xfrm>
          </p:grpSpPr>
          <p:sp>
            <p:nvSpPr>
              <p:cNvPr id="259" name=""/>
              <p:cNvSpPr/>
              <p:nvPr/>
            </p:nvSpPr>
            <p:spPr>
              <a:xfrm>
                <a:off x="5131800" y="4330800"/>
                <a:ext cx="152640" cy="136080"/>
              </a:xfrm>
              <a:custGeom>
                <a:avLst/>
                <a:gdLst/>
                <a:ahLst/>
                <a:rect l="l" t="t" r="r" b="b"/>
                <a:pathLst>
                  <a:path w="120" h="119">
                    <a:moveTo>
                      <a:pt x="120" y="119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49840" y="4010040"/>
                <a:ext cx="407520" cy="36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411880" y="3943440"/>
              <a:ext cx="510840" cy="501120"/>
              <a:chOff x="5411880" y="3943440"/>
              <a:chExt cx="510840" cy="501120"/>
            </a:xfrm>
          </p:grpSpPr>
          <p:sp>
            <p:nvSpPr>
              <p:cNvPr id="262" name=""/>
              <p:cNvSpPr/>
              <p:nvPr/>
            </p:nvSpPr>
            <p:spPr>
              <a:xfrm>
                <a:off x="5411880" y="4353480"/>
                <a:ext cx="10224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5462640" y="3943440"/>
                <a:ext cx="4600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438880" y="4467240"/>
              <a:ext cx="431280" cy="570960"/>
              <a:chOff x="5438880" y="4467240"/>
              <a:chExt cx="431280" cy="570960"/>
            </a:xfrm>
          </p:grpSpPr>
          <p:sp>
            <p:nvSpPr>
              <p:cNvPr id="265" name=""/>
              <p:cNvSpPr/>
              <p:nvPr/>
            </p:nvSpPr>
            <p:spPr>
              <a:xfrm>
                <a:off x="5743440" y="4901400"/>
                <a:ext cx="126720" cy="13680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2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38880" y="4467240"/>
                <a:ext cx="32976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5807160" y="4935600"/>
              <a:ext cx="45900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79960" y="5697360"/>
              <a:ext cx="6890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849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45320" y="3143160"/>
              <a:ext cx="587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08680" y="3633840"/>
              <a:ext cx="4604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513400" y="5262480"/>
              <a:ext cx="306000" cy="388800"/>
              <a:chOff x="5513400" y="5262480"/>
              <a:chExt cx="306000" cy="388800"/>
            </a:xfrm>
          </p:grpSpPr>
          <p:sp>
            <p:nvSpPr>
              <p:cNvPr id="273" name=""/>
              <p:cNvSpPr/>
              <p:nvPr/>
            </p:nvSpPr>
            <p:spPr>
              <a:xfrm>
                <a:off x="5513400" y="5445360"/>
                <a:ext cx="178560" cy="205920"/>
              </a:xfrm>
              <a:custGeom>
                <a:avLst/>
                <a:gdLst/>
                <a:ahLst/>
                <a:rect l="l" t="t" r="r" b="b"/>
                <a:pathLst>
                  <a:path w="140" h="180">
                    <a:moveTo>
                      <a:pt x="0" y="180"/>
                    </a:moveTo>
                    <a:lnTo>
                      <a:pt x="60" y="0"/>
                    </a:lnTo>
                    <a:lnTo>
                      <a:pt x="60" y="80"/>
                    </a:lnTo>
                    <a:lnTo>
                      <a:pt x="140" y="6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5589720" y="5262480"/>
                <a:ext cx="229680" cy="27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786040" y="2757600"/>
              <a:ext cx="127080" cy="339120"/>
              <a:chOff x="2786040" y="2757600"/>
              <a:chExt cx="127080" cy="339120"/>
            </a:xfrm>
          </p:grpSpPr>
          <p:sp>
            <p:nvSpPr>
              <p:cNvPr id="276" name=""/>
              <p:cNvSpPr/>
              <p:nvPr/>
            </p:nvSpPr>
            <p:spPr>
              <a:xfrm>
                <a:off x="2786040" y="2893680"/>
                <a:ext cx="127080" cy="20304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862000" y="2757600"/>
                <a:ext cx="1440" cy="20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786040" y="3097080"/>
              <a:ext cx="127080" cy="479520"/>
              <a:chOff x="2786040" y="3097080"/>
              <a:chExt cx="127080" cy="479520"/>
            </a:xfrm>
          </p:grpSpPr>
          <p:sp>
            <p:nvSpPr>
              <p:cNvPr id="279" name=""/>
              <p:cNvSpPr/>
              <p:nvPr/>
            </p:nvSpPr>
            <p:spPr>
              <a:xfrm>
                <a:off x="2786040" y="337104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62000" y="309708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050160" y="2781360"/>
              <a:ext cx="127080" cy="361440"/>
              <a:chOff x="6050160" y="2781360"/>
              <a:chExt cx="127080" cy="361440"/>
            </a:xfrm>
          </p:grpSpPr>
          <p:sp>
            <p:nvSpPr>
              <p:cNvPr id="282" name=""/>
              <p:cNvSpPr/>
              <p:nvPr/>
            </p:nvSpPr>
            <p:spPr>
              <a:xfrm>
                <a:off x="6050160" y="2940120"/>
                <a:ext cx="127080" cy="20268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59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26120" y="2781360"/>
                <a:ext cx="1440" cy="22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050160" y="3143160"/>
              <a:ext cx="127080" cy="479520"/>
              <a:chOff x="6050160" y="3143160"/>
              <a:chExt cx="127080" cy="479520"/>
            </a:xfrm>
          </p:grpSpPr>
          <p:sp>
            <p:nvSpPr>
              <p:cNvPr id="285" name=""/>
              <p:cNvSpPr/>
              <p:nvPr/>
            </p:nvSpPr>
            <p:spPr>
              <a:xfrm>
                <a:off x="6050160" y="341712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26120" y="314316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443480" y="3965400"/>
              <a:ext cx="127080" cy="364680"/>
              <a:chOff x="4443480" y="3965400"/>
              <a:chExt cx="127080" cy="364680"/>
            </a:xfrm>
          </p:grpSpPr>
          <p:sp>
            <p:nvSpPr>
              <p:cNvPr id="288" name=""/>
              <p:cNvSpPr/>
              <p:nvPr/>
            </p:nvSpPr>
            <p:spPr>
              <a:xfrm>
                <a:off x="4443480" y="3965400"/>
                <a:ext cx="127080" cy="228240"/>
              </a:xfrm>
              <a:custGeom>
                <a:avLst/>
                <a:gdLst/>
                <a:ahLst/>
                <a:rect l="l" t="t" r="r" b="b"/>
                <a:pathLst>
                  <a:path w="100" h="200">
                    <a:moveTo>
                      <a:pt x="60" y="0"/>
                    </a:moveTo>
                    <a:lnTo>
                      <a:pt x="100" y="200"/>
                    </a:lnTo>
                    <a:lnTo>
                      <a:pt x="60" y="140"/>
                    </a:lnTo>
                    <a:lnTo>
                      <a:pt x="0" y="20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519800" y="4124520"/>
                <a:ext cx="1080" cy="20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>
              <a:off x="6300360" y="2011320"/>
              <a:ext cx="12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07360" y="373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54360" y="487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324120" y="2171520"/>
              <a:ext cx="9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79720" y="38973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27080" y="50594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08440" y="2982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44960" y="4284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44960" y="549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30480" y="31208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66640" y="4421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66640" y="56070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59400" y="2573280"/>
              <a:ext cx="2160720" cy="3941640"/>
            </a:xfrm>
            <a:custGeom>
              <a:avLst/>
              <a:gdLst/>
              <a:ahLst/>
              <a:rect l="l" t="t" r="r" b="b"/>
              <a:pathLst>
                <a:path w="1088" h="2144">
                  <a:moveTo>
                    <a:pt x="8" y="1680"/>
                  </a:moveTo>
                  <a:cubicBezTo>
                    <a:pt x="4" y="1764"/>
                    <a:pt x="0" y="1848"/>
                    <a:pt x="56" y="1920"/>
                  </a:cubicBezTo>
                  <a:cubicBezTo>
                    <a:pt x="112" y="1992"/>
                    <a:pt x="208" y="2144"/>
                    <a:pt x="344" y="2112"/>
                  </a:cubicBezTo>
                  <a:cubicBezTo>
                    <a:pt x="480" y="2080"/>
                    <a:pt x="760" y="2032"/>
                    <a:pt x="872" y="1728"/>
                  </a:cubicBezTo>
                  <a:cubicBezTo>
                    <a:pt x="984" y="1424"/>
                    <a:pt x="1088" y="576"/>
                    <a:pt x="1016" y="288"/>
                  </a:cubicBezTo>
                  <a:cubicBezTo>
                    <a:pt x="944" y="0"/>
                    <a:pt x="692" y="0"/>
                    <a:pt x="4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18080" y="3984480"/>
              <a:ext cx="666720" cy="2354400"/>
            </a:xfrm>
            <a:custGeom>
              <a:avLst/>
              <a:gdLst/>
              <a:ahLst/>
              <a:rect l="l" t="t" r="r" b="b"/>
              <a:pathLst>
                <a:path w="336" h="1280">
                  <a:moveTo>
                    <a:pt x="336" y="912"/>
                  </a:moveTo>
                  <a:cubicBezTo>
                    <a:pt x="332" y="1064"/>
                    <a:pt x="328" y="1216"/>
                    <a:pt x="288" y="1248"/>
                  </a:cubicBezTo>
                  <a:cubicBezTo>
                    <a:pt x="248" y="1280"/>
                    <a:pt x="136" y="1208"/>
                    <a:pt x="96" y="1104"/>
                  </a:cubicBezTo>
                  <a:cubicBezTo>
                    <a:pt x="56" y="1000"/>
                    <a:pt x="64" y="808"/>
                    <a:pt x="48" y="624"/>
                  </a:cubicBezTo>
                  <a:cubicBezTo>
                    <a:pt x="32" y="440"/>
                    <a:pt x="16" y="22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573280"/>
              <a:ext cx="2351160" cy="3927600"/>
            </a:xfrm>
            <a:custGeom>
              <a:avLst/>
              <a:gdLst/>
              <a:ahLst/>
              <a:rect l="l" t="t" r="r" b="b"/>
              <a:pathLst>
                <a:path w="1184" h="2136">
                  <a:moveTo>
                    <a:pt x="1136" y="1680"/>
                  </a:moveTo>
                  <a:cubicBezTo>
                    <a:pt x="1160" y="1816"/>
                    <a:pt x="1184" y="1952"/>
                    <a:pt x="1088" y="2016"/>
                  </a:cubicBezTo>
                  <a:cubicBezTo>
                    <a:pt x="992" y="2080"/>
                    <a:pt x="704" y="2136"/>
                    <a:pt x="560" y="2064"/>
                  </a:cubicBezTo>
                  <a:cubicBezTo>
                    <a:pt x="416" y="1992"/>
                    <a:pt x="304" y="1856"/>
                    <a:pt x="224" y="1584"/>
                  </a:cubicBezTo>
                  <a:cubicBezTo>
                    <a:pt x="144" y="1312"/>
                    <a:pt x="0" y="696"/>
                    <a:pt x="80" y="432"/>
                  </a:cubicBezTo>
                  <a:cubicBezTo>
                    <a:pt x="160" y="168"/>
                    <a:pt x="432" y="84"/>
                    <a:pt x="7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292480" y="22860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8CD7-A589-432D-AEF2-34E51D294E1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mantics: dynamic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t is enabled i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's input place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(p)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fires: produces a new marking M’ in places that are either t's input or output places or 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input place: M'(p) = M(p) -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output place: M'(p) = M(p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both an input and an output place:        M'(p) = M(p) - W(&lt;p,t&gt;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F04A-B044-465A-B884-1DAF8CE7882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of the enabled transitions may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does not specify which fires, nor when it f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239E-AEB0-460B-9180-3C8148D559F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ment of the interface between the machine and the controlled environmen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rious undesirable effects can result due to misunderstandings between software engineers and domain experts about the phenomena affecting the control function to be implemented by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9AB4-36EF-4175-89B3-EBCD1105CA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ing with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ces represent distributed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represent actions or events that may occur when system is in a certain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occur as certain conditions hold on the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3FD6-EDDB-41AD-9DB4-8B022F331FB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762120" y="609480"/>
          <a:ext cx="7983360" cy="66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983360" cy="66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267200" y="15228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(a) either (b) or (c) may occur, and then 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94DC-54F0-4D48-8656-AF7D4537B74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on c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and the firing of one does nor prevent the other from fi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but the firing of one prevents the other from f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odels a  shared resource between two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icy exists to resolve conflicts (know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fai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du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may never get a resour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2AF7-8BE6-4BBD-B448-0B9913C1B4F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avoid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51928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559480" cy="4722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056640" y="26668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es 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858F-D5E4-484F-BFA4-E94CE7BDFCCB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flict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17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4730760" cy="5489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571440" y="2014560"/>
            <a:ext cx="18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net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dlo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7664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1676520" cy="4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FB48-0E62-42C6-A47D-60B7F095838B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adlock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12912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5259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D31E-24FE-470F-989F-32CF11B91DE9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of partial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333072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195960" cy="48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89E8-6866-4AA9-B1FB-F89DA3BA72BA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286000" y="1066680"/>
          <a:ext cx="601992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601992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216000" y="3657600"/>
            <a:ext cx="29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22C1-F7B6-43DC-977E-55FF70FEC2C0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581280" y="762120"/>
          <a:ext cx="5050080" cy="58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762120"/>
                    <a:ext cx="505008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624960" y="297180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net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DC32-6AA3-4969-BC15-0DDBA5D437A1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 and 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703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440320" cy="2241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106280" y="4495680"/>
            <a:ext cx="733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n represents a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You wish to say that the delivery channel dep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 cont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etri nets cannot specify selection poli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D32A-F234-4B5D-B24E-1925DC012671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of requirements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process is a chain of specification (i.e., definition)–implementation–verification step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s specificatio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ers to definition of external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specification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sign 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refers to definition of the software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5FC6-C0D5-4AE2-8564-AE6FA134FD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igning values to toke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have associated predicates an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icate refers to values of tokens in input places selected for fi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define values of tokens produced in output pl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91FA-88C8-47BE-8C46-06C3ECDB6EE9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3178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434200" cy="3562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051240" y="1523880"/>
            <a:ext cx="283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2 &gt;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2 +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3 = P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3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5 := P2 + P3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2160" y="5334120"/>
            <a:ext cx="729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ring of t1 by using &lt;3,7&gt; would produc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ue 10 in P4.  t2 can then fire using &lt;4, 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102F-FF6F-4C8D-8239-712EC647AB18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ior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iority function pri from transitions to natural numb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: T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several transitions are enabled, only the ones with maximum priority are allowed to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ng them, the one to fire is chosen nondeterminis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03E5-FCB8-48D3-91EE-5994F28F325E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d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air of constants &lt;tmin, tmax&gt; is associated with each transiti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ce a transition is enabled, it must wait for at least tmin to elapse before it can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 enabled, it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us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fire before tmax has elapsed, unless it is disabled by the firing of another transition before tma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101A-ADCF-464F-A244-A4F1E593F7D8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bining priorities and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30146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6359400" cy="24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8FD2-9A25-44B6-9FF6-766559CF1893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5113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104160" cy="6024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451480" y="388620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FF6E-855A-4837-8FE5-1C0A1EFF8A2A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70972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76200" y="304920"/>
            <a:ext cx="5310360" cy="61261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842000" y="38098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CA8D-02DD-4252-8134-D04507D1EB22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n n elevator system to be installed in a building with m flo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atural language specs contain several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ormal specification using PNs removes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pecification will be provided in a stepwise fash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ill use modules, each encapsulating fragments of PNs which describe certain system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EFA6-686A-4F67-B06E-552C9B6F3C53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7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informal spec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1800" y="127620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 illumination is cancelled when the elevator visits the floor and is either moving in the desired direction, or ..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2 different interpretations (case of up ca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s the elevator arrives at the floor from below (obvious restrictions for 1st and last flo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fter the elevators starts movin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in practice you may observe the two case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CD46-9F1E-4211-BAEB-81EE3FAD1276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analysis of informal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 algorithm to decide which to service first should minimize the waiting time for both request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no other way can you satisfy either request in a short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minimizing for one may require longer for the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um of both is mi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the su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11D7-BEEF-4C14-A312-B6ACEDBA8506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ference point during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 maintenance only changes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and perfective maintenance occur because of requirements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 specification must change according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AED3-93F4-4C93-9A75-0DD93058F8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itial sketch of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27590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53240" cy="43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D379-2417-4B02-8D23-C835DD1652AA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ton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71560" y="1790640"/>
          <a:ext cx="582948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1790640"/>
                    <a:ext cx="582948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5DA1-6EFC-44A3-948E-E1BF14419BE5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vator position (sketch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828800" y="838080"/>
          <a:ext cx="5297400" cy="545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8080"/>
                    <a:ext cx="529740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A9B3-A94E-4D06-893E-22D5141085A3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037920" y="557856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j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1300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28600" y="784080"/>
            <a:ext cx="6907320" cy="56372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0200" y="228600"/>
            <a:ext cx="65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ecise description of elevator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5B67-1A11-4386-9D58-AB0C2F315053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internal button of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85800" y="1657440"/>
          <a:ext cx="7467480" cy="634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57440"/>
                    <a:ext cx="7467480" cy="63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CB9B-4F5C-4BFB-927D-6CDBD4B31232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68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external button off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990720" y="1295280"/>
            <a:ext cx="6573240" cy="4344840"/>
            <a:chOff x="990720" y="1295280"/>
            <a:chExt cx="6573240" cy="4344840"/>
          </a:xfrm>
        </p:grpSpPr>
        <p:sp>
          <p:nvSpPr>
            <p:cNvPr id="389" name=""/>
            <p:cNvSpPr/>
            <p:nvPr/>
          </p:nvSpPr>
          <p:spPr>
            <a:xfrm>
              <a:off x="1398240" y="1557360"/>
              <a:ext cx="679320" cy="657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9824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09760" y="3520800"/>
              <a:ext cx="68076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2272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87440" y="2840040"/>
              <a:ext cx="677520" cy="39600"/>
            </a:xfrm>
            <a:custGeom>
              <a:avLst/>
              <a:gdLst/>
              <a:ahLst/>
              <a:rect l="l" t="t" r="r" b="b"/>
              <a:pathLst>
                <a:path w="427" h="25">
                  <a:moveTo>
                    <a:pt x="0" y="0"/>
                  </a:moveTo>
                  <a:lnTo>
                    <a:pt x="0" y="23"/>
                  </a:lnTo>
                  <a:lnTo>
                    <a:pt x="427" y="25"/>
                  </a:lnTo>
                  <a:lnTo>
                    <a:pt x="42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76560" y="25304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76560" y="44942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50960" y="2857320"/>
              <a:ext cx="131400" cy="255600"/>
            </a:xfrm>
            <a:custGeom>
              <a:avLst/>
              <a:gdLst/>
              <a:ahLst/>
              <a:rect l="l" t="t" r="r" b="b"/>
              <a:pathLst>
                <a:path w="83" h="161">
                  <a:moveTo>
                    <a:pt x="47" y="0"/>
                  </a:moveTo>
                  <a:lnTo>
                    <a:pt x="83" y="161"/>
                  </a:lnTo>
                  <a:lnTo>
                    <a:pt x="47" y="161"/>
                  </a:lnTo>
                  <a:lnTo>
                    <a:pt x="0" y="16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725480" y="3112560"/>
              <a:ext cx="2880" cy="399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50960" y="2205000"/>
              <a:ext cx="131400" cy="253800"/>
            </a:xfrm>
            <a:custGeom>
              <a:avLst/>
              <a:gdLst/>
              <a:ahLst/>
              <a:rect l="l" t="t" r="r" b="b"/>
              <a:pathLst>
                <a:path w="83" h="160">
                  <a:moveTo>
                    <a:pt x="47" y="0"/>
                  </a:moveTo>
                  <a:lnTo>
                    <a:pt x="83" y="160"/>
                  </a:lnTo>
                  <a:lnTo>
                    <a:pt x="47" y="160"/>
                  </a:lnTo>
                  <a:lnTo>
                    <a:pt x="0" y="16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1725480" y="2458440"/>
              <a:ext cx="2880" cy="398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84640" y="2403360"/>
              <a:ext cx="3744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2280" y="2366640"/>
              <a:ext cx="435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02280" y="236988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68840" y="5259240"/>
              <a:ext cx="62028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89560" y="5208480"/>
              <a:ext cx="17917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88840" y="5213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00440" y="5213160"/>
              <a:ext cx="227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..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40920" y="5213160"/>
              <a:ext cx="74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90720" y="2639880"/>
              <a:ext cx="19008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11240" y="2603520"/>
              <a:ext cx="245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10520" y="26082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23560" y="2608200"/>
              <a:ext cx="4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60280" y="4186080"/>
              <a:ext cx="207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80800" y="4149720"/>
              <a:ext cx="2840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79360" y="4154400"/>
              <a:ext cx="18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8040" y="1330200"/>
              <a:ext cx="261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5680" y="1295280"/>
              <a:ext cx="323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54240" y="1298520"/>
              <a:ext cx="22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89400" y="4295520"/>
              <a:ext cx="3376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06680" y="4259160"/>
              <a:ext cx="398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6680" y="42624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00560" y="4295520"/>
              <a:ext cx="3394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19640" y="4259160"/>
              <a:ext cx="37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20360" y="4262400"/>
              <a:ext cx="28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76480" y="3477960"/>
              <a:ext cx="245880" cy="198720"/>
            </a:xfrm>
            <a:custGeom>
              <a:avLst/>
              <a:gdLst/>
              <a:ahLst/>
              <a:rect l="l" t="t" r="r" b="b"/>
              <a:pathLst>
                <a:path w="155" h="125">
                  <a:moveTo>
                    <a:pt x="0" y="125"/>
                  </a:moveTo>
                  <a:lnTo>
                    <a:pt x="120" y="0"/>
                  </a:lnTo>
                  <a:lnTo>
                    <a:pt x="131" y="33"/>
                  </a:lnTo>
                  <a:lnTo>
                    <a:pt x="155" y="67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984560" y="3020760"/>
              <a:ext cx="809280" cy="50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94200" y="2857320"/>
              <a:ext cx="264600" cy="18108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0" y="0"/>
                  </a:moveTo>
                  <a:lnTo>
                    <a:pt x="167" y="34"/>
                  </a:lnTo>
                  <a:lnTo>
                    <a:pt x="142" y="69"/>
                  </a:lnTo>
                  <a:lnTo>
                    <a:pt x="12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6019200" y="2966400"/>
              <a:ext cx="960120" cy="546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67480" y="4003560"/>
              <a:ext cx="244080" cy="2188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154" y="0"/>
                  </a:moveTo>
                  <a:lnTo>
                    <a:pt x="60" y="138"/>
                  </a:lnTo>
                  <a:lnTo>
                    <a:pt x="35" y="103"/>
                  </a:lnTo>
                  <a:lnTo>
                    <a:pt x="0" y="8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793840" y="4167000"/>
              <a:ext cx="828360" cy="820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32120" y="4624200"/>
              <a:ext cx="261720" cy="1983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165" y="125"/>
                  </a:moveTo>
                  <a:lnTo>
                    <a:pt x="0" y="80"/>
                  </a:lnTo>
                  <a:lnTo>
                    <a:pt x="23" y="45"/>
                  </a:lnTo>
                  <a:lnTo>
                    <a:pt x="35" y="0"/>
                  </a:lnTo>
                  <a:lnTo>
                    <a:pt x="165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4606560" y="4166640"/>
              <a:ext cx="961560" cy="52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895400" y="2695320"/>
              <a:ext cx="1080" cy="162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8954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03360" y="2205000"/>
              <a:ext cx="42382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20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75440" y="3240000"/>
              <a:ext cx="131400" cy="272880"/>
            </a:xfrm>
            <a:custGeom>
              <a:avLst/>
              <a:gdLst/>
              <a:ahLst/>
              <a:rect l="l" t="t" r="r" b="b"/>
              <a:pathLst>
                <a:path w="83" h="172">
                  <a:moveTo>
                    <a:pt x="47" y="172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83" y="0"/>
                  </a:lnTo>
                  <a:lnTo>
                    <a:pt x="47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49960" y="2695320"/>
              <a:ext cx="2880" cy="54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95400" y="4167000"/>
              <a:ext cx="263160" cy="18252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0" y="0"/>
                  </a:moveTo>
                  <a:lnTo>
                    <a:pt x="166" y="46"/>
                  </a:lnTo>
                  <a:lnTo>
                    <a:pt x="142" y="81"/>
                  </a:lnTo>
                  <a:lnTo>
                    <a:pt x="120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0760" y="4295520"/>
              <a:ext cx="1130040" cy="692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32120" y="4913280"/>
              <a:ext cx="261720" cy="128520"/>
            </a:xfrm>
            <a:custGeom>
              <a:avLst/>
              <a:gdLst/>
              <a:ahLst/>
              <a:rect l="l" t="t" r="r" b="b"/>
              <a:pathLst>
                <a:path w="165" h="81">
                  <a:moveTo>
                    <a:pt x="165" y="47"/>
                  </a:moveTo>
                  <a:lnTo>
                    <a:pt x="0" y="81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6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51160" y="4987800"/>
              <a:ext cx="22806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403360" y="3841560"/>
              <a:ext cx="1694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800000" y="1457280"/>
              <a:ext cx="5763960" cy="4182840"/>
              <a:chOff x="1800000" y="1457280"/>
              <a:chExt cx="5763960" cy="4182840"/>
            </a:xfrm>
          </p:grpSpPr>
          <p:sp>
            <p:nvSpPr>
              <p:cNvPr id="444" name=""/>
              <p:cNvSpPr/>
              <p:nvPr/>
            </p:nvSpPr>
            <p:spPr>
              <a:xfrm>
                <a:off x="1800000" y="2857320"/>
                <a:ext cx="169920" cy="255600"/>
              </a:xfrm>
              <a:custGeom>
                <a:avLst/>
                <a:gdLst/>
                <a:ahLst/>
                <a:rect l="l" t="t" r="r" b="b"/>
                <a:pathLst>
                  <a:path w="107" h="161">
                    <a:moveTo>
                      <a:pt x="0" y="0"/>
                    </a:moveTo>
                    <a:lnTo>
                      <a:pt x="107" y="127"/>
                    </a:lnTo>
                    <a:lnTo>
                      <a:pt x="71" y="138"/>
                    </a:lnTo>
                    <a:lnTo>
                      <a:pt x="36" y="1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1912680" y="3076200"/>
                <a:ext cx="395280" cy="765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65160" y="1549080"/>
                <a:ext cx="338040" cy="3764160"/>
              </a:xfrm>
              <a:custGeom>
                <a:avLst/>
                <a:gdLst/>
                <a:ahLst/>
                <a:rect l="l" t="t" r="r" b="b"/>
                <a:pathLst>
                  <a:path w="213" h="2371">
                    <a:moveTo>
                      <a:pt x="213" y="0"/>
                    </a:moveTo>
                    <a:lnTo>
                      <a:pt x="0" y="205"/>
                    </a:lnTo>
                    <a:lnTo>
                      <a:pt x="0" y="237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65160" y="1549080"/>
                <a:ext cx="3898800" cy="4091040"/>
              </a:xfrm>
              <a:custGeom>
                <a:avLst/>
                <a:gdLst/>
                <a:ahLst/>
                <a:rect l="l" t="t" r="r" b="b"/>
                <a:pathLst>
                  <a:path w="2456" h="2577">
                    <a:moveTo>
                      <a:pt x="0" y="2371"/>
                    </a:moveTo>
                    <a:lnTo>
                      <a:pt x="213" y="2577"/>
                    </a:lnTo>
                    <a:lnTo>
                      <a:pt x="2242" y="2577"/>
                    </a:lnTo>
                    <a:lnTo>
                      <a:pt x="2349" y="2475"/>
                    </a:lnTo>
                    <a:lnTo>
                      <a:pt x="2456" y="2371"/>
                    </a:lnTo>
                    <a:lnTo>
                      <a:pt x="2456" y="205"/>
                    </a:lnTo>
                    <a:lnTo>
                      <a:pt x="2242" y="0"/>
                    </a:lnTo>
                    <a:lnTo>
                      <a:pt x="21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268440" y="1493640"/>
                <a:ext cx="396720" cy="25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88960" y="1457280"/>
                <a:ext cx="47304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87160" y="1460520"/>
                <a:ext cx="351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UPj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"/>
          <p:cNvSpPr/>
          <p:nvPr/>
        </p:nvSpPr>
        <p:spPr>
          <a:xfrm>
            <a:off x="173880" y="5486400"/>
            <a:ext cx="52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time need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rson to enter + pushing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244C-7FD0-4716-90FE-0F8530962FD1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6672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oli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150920" y="3135240"/>
          <a:ext cx="689616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3135240"/>
                    <a:ext cx="689616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461160" y="1219320"/>
            <a:ext cx="79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“fair”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ep the direction unchanged as long as there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s that require elevator to go in that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840" y="33400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26680" y="315612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25760" y="26384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4560" y="51530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95720" y="5762520"/>
            <a:ext cx="67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7, t8, t9 have higher priority than t10, t11, t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63F7-A162-4849-8E23-D9CDF704702A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eneral schedu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37306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14920" cy="2467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57200" y="4038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h transition has predicate OK(Schedu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 in SCHEDULER stores information about the state of the system that is useful f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heduling transi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o f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oken is “permanent”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oduc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the firing of any trans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D391-9169-460F-A3B8-FD0EDD340511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larative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diagrams: semiformal spe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BA3E-973B-46B8-A0B6-C058BDAFCEC1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used as a complement to DFD to describe conceptual data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entities, relationships, 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the ancestors of class diagrams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022F-189C-480F-910D-A30E4BF7CECD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cise, clear, unambigu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DA06-9A99-4BD0-B46C-4F73D72A94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200400" y="1981080"/>
          <a:ext cx="2400480" cy="37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981080"/>
                    <a:ext cx="2400480" cy="37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1591-A28F-4B8C-8D90-C81000008869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part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annotated to def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886200" y="3200400"/>
          <a:ext cx="4572000" cy="294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200400"/>
                    <a:ext cx="4572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4D3A-1469-4FE2-A53F-52480FC1EF65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 binary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762120" y="2057400"/>
          <a:ext cx="74293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4293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E9DF-F746-4F7F-B82D-4DA020A0C19D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amples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-order theory (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mul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y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= y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y 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, y, z (x &gt; y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+ 1 &lt; x 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(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ist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(y = x + z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3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lt;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C68A-00D1-43A0-BE07-8DD06871A75D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omplete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perty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, or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,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or P is specified as a formula of the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1610640" y="3048120"/>
            <a:ext cx="6246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re (i1, i2,..., in)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ost (o1, o2,..., om, i1, i2,..., in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6000" y="5181480"/>
            <a:ext cx="29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: pre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: post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9745-2064-4450-8E6E-5F516B048797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to compute greatest common di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1062000" y="3125880"/>
            <a:ext cx="733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i1 &gt; 0 and i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(exists z1, z2 (i1 = o *  z1 and i2 = o * z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not (exists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exists z1, z2 (i1 = h * z1 and i2 = h * z2) and h &gt; o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660C-5ADA-439D-B9A6-2F07154DE2A3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oced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917640" y="2057400"/>
            <a:ext cx="753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} -- n is a consta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search (table: in integer_array; n: in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: in integer; found: out Boolea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und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exists i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 and table (i) = element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5120" y="4114800"/>
            <a:ext cx="77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reverse (a: in out integer_array; n: in integ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r all i (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) implies (a (i) =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ld–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(n - i +1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BA29-D5C7-4F65-BB49-07DDA909A418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las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predicates and pre/post conditions for each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of invariant specifying an array implementing ADT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862920" y="4191120"/>
            <a:ext cx="75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i, j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j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i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 IMPL[i]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[j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 duplicates are sto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67AE-62D9-4DA5-8D08-F9AA033CA71B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non-terminating behavi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ducer+consumer+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specifies that whatever has been produced is the concatenation of what has been taken from the buffer and what is kept in the 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969840" y="4648320"/>
            <a:ext cx="66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put_sequence = append (output_seque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ents(CHAR_BUFF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F925-39EF-4C55-9CA8-CA94E88A58BF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-study using 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outline the elevator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t (E, F, 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is at floor F at time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rt (E, F, T, up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left floor F at time T moving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at (E, F, T) and on (EB,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T) and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&gt; F) implies start (E, F, T,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E817-C81B-4264-8DBB-F42969681EEB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r, unambiguous, understand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1100160" y="2819520"/>
            <a:ext cx="7495920" cy="2654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ing is the process of design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s of the document that you wan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ork on. Most editing and forma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s require two steps: first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what you want to work 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ch as text or graphics; then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te the appropriate action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9520" y="571500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n area be scatte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A07B-1AE6-460E-91DC-2AC1CE7509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 and ev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 are partitioned i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, having non-null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ing(E, F, T1, T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umption: closed at left, open at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aneous (caused state change occurs at same 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ed by predicates that hold only at a particular time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ived (E, F, 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implicity, we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ero decis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imultaneous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726E-8F70-4B56-AB3B-1D946587BF44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rrival (E, F, T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(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initial t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does not say if it will stop or will proceed, nor where it comes f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departure(E, F, D, T)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D in {up, down}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top (E, F, T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 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specifies stop to serve an internal or external re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4B98-3655-4BE1-8BA7-3FAF1CDE8E79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ew_list (E, L, T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 in [1..n], L in [1.. m]</a:t>
            </a:r>
            <a:r>
              <a:rPr b="0" lang="en-AU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,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 is the list of floors to visit associated with elevator (scheduling is performed by the control component of th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all(F, D, T)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xternal call  (with restriction for 1,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request(E, F, T)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ternal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C59C-F4FA-4C4F-BD84-B7DD64207667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ng (E, F, D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ing (E, F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(E, L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mplicitly assume that state predicates hold for any sub- interval (i.e., the rules that describe this are assumed to be automatically add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hing prevents that it holds for larger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1FB1-F67B-47D8-861A-5B5D1301F131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ules relating events and 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-74880" y="1744560"/>
            <a:ext cx="9522360" cy="1607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:When E arrives at floor F, it continues to move if ther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o request for service from F and the list is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floor to serve is higher, it moves upwar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otherwise it moves down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32080" y="346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13960" y="3387600"/>
            <a:ext cx="316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5600" y="563868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rule describes downward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35ED-C9DA-4C49-B72B-9736383A0856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17440" y="452520"/>
            <a:ext cx="857592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2: Upon arrival at F, E stops if F must be serviced (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ppears as first of the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39160" y="1440000"/>
            <a:ext cx="2803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5480" y="3657600"/>
            <a:ext cx="7993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3: E stops at F if it gets there with an empt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752480" y="4343400"/>
            <a:ext cx="5730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207F-2797-4380-8DB2-5F663AA3A9D9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-258480" y="297000"/>
            <a:ext cx="993384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4: Assume that elevators have a fixed time to service a fl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list is not empty at the end of such interv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elevator leaves the floor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43040" y="1523880"/>
            <a:ext cx="3792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-235440" y="3657600"/>
            <a:ext cx="942480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5: If the elevator has no floors to service, it stops until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st becomes non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87840" y="4495680"/>
            <a:ext cx="6355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DE56-A3B2-4BBF-8F3B-3CE7F1E94634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-82800" y="1058760"/>
            <a:ext cx="951804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6: Assume that the time to move from on floor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ext is known and fixed. The rule describes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48880" y="2049480"/>
            <a:ext cx="323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 + 1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-111960" y="3809880"/>
            <a:ext cx="96123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7: The event of stopping initiates standing for at least D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4000" y="4495680"/>
            <a:ext cx="3417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, T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8428-C8BE-4828-9E9E-398FE26A783A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-114480" y="677880"/>
            <a:ext cx="955728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8: At the end of the minimum stop interval Dts, E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nding if there are no floors to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99480" y="1557360"/>
            <a:ext cx="3385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4840" y="3657600"/>
            <a:ext cx="54486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9: Departure causes mo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91280" y="4259160"/>
            <a:ext cx="35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D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moving (E, F, D, T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0F2F-D010-406A-B110-727CE8BD9975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387000" y="1744560"/>
            <a:ext cx="849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ress the scheduling strategy (by describing “new_lis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and “lis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quests are inserted in the list from cur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or to top if the elevator is mov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alls are inserted in the list of the closest 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 moving in the correct direction, or in a sta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FB2D-C618-49DB-90F0-F1485F9A5505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1:06:23Z</dcterms:created>
  <dc:creator>Carlo Ghezzi</dc:creator>
  <dc:description/>
  <dc:language>en-US</dc:language>
  <cp:lastModifiedBy>jazayeri</cp:lastModifiedBy>
  <dcterms:modified xsi:type="dcterms:W3CDTF">2002-02-20T10:06:32Z</dcterms:modified>
  <cp:revision>18</cp:revision>
  <dc:subject/>
  <dc:title>Specification</dc:title>
</cp:coreProperties>
</file>