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0E5F-D698-40E6-9C94-F405B98B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334D-6C47-4FAB-BB86-A7CFCD65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EAF0-48C1-443B-BE44-AFBC2DBA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E6F6-CED2-4551-B37A-C80ABB36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BB8-6FF7-4936-A57F-BAFC0BAF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6F087-EF3A-4BCA-BFB1-45F0FF8FD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9537-21F2-4343-9AB4-50A15FFF3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494-B4F6-439B-A15F-26A56495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28E5-FC96-4BF2-86C9-64CCE151D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7B79-73C1-4FB7-82C0-92C6A8004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43FE-EB22-453A-86D9-6C07FE26A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ABA9-44E3-4C17-BF93-464D530B6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CA72-8FFD-4565-A6EB-CA82B0E2A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0720" y="1600200"/>
          <a:ext cx="7353360" cy="396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600200"/>
                    <a:ext cx="7353360" cy="39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01Z</dcterms:modified>
  <cp:revision>1</cp:revision>
  <dc:subject/>
  <dc:title>PowerPoint Presentation</dc:title>
</cp:coreProperties>
</file>