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0CB4-37AE-4B7C-929F-26F2B01A3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0364-74D8-4552-B9F2-B70EB74D1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7CA0-497F-45CE-A423-3649559D6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869E-4753-422D-B49B-ADF9F0D8D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D220-EF4A-4FF2-9599-C0230E5F3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4682-A1DD-4E4F-912A-703C2E5E2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AAB3-6523-406D-84EF-4357CC5DF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4B5B-D0F9-4586-AC30-9B3EA37EB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8E1F-CDC3-4242-A852-00394767F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2B57-EF0A-4CC8-B815-A0565875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0AF6-69A7-4719-8D95-49D8C04C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AE9F-32EA-4770-8405-6DA60D66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CE3FF-6250-4788-9F9A-C050FD8F5F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4A53-40F8-4092-BDA8-FDFCCF989E7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utomating a law offi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8CA1-021D-4528-B122-E6E5B1D263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od intuition and technical skills are not enough to guarantee su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rketing analysis and process organization must be planned carefully before committing to the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nges in schedules and project sourcing after serious problems are encountered can be difficult and expensive, if not impossible to imple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0216-D73E-4CD5-9CEB-E9A93D56C36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a family of compil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CC8F-F64A-4FB8-A6C2-B766A0265D7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Good engineers are essential to the succes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Use of standard test suites helps obtain objective measures of the completion statu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ransparency of process helps entire organization in plan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Revising a schedule on the basis of objective data helps the schedule become more reali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use of large software components on the basis of clear specifications is possible and advantageou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F8B4-C74A-4D15-A27B-23FAF67BEB5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8895-FE95-4344-9BD5-780D33E8172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rototyping i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may be used by clients to start on their project while they await the final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enables parallel development by clients and develop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hrow-away prototype may be used to prune an initial set of requirements on the basis of actual usage and need for feat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84D9-8F09-4F14-A932-F89DE64475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pplying formal methods in industry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D820-4338-413E-968D-6F99510DE2F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ormal methods can be effective in practice and their use results in increased reliability and reduced development and verification costs which compensate for the increased effort in the specification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Industrial environments are reluctant to adopt them, even after successful pilot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y are afraid of the special training required, which causes organizational efforts and economic invest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“lightweight approach” may be possible which exploits the incrementality princi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068B-080B-4E39-81C3-B935FB7AF61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29:53Z</dcterms:created>
  <dc:creator>Carlo Ghezzi</dc:creator>
  <dc:description/>
  <dc:language>en-US</dc:language>
  <cp:lastModifiedBy>jazayeri</cp:lastModifiedBy>
  <dcterms:modified xsi:type="dcterms:W3CDTF">2002-02-20T10:09:00Z</dcterms:modified>
  <cp:revision>4</cp:revision>
  <dc:subject/>
  <dc:title>Case studies</dc:title>
</cp:coreProperties>
</file>