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7558-1FCC-4C85-AE96-70ECB354D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C062-60D6-4F06-ABEB-C6BC1910A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1E6E-EE41-4012-9186-007A2CCE7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74A5-E443-49F5-BB9E-039A27B91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BA35-E0F7-47ED-AF08-BA7D8CE97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0AB5-0C20-49C0-9188-C1AE83992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02C9-5DC9-45D5-A18D-7F250F4F2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58BC-885E-4642-9CC9-143C34281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52AB-BF84-4CEB-9E9F-5E866FBCF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A89E-083D-4AFF-9BF5-1ABB47EE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39F6-3587-4875-B65A-A96BEC32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D01A-1EA4-4707-BC4C-129955AD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87C4F-20C5-4980-AC65-058A75BAE5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productio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4A98-65BA-4E0F-87CA-1FAC6DF484E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ssumption is that requirements can be fully understood prior to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with the customer occurs only at the beginning (requirements) and end (after deliver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fortunately the assumption almost never ho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9A13-EFF7-48CD-8F15-44CB32ED366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white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/>
          <p:nvPr/>
        </p:nvSpPr>
        <p:spPr>
          <a:xfrm>
            <a:off x="183348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8458200" cy="38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21A1-0686-425F-A550-AE782CBFDD3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e risks by improving 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w project changes as the project progr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feedback from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3A16-87ED-4760-9EBE-63408B13C7B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ain activitie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performed independently of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simply affects the flow among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9B3C-194C-49AB-831B-FC82BDFCBBC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easibility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 new proje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/benefits tradeoff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vs m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o perform preliminary requirements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a Feasibility Study Docu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 of the probl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solutions and their expected benef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d resources, costs, and delivery dates in each proposed alternative sol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5365-216D-41AC-8D9A-0C11DEFC78A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97BE-02A7-43EA-96C9-B6DB7901B85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olv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ic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z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cus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qualities are needed, NOT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achieve the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756F-CC14-4A88-884C-BC552781675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the application dom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the main stakeholders and understand expec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takeholders have different view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 must integrate and reconcile th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A0D0-E1C7-4ED9-87DD-26E52D933B6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a specification for the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e qualities to be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s its own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derstand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ci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ist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ambiguous, easil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D02E-62FE-4769-804A-28FE12694AA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analyzed and confirmed by the stakehol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even include version 0 of user 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accompanied by the system test pla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29FC-9F7A-4110-9900-D6F4EF01E6F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is the life cycle of a software produ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y do we need software process model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are the goals of a software process and what makes it different from other industrial process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003E-DD5D-4FCE-85FC-2A3D2032658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any large document, it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vertic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ual decomposition, which may be hierarch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horizont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view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both functional and non functional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18DD-5729-40ED-887C-ADBE4EBE2DD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stu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railway autom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are the stakehold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of the train comp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in drivers and their un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ngers (custome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ac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has different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F2B9-16C5-44F5-9215-04892909246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to classify requirement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fe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bability of accidents should be less than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per yea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tili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evel of usefulness of the system as perceived by the various stakehold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C23C-E60B-4071-BE40-A37DABC7117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produced documen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troduction: the “mission”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: the main structure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fic requirements associated with each sub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ussion of how the subsystems’ requirements guarantee that the overall goals are indeed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B655-9F0C-497F-886F-5CFC99AE995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 and detailed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esult of this activity is a Design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ually follows a company standard, which may include a standard notation, such as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1C7C-D15C-4F14-8AB1-9E48FEFBCCC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ing and module testing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ny wide standards often followed for coding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lack box/white box crite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532F-4871-40E6-9113-66A35BFFC21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and system test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se activities may be integrated with coding and 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may be done incrementally through sub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 down vs. bottom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st step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ystem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follow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lph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4E12-8097-45AB-8017-B309533C6D1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livery, deployment, and maintenanc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li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delivery may be preced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et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loy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llocated on physica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, adaptive, perf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3A33-0235-4F78-96A4-DB978439B96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en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errors are main cause of maintenance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 discovery of requirements errors causes increased co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627E-7564-40A9-B4C9-5D57F77DEF0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softwar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considered as parts of any kind of software related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AD1F-9C78-4F58-9406-8919179D0B2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answer: "waterfall" life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lexible, incremental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Case stud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"synchronize-and-stabilize"  (Microsof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open source" development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the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oftware method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Unified Process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artifacts: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9141-5CE5-4643-A983-8D7355891F4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verview of software proces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BD0B-60E0-4EDA-B87B-055F4CB6166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ented in the late 1950s for large air defense systems, popularized in the 1970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organize activities in a sequentia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 in many variants, all sharing sequential flow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D90C-917F-4045-9057-130167DC6D7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8748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628560"/>
            <a:ext cx="8001000" cy="5765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475160" y="482760"/>
            <a:ext cx="436716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 waterfal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CD40-CA55-4B06-A384-30A72A08960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ations adopting them standardize the outputs of the various phas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liverabl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also prescribe methods to follow in each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ation of methods in frameworks 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Military Standard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-2167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067E-3B55-415C-8C52-025580516FE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ical evaluation of the waterfall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w process subject to discipline, planning, and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tpone implementation to after understanding 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ear, rigid, monolit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parallel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ingle delivery 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C3FC-4AE1-4D27-A3F7-3B1556A80D9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17680" y="169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412120" cy="4998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067920" y="380880"/>
            <a:ext cx="580572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aterfall with feedba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A841-C605-4BB5-A387-A4E60FC5C2D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 with waterf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imates made when limited knowledge avail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to gather all requirements once and for 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may not know what they w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cannot be froz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A0B0-FAA3-4E63-8192-C97DA61E7D3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ary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variants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development evolves through inc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do it twice" (F. Brooks, 199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olutionary proto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ary process model (B. Boehm, 1988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 whose stages consist of expanding increments of an operational software product, with the direction of evolution being determined by operational experience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A446-708B-4482-A61C-71F46E3DD7E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self-contained functional units that may be delivered to custom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get early feedb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 to T. Gilb, 1988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omething to the real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added value to the user in all critical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jus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and objectiv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A88F-9756-45ED-BF89-2BCB263F0BC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forma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ided by formal metho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s transformed into implementations via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a theoretical referenc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A45F-66FA-415E-8C8D-58F2B60F43E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fe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he life cycle of a softwar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rom inception of an idea for a product thr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quirements gathering and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architecture design and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oding and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livery and deploy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maintenance and ev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ti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B5E4-1403-4846-8C64-D0441F0E873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7484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001000" cy="5095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809720" y="228600"/>
            <a:ext cx="554364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ransformation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730C-1BE1-4A98-8DB6-E454DCD734B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7800" y="762120"/>
            <a:ext cx="3183120" cy="1190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pira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. Boehm, 198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66920" y="97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645000" y="609480"/>
            <a:ext cx="5254560" cy="558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0D2F-A9D4-4E66-AF43-5A8B6C12619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form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i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sk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7061-157F-41EF-9C1A-DBD85A42AC7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exibility needed to reduce ri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sunderstandings in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ceptable time to mar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 may be useful as a reference structure for 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the "rationale" a posteriori (Parnas and Clements, 198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E8BC-DB3F-4796-8C1D-E2FB5E9D095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gacy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15E9-1EC6-41AD-8567-24224416698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ing software must evolve because requirements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through which an existing system undergoes an alteration, to be reconstituted in a new for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ers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n existing system to its documentation, which may not exist, or may be in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gram understa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eventive mainten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3CAB-C289-4236-8D55-3FF40C7E3AF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chronize&amp;Stabili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The Microsoft Software 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7634-9F40-4E72-8741-726FDFEA28C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ning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ion of the product, specification, sche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am composed of 2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nd testers (continuous tes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prescrib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ily 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 stab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D257-5157-4080-9A3C-944F0355510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Open Source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6DCB-3410-413F-A157-4AA1AE982E7C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gulates licensed software, specifying its use, copy, modification, and distribution righ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usiness does not derive from selling software, but rather from other, indirect activit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(services, accessories, advertisement, etc.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FC2E-3807-4340-93FF-FA2592BE5283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cess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Attempt to organize the software life cycle b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fining activities involved in software 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order of activities and their relation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als of a softwar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ization, predictability, productivity, high product quality, ability to plan time and budge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31AF-5869-4478-AB6A-A6BB4EF776E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ghly distributed process characterized by frequent iter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de availability of source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ness to contributions from a large community of develop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abling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(large scale and fast collabora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ies with version control and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BC2B-308A-4E59-B7A0-1732FCE207CA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thodologies to organize 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ED00-37E2-4C41-8F61-EA2CF3379A4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/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uctured Analysis/Structured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 major conceptual tools for mode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flow dia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diction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 defin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Engl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scribe transformation of terminal bub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E17F-4957-4C74-94D5-4141D112C1B4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FDs: a remind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294156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7239240" cy="448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DDF9-B9F6-4FBB-90F4-D08AEDF40FB9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397240" y="70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172200" cy="59292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368040" y="3124080"/>
            <a:ext cx="1892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alysi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ffic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2314-D9DF-4C0A-9670-1CC6241FC93C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419200" y="15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6324480" cy="5586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35040" y="3657600"/>
            <a:ext cx="190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utom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2636-BC95-4B09-9A89-8194CFC7A317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analysis to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Structured Diagrams (SD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"method" is provided to transform DFDs into SDs; tries 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coup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imize cohe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3B40-1F46-48E4-BE99-B6BE4F52B548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762840" y="1523880"/>
            <a:ext cx="820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DAG of functional modu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(direction of arrow is implicitly downw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000080" y="2557440"/>
            <a:ext cx="6553080" cy="367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2E56-FB0E-47A2-A7C9-0D765F93158C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28960" y="2422440"/>
            <a:ext cx="1598760" cy="106704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25920" y="4551480"/>
            <a:ext cx="159876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32000" y="4551480"/>
            <a:ext cx="159840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16840" y="280044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8056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308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0112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2860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21000" y="3479760"/>
            <a:ext cx="53172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212560" y="3672000"/>
            <a:ext cx="1241640" cy="858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35360" y="3672000"/>
            <a:ext cx="1508040" cy="873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92000" y="363492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194000" y="3716280"/>
            <a:ext cx="103320" cy="208080"/>
            <a:chOff x="4194000" y="3716280"/>
            <a:chExt cx="103320" cy="208080"/>
          </a:xfrm>
        </p:grpSpPr>
        <p:sp>
          <p:nvSpPr>
            <p:cNvPr id="181" name=""/>
            <p:cNvSpPr/>
            <p:nvPr/>
          </p:nvSpPr>
          <p:spPr>
            <a:xfrm>
              <a:off x="4194000" y="3716280"/>
              <a:ext cx="10332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53040" y="3849840"/>
              <a:ext cx="144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922480" y="3671640"/>
            <a:ext cx="309600" cy="222480"/>
            <a:chOff x="2922480" y="3671640"/>
            <a:chExt cx="309600" cy="222480"/>
          </a:xfrm>
        </p:grpSpPr>
        <p:sp>
          <p:nvSpPr>
            <p:cNvPr id="184" name=""/>
            <p:cNvSpPr/>
            <p:nvPr/>
          </p:nvSpPr>
          <p:spPr>
            <a:xfrm>
              <a:off x="2922480" y="3716280"/>
              <a:ext cx="192240" cy="177840"/>
            </a:xfrm>
            <a:custGeom>
              <a:avLst/>
              <a:gdLst/>
              <a:ahLst/>
              <a:rect l="l" t="t" r="r" b="b"/>
              <a:pathLst>
                <a:path w="121" h="112">
                  <a:moveTo>
                    <a:pt x="0" y="112"/>
                  </a:moveTo>
                  <a:lnTo>
                    <a:pt x="83" y="0"/>
                  </a:lnTo>
                  <a:lnTo>
                    <a:pt x="102" y="28"/>
                  </a:lnTo>
                  <a:lnTo>
                    <a:pt x="121" y="56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084480" y="3671640"/>
              <a:ext cx="147600" cy="88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152800" y="4205160"/>
            <a:ext cx="311040" cy="220680"/>
            <a:chOff x="2152800" y="4205160"/>
            <a:chExt cx="311040" cy="220680"/>
          </a:xfrm>
        </p:grpSpPr>
        <p:sp>
          <p:nvSpPr>
            <p:cNvPr id="187" name=""/>
            <p:cNvSpPr/>
            <p:nvPr/>
          </p:nvSpPr>
          <p:spPr>
            <a:xfrm>
              <a:off x="2255760" y="420516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2152800" y="432288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976640" y="4205160"/>
            <a:ext cx="370080" cy="250920"/>
            <a:chOff x="4976640" y="4205160"/>
            <a:chExt cx="370080" cy="250920"/>
          </a:xfrm>
        </p:grpSpPr>
        <p:sp>
          <p:nvSpPr>
            <p:cNvPr id="190" name=""/>
            <p:cNvSpPr/>
            <p:nvPr/>
          </p:nvSpPr>
          <p:spPr>
            <a:xfrm>
              <a:off x="4976640" y="4205160"/>
              <a:ext cx="193680" cy="147600"/>
            </a:xfrm>
            <a:custGeom>
              <a:avLst/>
              <a:gdLst/>
              <a:ahLst/>
              <a:rect l="l" t="t" r="r" b="b"/>
              <a:pathLst>
                <a:path w="122" h="93">
                  <a:moveTo>
                    <a:pt x="0" y="0"/>
                  </a:moveTo>
                  <a:lnTo>
                    <a:pt x="122" y="46"/>
                  </a:lnTo>
                  <a:lnTo>
                    <a:pt x="103" y="65"/>
                  </a:lnTo>
                  <a:lnTo>
                    <a:pt x="84" y="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40440" y="4308480"/>
              <a:ext cx="206280" cy="147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947240" y="4189320"/>
            <a:ext cx="115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26720" y="3687840"/>
            <a:ext cx="116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57520" y="4160880"/>
            <a:ext cx="113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95120" y="2243160"/>
            <a:ext cx="15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924680" y="2362320"/>
            <a:ext cx="53208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95800" y="262368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7620120" y="2666880"/>
            <a:ext cx="102960" cy="208080"/>
            <a:chOff x="7620120" y="2666880"/>
            <a:chExt cx="102960" cy="208080"/>
          </a:xfrm>
        </p:grpSpPr>
        <p:sp>
          <p:nvSpPr>
            <p:cNvPr id="199" name=""/>
            <p:cNvSpPr/>
            <p:nvPr/>
          </p:nvSpPr>
          <p:spPr>
            <a:xfrm>
              <a:off x="7620120" y="2666880"/>
              <a:ext cx="10296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78800" y="2800440"/>
              <a:ext cx="108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8267760" y="3095640"/>
            <a:ext cx="311040" cy="220680"/>
            <a:chOff x="8267760" y="3095640"/>
            <a:chExt cx="311040" cy="220680"/>
          </a:xfrm>
        </p:grpSpPr>
        <p:sp>
          <p:nvSpPr>
            <p:cNvPr id="202" name=""/>
            <p:cNvSpPr/>
            <p:nvPr/>
          </p:nvSpPr>
          <p:spPr>
            <a:xfrm>
              <a:off x="8370720" y="309564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8267760" y="321336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8030160" y="3079800"/>
            <a:ext cx="11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F1AE-FE10-4449-AD8B-C0FD4D53F121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140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270180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362240" y="1303200"/>
            <a:ext cx="5378400" cy="50151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873400" y="1611360"/>
            <a:ext cx="28519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53A5-A3D6-4175-A982-6A73D59C35E7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&amp;Fi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arliest approac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ix it to eliminate any errors that have been detected, to enhance existing functionality, or to add new fea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rce of difficulties and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pred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man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0EC5-B89D-4924-ABB5-1B78831B7CA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 for the "order" DF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957240" y="2141640"/>
            <a:ext cx="6516720" cy="36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53D0-6B30-407B-8FCA-E51BB6ECF7B0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SD and JS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ckson's System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ing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and modeling of the external wor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ons (described by process structure diagra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stem modeled as a network of interconnected and communicating processes—system specification network (SS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 sta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B6A4-FD87-4464-AFC6-885820158B54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38360" y="88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12920" y="387360"/>
            <a:ext cx="4472640" cy="3139560"/>
            <a:chOff x="412920" y="387360"/>
            <a:chExt cx="4472640" cy="3139560"/>
          </a:xfrm>
        </p:grpSpPr>
        <p:sp>
          <p:nvSpPr>
            <p:cNvPr id="216" name=""/>
            <p:cNvSpPr/>
            <p:nvPr/>
          </p:nvSpPr>
          <p:spPr>
            <a:xfrm>
              <a:off x="1972800" y="38736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3816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72800" y="224388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292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10200" y="690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7932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0524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48960" y="25470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134720" y="1309320"/>
              <a:ext cx="145584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590560" y="1309320"/>
              <a:ext cx="216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590560" y="1309320"/>
              <a:ext cx="166572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00560" y="33591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899320" y="3178080"/>
            <a:ext cx="1531440" cy="2921040"/>
            <a:chOff x="5899320" y="3178080"/>
            <a:chExt cx="1531440" cy="2921040"/>
          </a:xfrm>
        </p:grpSpPr>
        <p:sp>
          <p:nvSpPr>
            <p:cNvPr id="229" name=""/>
            <p:cNvSpPr/>
            <p:nvPr/>
          </p:nvSpPr>
          <p:spPr>
            <a:xfrm>
              <a:off x="5899320" y="317808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99320" y="488304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21400" y="3444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562440" y="51616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57840" y="4024800"/>
              <a:ext cx="2520" cy="8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47160" y="492480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95840" y="5931360"/>
              <a:ext cx="16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43040" y="3828960"/>
            <a:ext cx="3094920" cy="2808360"/>
            <a:chOff x="743040" y="3828960"/>
            <a:chExt cx="3094920" cy="2808360"/>
          </a:xfrm>
        </p:grpSpPr>
        <p:sp>
          <p:nvSpPr>
            <p:cNvPr id="237" name=""/>
            <p:cNvSpPr/>
            <p:nvPr/>
          </p:nvSpPr>
          <p:spPr>
            <a:xfrm>
              <a:off x="1679760" y="3828960"/>
              <a:ext cx="138636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50160" y="5438880"/>
              <a:ext cx="13878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43040" y="5428080"/>
              <a:ext cx="13860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50720" y="40258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355760" y="5681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924280" y="56588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1531800" y="4634280"/>
              <a:ext cx="821160" cy="78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28120" y="4622760"/>
              <a:ext cx="75708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75320" y="540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85680" y="5433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07520" y="64695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6082200" y="695160"/>
            <a:ext cx="2091600" cy="1557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S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AC7B-8582-474B-95D4-878C2444A68F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10212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4472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51340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4472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51340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665360" y="3086280"/>
            <a:ext cx="572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cesses connected by data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73560" y="2128680"/>
            <a:ext cx="447840" cy="4464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4729320" y="2268360"/>
            <a:ext cx="825480" cy="115920"/>
            <a:chOff x="4729320" y="2268360"/>
            <a:chExt cx="825480" cy="115920"/>
          </a:xfrm>
        </p:grpSpPr>
        <p:sp>
          <p:nvSpPr>
            <p:cNvPr id="257" name=""/>
            <p:cNvSpPr/>
            <p:nvPr/>
          </p:nvSpPr>
          <p:spPr>
            <a:xfrm>
              <a:off x="5307120" y="2268360"/>
              <a:ext cx="247680" cy="115920"/>
            </a:xfrm>
            <a:custGeom>
              <a:avLst/>
              <a:gdLst/>
              <a:ahLst/>
              <a:rect l="l" t="t" r="r" b="b"/>
              <a:pathLst>
                <a:path w="156" h="73">
                  <a:moveTo>
                    <a:pt x="156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6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729320" y="2335320"/>
              <a:ext cx="577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 flipH="1">
            <a:off x="3423960" y="2368440"/>
            <a:ext cx="8254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29360" y="21207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82720" y="2104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69400" y="4600440"/>
            <a:ext cx="22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96680" y="455148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94880" y="5638680"/>
            <a:ext cx="406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nection by stat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82920" y="4500720"/>
            <a:ext cx="495360" cy="496800"/>
          </a:xfrm>
          <a:custGeom>
            <a:avLst/>
            <a:gdLst/>
            <a:ahLst/>
            <a:rect l="l" t="t" r="r" b="b"/>
            <a:pathLst>
              <a:path w="312" h="313">
                <a:moveTo>
                  <a:pt x="0" y="167"/>
                </a:moveTo>
                <a:lnTo>
                  <a:pt x="156" y="0"/>
                </a:lnTo>
                <a:lnTo>
                  <a:pt x="312" y="157"/>
                </a:lnTo>
                <a:lnTo>
                  <a:pt x="156" y="313"/>
                </a:lnTo>
                <a:lnTo>
                  <a:pt x="21" y="16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3424320" y="4749840"/>
            <a:ext cx="923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4762440" y="4667400"/>
            <a:ext cx="758880" cy="114120"/>
            <a:chOff x="4762440" y="4667400"/>
            <a:chExt cx="758880" cy="114120"/>
          </a:xfrm>
        </p:grpSpPr>
        <p:sp>
          <p:nvSpPr>
            <p:cNvPr id="268" name=""/>
            <p:cNvSpPr/>
            <p:nvPr/>
          </p:nvSpPr>
          <p:spPr>
            <a:xfrm>
              <a:off x="5273640" y="4667400"/>
              <a:ext cx="247680" cy="114120"/>
            </a:xfrm>
            <a:custGeom>
              <a:avLst/>
              <a:gdLst/>
              <a:ahLst/>
              <a:rect l="l" t="t" r="r" b="b"/>
              <a:pathLst>
                <a:path w="156" h="72">
                  <a:moveTo>
                    <a:pt x="156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6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62440" y="4732200"/>
              <a:ext cx="511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470840" y="2154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06480" y="458460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72920" y="490680"/>
            <a:ext cx="427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 stage (SS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BC0E-1C5D-4B9B-B6B9-A414D3929C38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0020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mplementation stage (JS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"/>
          <p:cNvSpPr/>
          <p:nvPr/>
        </p:nvSpPr>
        <p:spPr>
          <a:xfrm>
            <a:off x="259560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23880" y="1241280"/>
            <a:ext cx="6324480" cy="49849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135320" y="5062680"/>
            <a:ext cx="489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 and output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spondence between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41920" y="5834160"/>
            <a:ext cx="0" cy="44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37920" y="608796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8D27-75CC-4A01-B268-1F1C8555DD72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770200" y="61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14360" y="833400"/>
            <a:ext cx="4501440" cy="5225400"/>
            <a:chOff x="414360" y="833400"/>
            <a:chExt cx="4501440" cy="5225400"/>
          </a:xfrm>
        </p:grpSpPr>
        <p:sp>
          <p:nvSpPr>
            <p:cNvPr id="281" name=""/>
            <p:cNvSpPr/>
            <p:nvPr/>
          </p:nvSpPr>
          <p:spPr>
            <a:xfrm>
              <a:off x="2256120" y="83340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367720" y="1024200"/>
              <a:ext cx="43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69560" y="1793520"/>
              <a:ext cx="103680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29720" y="1780560"/>
              <a:ext cx="103536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805400" y="194508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13680" y="21294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33360" y="197172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57120" y="2155680"/>
              <a:ext cx="250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od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2543040" y="1523880"/>
              <a:ext cx="23004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60840" y="1536840"/>
              <a:ext cx="229680" cy="22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69560" y="2675520"/>
              <a:ext cx="1036800" cy="71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10320" y="2737080"/>
              <a:ext cx="61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 *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30120" y="2921040"/>
              <a:ext cx="366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line by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19680" y="3105000"/>
              <a:ext cx="543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336120" y="2497680"/>
              <a:ext cx="180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42680" y="355896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81160" y="3572640"/>
              <a:ext cx="103464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68240" y="446724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56600" y="5348880"/>
              <a:ext cx="103716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14360" y="5322600"/>
              <a:ext cx="103680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2530800" y="3394800"/>
              <a:ext cx="35784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98360" y="3381480"/>
              <a:ext cx="33156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42040" y="36579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768320" y="3841920"/>
              <a:ext cx="249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763640" y="402660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949200" y="3592080"/>
              <a:ext cx="569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utput ne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948480" y="3776400"/>
              <a:ext cx="567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971880" y="3960360"/>
              <a:ext cx="180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i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54640" y="461844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71920" y="480276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cor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549520" y="4512960"/>
              <a:ext cx="4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9320" y="54345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17320" y="5618520"/>
              <a:ext cx="34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receip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98160" y="5329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993400" y="547380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17520" y="5657760"/>
              <a:ext cx="398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741840" y="53820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121840" y="4263480"/>
              <a:ext cx="216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316880" y="5171040"/>
              <a:ext cx="49824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530800" y="5171040"/>
              <a:ext cx="51084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107680" y="1143000"/>
            <a:ext cx="3068640" cy="2759040"/>
            <a:chOff x="5107680" y="1143000"/>
            <a:chExt cx="3068640" cy="2759040"/>
          </a:xfrm>
        </p:grpSpPr>
        <p:sp>
          <p:nvSpPr>
            <p:cNvPr id="322" name=""/>
            <p:cNvSpPr/>
            <p:nvPr/>
          </p:nvSpPr>
          <p:spPr>
            <a:xfrm>
              <a:off x="5218920" y="1143000"/>
              <a:ext cx="65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1. open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18200" y="1517040"/>
              <a:ext cx="668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2. close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184000" y="1891440"/>
              <a:ext cx="1468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3. read (item_id, movement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184720" y="2266560"/>
              <a:ext cx="142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. net_item_movement := 0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107680" y="2640600"/>
              <a:ext cx="3068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5. net_movement_item := net_movement_item +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08400" y="3016080"/>
              <a:ext cx="303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6. net_movement_item := net_movement_item -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10280" y="3390120"/>
              <a:ext cx="869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7. write (header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1840" y="3764520"/>
              <a:ext cx="1762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8. write (net_item_movement_line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4846320" y="4610160"/>
            <a:ext cx="361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resulting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10C3-D281-4045-9F33-05D081B927E7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9415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752400" y="687240"/>
            <a:ext cx="4251240" cy="53056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5531760" y="1893960"/>
            <a:ext cx="334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notated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ivially transla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o 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C067-2137-4FA8-90FF-40084270EECB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ified Software Development Proc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U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3E8E-6CFB-4492-8A27-1911D5FA6147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of an OO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the UML notation throughout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an iterative and incremental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a large process into controlled iteration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ini projec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B4A4-AD36-411D-9517-BD578F5B1A61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350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ycles and phases of a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>
            <a:off x="210348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366840" y="1741320"/>
            <a:ext cx="8777160" cy="24782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1951200" y="286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18600" y="450540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9840" y="5560920"/>
            <a:ext cx="93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mileston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97080" y="55213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975360" y="4500720"/>
            <a:ext cx="141948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116840" y="4565520"/>
            <a:ext cx="62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719840" y="456552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18640" y="4797360"/>
            <a:ext cx="56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rel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64400" y="47973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214280" y="4599000"/>
            <a:ext cx="5100840" cy="42372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63840" y="4730760"/>
            <a:ext cx="4559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Inception Elaboration         Construction       Transit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245280" y="47307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94000" y="4970520"/>
            <a:ext cx="155520" cy="150840"/>
          </a:xfrm>
          <a:custGeom>
            <a:avLst/>
            <a:gdLst/>
            <a:ahLst/>
            <a:rect l="l" t="t" r="r" b="b"/>
            <a:pathLst>
              <a:path w="98" h="95">
                <a:moveTo>
                  <a:pt x="50" y="0"/>
                </a:moveTo>
                <a:lnTo>
                  <a:pt x="0" y="95"/>
                </a:lnTo>
                <a:lnTo>
                  <a:pt x="98" y="95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962600" y="496584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40160" y="561492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73560" y="4599000"/>
            <a:ext cx="144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41800" y="4599000"/>
            <a:ext cx="180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85840" y="4965840"/>
            <a:ext cx="15588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48" y="0"/>
                </a:moveTo>
                <a:lnTo>
                  <a:pt x="0" y="98"/>
                </a:lnTo>
                <a:lnTo>
                  <a:pt x="98" y="98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162160" y="4552920"/>
            <a:ext cx="1440" cy="4129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475320" y="4740120"/>
            <a:ext cx="500040" cy="136800"/>
          </a:xfrm>
          <a:custGeom>
            <a:avLst/>
            <a:gdLst/>
            <a:ahLst/>
            <a:rect l="l" t="t" r="r" b="b"/>
            <a:pathLst>
              <a:path w="315" h="86">
                <a:moveTo>
                  <a:pt x="238" y="0"/>
                </a:moveTo>
                <a:lnTo>
                  <a:pt x="238" y="21"/>
                </a:lnTo>
                <a:lnTo>
                  <a:pt x="0" y="21"/>
                </a:lnTo>
                <a:lnTo>
                  <a:pt x="0" y="65"/>
                </a:lnTo>
                <a:lnTo>
                  <a:pt x="238" y="65"/>
                </a:lnTo>
                <a:lnTo>
                  <a:pt x="238" y="86"/>
                </a:lnTo>
                <a:lnTo>
                  <a:pt x="315" y="42"/>
                </a:lnTo>
                <a:lnTo>
                  <a:pt x="238" y="0"/>
                </a:lnTo>
                <a:close/>
              </a:path>
            </a:pathLst>
          </a:custGeom>
          <a:solidFill>
            <a:srgbClr val="ffff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8C5B-DA71-409B-8D4C-7C021D96CA19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s are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mptoms of inadequacy: the software cri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eduled time and cost exc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expectations not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or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ize and economic value of software applications required appropriate "process model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3489-67F0-4929-925F-905B12C2CE2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35040" y="15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ion of workflows over ph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19810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669960" y="1339920"/>
            <a:ext cx="6956280" cy="521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8E9A-01E2-4BDD-A554-1B34F53425BD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ing artifac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5771-382B-4CCF-B14E-1625B4408532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 concep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components and their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cipline of coordinating software development and controlling the change and evolution of software products and componen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F5E2-0550-432C-9D4F-6FEBC0E95476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CM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access to shared reposit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ing product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members of the family comprise components which may have different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"/>
          <p:cNvSpPr/>
          <p:nvPr/>
        </p:nvSpPr>
        <p:spPr>
          <a:xfrm>
            <a:off x="183348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E51C-1D0A-4445-802B-68E34195182E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144800" y="6048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62040" y="919080"/>
            <a:ext cx="1436760" cy="16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569960" y="927000"/>
            <a:ext cx="1436760" cy="169092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562040" y="13096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62040" y="14400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06760" y="101268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460960" y="10396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562040" y="1830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562040" y="22194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135880" y="1528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257560" y="1555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135520" y="192096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48200" y="1947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120040" y="228132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319480" y="23083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608200" y="3319560"/>
            <a:ext cx="1436760" cy="16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627200" y="3325680"/>
            <a:ext cx="1438200" cy="16923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20720" y="370836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620720" y="38401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765440" y="341136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18200" y="3438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20720" y="42292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620720" y="46195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192760" y="39290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314800" y="39560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92760" y="431964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305440" y="43466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24800" y="468144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24240" y="4708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711600" y="3968640"/>
            <a:ext cx="1436760" cy="13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718080" y="3975120"/>
            <a:ext cx="1436400" cy="13017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11600" y="4359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711600" y="448956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54520" y="406224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08720" y="40892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711600" y="487980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83640" y="4579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05680" y="4606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283640" y="49705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405680" y="49975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177920" y="666720"/>
            <a:ext cx="1039680" cy="384120"/>
          </a:xfrm>
          <a:custGeom>
            <a:avLst/>
            <a:gdLst/>
            <a:ahLst/>
            <a:rect l="l" t="t" r="r" b="b"/>
            <a:pathLst>
              <a:path w="1311" h="484">
                <a:moveTo>
                  <a:pt x="0" y="484"/>
                </a:moveTo>
                <a:lnTo>
                  <a:pt x="0" y="472"/>
                </a:lnTo>
                <a:lnTo>
                  <a:pt x="2" y="459"/>
                </a:lnTo>
                <a:lnTo>
                  <a:pt x="5" y="447"/>
                </a:lnTo>
                <a:lnTo>
                  <a:pt x="8" y="435"/>
                </a:lnTo>
                <a:lnTo>
                  <a:pt x="12" y="423"/>
                </a:lnTo>
                <a:lnTo>
                  <a:pt x="18" y="411"/>
                </a:lnTo>
                <a:lnTo>
                  <a:pt x="23" y="399"/>
                </a:lnTo>
                <a:lnTo>
                  <a:pt x="30" y="387"/>
                </a:lnTo>
                <a:lnTo>
                  <a:pt x="37" y="375"/>
                </a:lnTo>
                <a:lnTo>
                  <a:pt x="45" y="364"/>
                </a:lnTo>
                <a:lnTo>
                  <a:pt x="54" y="352"/>
                </a:lnTo>
                <a:lnTo>
                  <a:pt x="63" y="341"/>
                </a:lnTo>
                <a:lnTo>
                  <a:pt x="85" y="318"/>
                </a:lnTo>
                <a:lnTo>
                  <a:pt x="108" y="296"/>
                </a:lnTo>
                <a:lnTo>
                  <a:pt x="134" y="274"/>
                </a:lnTo>
                <a:lnTo>
                  <a:pt x="164" y="253"/>
                </a:lnTo>
                <a:lnTo>
                  <a:pt x="196" y="233"/>
                </a:lnTo>
                <a:lnTo>
                  <a:pt x="230" y="214"/>
                </a:lnTo>
                <a:lnTo>
                  <a:pt x="267" y="195"/>
                </a:lnTo>
                <a:lnTo>
                  <a:pt x="305" y="176"/>
                </a:lnTo>
                <a:lnTo>
                  <a:pt x="347" y="159"/>
                </a:lnTo>
                <a:lnTo>
                  <a:pt x="390" y="143"/>
                </a:lnTo>
                <a:lnTo>
                  <a:pt x="435" y="126"/>
                </a:lnTo>
                <a:lnTo>
                  <a:pt x="483" y="111"/>
                </a:lnTo>
                <a:lnTo>
                  <a:pt x="533" y="97"/>
                </a:lnTo>
                <a:lnTo>
                  <a:pt x="583" y="83"/>
                </a:lnTo>
                <a:lnTo>
                  <a:pt x="636" y="70"/>
                </a:lnTo>
                <a:lnTo>
                  <a:pt x="691" y="58"/>
                </a:lnTo>
                <a:lnTo>
                  <a:pt x="746" y="48"/>
                </a:lnTo>
                <a:lnTo>
                  <a:pt x="805" y="38"/>
                </a:lnTo>
                <a:lnTo>
                  <a:pt x="863" y="30"/>
                </a:lnTo>
                <a:lnTo>
                  <a:pt x="923" y="22"/>
                </a:lnTo>
                <a:lnTo>
                  <a:pt x="986" y="15"/>
                </a:lnTo>
                <a:lnTo>
                  <a:pt x="1048" y="10"/>
                </a:lnTo>
                <a:lnTo>
                  <a:pt x="1112" y="6"/>
                </a:lnTo>
                <a:lnTo>
                  <a:pt x="1178" y="2"/>
                </a:lnTo>
                <a:lnTo>
                  <a:pt x="1244" y="0"/>
                </a:lnTo>
                <a:lnTo>
                  <a:pt x="131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17600" y="666720"/>
            <a:ext cx="1181160" cy="384120"/>
          </a:xfrm>
          <a:custGeom>
            <a:avLst/>
            <a:gdLst/>
            <a:ahLst/>
            <a:rect l="l" t="t" r="r" b="b"/>
            <a:pathLst>
              <a:path w="1490" h="483">
                <a:moveTo>
                  <a:pt x="0" y="0"/>
                </a:moveTo>
                <a:lnTo>
                  <a:pt x="8" y="0"/>
                </a:lnTo>
                <a:lnTo>
                  <a:pt x="83" y="0"/>
                </a:lnTo>
                <a:lnTo>
                  <a:pt x="157" y="2"/>
                </a:lnTo>
                <a:lnTo>
                  <a:pt x="231" y="6"/>
                </a:lnTo>
                <a:lnTo>
                  <a:pt x="303" y="9"/>
                </a:lnTo>
                <a:lnTo>
                  <a:pt x="374" y="14"/>
                </a:lnTo>
                <a:lnTo>
                  <a:pt x="444" y="21"/>
                </a:lnTo>
                <a:lnTo>
                  <a:pt x="512" y="29"/>
                </a:lnTo>
                <a:lnTo>
                  <a:pt x="579" y="37"/>
                </a:lnTo>
                <a:lnTo>
                  <a:pt x="643" y="47"/>
                </a:lnTo>
                <a:lnTo>
                  <a:pt x="707" y="58"/>
                </a:lnTo>
                <a:lnTo>
                  <a:pt x="769" y="69"/>
                </a:lnTo>
                <a:lnTo>
                  <a:pt x="828" y="82"/>
                </a:lnTo>
                <a:lnTo>
                  <a:pt x="886" y="95"/>
                </a:lnTo>
                <a:lnTo>
                  <a:pt x="942" y="110"/>
                </a:lnTo>
                <a:lnTo>
                  <a:pt x="995" y="125"/>
                </a:lnTo>
                <a:lnTo>
                  <a:pt x="1046" y="140"/>
                </a:lnTo>
                <a:lnTo>
                  <a:pt x="1096" y="158"/>
                </a:lnTo>
                <a:lnTo>
                  <a:pt x="1142" y="175"/>
                </a:lnTo>
                <a:lnTo>
                  <a:pt x="1186" y="193"/>
                </a:lnTo>
                <a:lnTo>
                  <a:pt x="1227" y="213"/>
                </a:lnTo>
                <a:lnTo>
                  <a:pt x="1267" y="232"/>
                </a:lnTo>
                <a:lnTo>
                  <a:pt x="1302" y="252"/>
                </a:lnTo>
                <a:lnTo>
                  <a:pt x="1319" y="263"/>
                </a:lnTo>
                <a:lnTo>
                  <a:pt x="1336" y="273"/>
                </a:lnTo>
                <a:lnTo>
                  <a:pt x="1351" y="284"/>
                </a:lnTo>
                <a:lnTo>
                  <a:pt x="1366" y="295"/>
                </a:lnTo>
                <a:lnTo>
                  <a:pt x="1380" y="306"/>
                </a:lnTo>
                <a:lnTo>
                  <a:pt x="1393" y="317"/>
                </a:lnTo>
                <a:lnTo>
                  <a:pt x="1405" y="328"/>
                </a:lnTo>
                <a:lnTo>
                  <a:pt x="1416" y="339"/>
                </a:lnTo>
                <a:lnTo>
                  <a:pt x="1427" y="351"/>
                </a:lnTo>
                <a:lnTo>
                  <a:pt x="1437" y="362"/>
                </a:lnTo>
                <a:lnTo>
                  <a:pt x="1447" y="374"/>
                </a:lnTo>
                <a:lnTo>
                  <a:pt x="1454" y="386"/>
                </a:lnTo>
                <a:lnTo>
                  <a:pt x="1462" y="398"/>
                </a:lnTo>
                <a:lnTo>
                  <a:pt x="1469" y="410"/>
                </a:lnTo>
                <a:lnTo>
                  <a:pt x="1474" y="422"/>
                </a:lnTo>
                <a:lnTo>
                  <a:pt x="1479" y="434"/>
                </a:lnTo>
                <a:lnTo>
                  <a:pt x="1483" y="446"/>
                </a:lnTo>
                <a:lnTo>
                  <a:pt x="1486" y="458"/>
                </a:lnTo>
                <a:lnTo>
                  <a:pt x="1488" y="471"/>
                </a:lnTo>
                <a:lnTo>
                  <a:pt x="1490" y="483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170000" y="1049400"/>
            <a:ext cx="1440" cy="4422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390840" y="1049400"/>
            <a:ext cx="1800" cy="234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398760" y="3395520"/>
            <a:ext cx="520920" cy="392400"/>
          </a:xfrm>
          <a:custGeom>
            <a:avLst/>
            <a:gdLst/>
            <a:ahLst/>
            <a:rect l="l" t="t" r="r" b="b"/>
            <a:pathLst>
              <a:path w="657" h="494">
                <a:moveTo>
                  <a:pt x="657" y="494"/>
                </a:moveTo>
                <a:lnTo>
                  <a:pt x="639" y="494"/>
                </a:lnTo>
                <a:lnTo>
                  <a:pt x="623" y="494"/>
                </a:lnTo>
                <a:lnTo>
                  <a:pt x="606" y="493"/>
                </a:lnTo>
                <a:lnTo>
                  <a:pt x="589" y="492"/>
                </a:lnTo>
                <a:lnTo>
                  <a:pt x="572" y="491"/>
                </a:lnTo>
                <a:lnTo>
                  <a:pt x="556" y="489"/>
                </a:lnTo>
                <a:lnTo>
                  <a:pt x="540" y="487"/>
                </a:lnTo>
                <a:lnTo>
                  <a:pt x="524" y="485"/>
                </a:lnTo>
                <a:lnTo>
                  <a:pt x="509" y="481"/>
                </a:lnTo>
                <a:lnTo>
                  <a:pt x="492" y="479"/>
                </a:lnTo>
                <a:lnTo>
                  <a:pt x="477" y="476"/>
                </a:lnTo>
                <a:lnTo>
                  <a:pt x="461" y="472"/>
                </a:lnTo>
                <a:lnTo>
                  <a:pt x="431" y="465"/>
                </a:lnTo>
                <a:lnTo>
                  <a:pt x="401" y="456"/>
                </a:lnTo>
                <a:lnTo>
                  <a:pt x="371" y="445"/>
                </a:lnTo>
                <a:lnTo>
                  <a:pt x="344" y="435"/>
                </a:lnTo>
                <a:lnTo>
                  <a:pt x="316" y="423"/>
                </a:lnTo>
                <a:lnTo>
                  <a:pt x="289" y="410"/>
                </a:lnTo>
                <a:lnTo>
                  <a:pt x="264" y="397"/>
                </a:lnTo>
                <a:lnTo>
                  <a:pt x="240" y="382"/>
                </a:lnTo>
                <a:lnTo>
                  <a:pt x="216" y="366"/>
                </a:lnTo>
                <a:lnTo>
                  <a:pt x="192" y="350"/>
                </a:lnTo>
                <a:lnTo>
                  <a:pt x="182" y="342"/>
                </a:lnTo>
                <a:lnTo>
                  <a:pt x="171" y="333"/>
                </a:lnTo>
                <a:lnTo>
                  <a:pt x="161" y="325"/>
                </a:lnTo>
                <a:lnTo>
                  <a:pt x="151" y="315"/>
                </a:lnTo>
                <a:lnTo>
                  <a:pt x="141" y="306"/>
                </a:lnTo>
                <a:lnTo>
                  <a:pt x="131" y="297"/>
                </a:lnTo>
                <a:lnTo>
                  <a:pt x="121" y="287"/>
                </a:lnTo>
                <a:lnTo>
                  <a:pt x="112" y="278"/>
                </a:lnTo>
                <a:lnTo>
                  <a:pt x="104" y="268"/>
                </a:lnTo>
                <a:lnTo>
                  <a:pt x="96" y="258"/>
                </a:lnTo>
                <a:lnTo>
                  <a:pt x="87" y="248"/>
                </a:lnTo>
                <a:lnTo>
                  <a:pt x="79" y="237"/>
                </a:lnTo>
                <a:lnTo>
                  <a:pt x="73" y="226"/>
                </a:lnTo>
                <a:lnTo>
                  <a:pt x="65" y="216"/>
                </a:lnTo>
                <a:lnTo>
                  <a:pt x="59" y="205"/>
                </a:lnTo>
                <a:lnTo>
                  <a:pt x="52" y="194"/>
                </a:lnTo>
                <a:lnTo>
                  <a:pt x="47" y="183"/>
                </a:lnTo>
                <a:lnTo>
                  <a:pt x="41" y="172"/>
                </a:lnTo>
                <a:lnTo>
                  <a:pt x="36" y="160"/>
                </a:lnTo>
                <a:lnTo>
                  <a:pt x="30" y="149"/>
                </a:lnTo>
                <a:lnTo>
                  <a:pt x="26" y="137"/>
                </a:lnTo>
                <a:lnTo>
                  <a:pt x="21" y="126"/>
                </a:lnTo>
                <a:lnTo>
                  <a:pt x="18" y="114"/>
                </a:lnTo>
                <a:lnTo>
                  <a:pt x="15" y="102"/>
                </a:lnTo>
                <a:lnTo>
                  <a:pt x="11" y="90"/>
                </a:lnTo>
                <a:lnTo>
                  <a:pt x="8" y="78"/>
                </a:lnTo>
                <a:lnTo>
                  <a:pt x="6" y="66"/>
                </a:lnTo>
                <a:lnTo>
                  <a:pt x="4" y="54"/>
                </a:lnTo>
                <a:lnTo>
                  <a:pt x="3" y="41"/>
                </a:lnTo>
                <a:lnTo>
                  <a:pt x="2" y="29"/>
                </a:lnTo>
                <a:lnTo>
                  <a:pt x="2" y="16"/>
                </a:lnTo>
                <a:lnTo>
                  <a:pt x="0" y="4"/>
                </a:lnTo>
                <a:lnTo>
                  <a:pt x="2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14640" y="3781440"/>
            <a:ext cx="15670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177920" y="5477040"/>
            <a:ext cx="388800" cy="522000"/>
          </a:xfrm>
          <a:custGeom>
            <a:avLst/>
            <a:gdLst/>
            <a:ahLst/>
            <a:rect l="l" t="t" r="r" b="b"/>
            <a:pathLst>
              <a:path w="492" h="659">
                <a:moveTo>
                  <a:pt x="492" y="659"/>
                </a:moveTo>
                <a:lnTo>
                  <a:pt x="479" y="658"/>
                </a:lnTo>
                <a:lnTo>
                  <a:pt x="465" y="658"/>
                </a:lnTo>
                <a:lnTo>
                  <a:pt x="453" y="657"/>
                </a:lnTo>
                <a:lnTo>
                  <a:pt x="441" y="655"/>
                </a:lnTo>
                <a:lnTo>
                  <a:pt x="429" y="652"/>
                </a:lnTo>
                <a:lnTo>
                  <a:pt x="416" y="650"/>
                </a:lnTo>
                <a:lnTo>
                  <a:pt x="404" y="648"/>
                </a:lnTo>
                <a:lnTo>
                  <a:pt x="392" y="645"/>
                </a:lnTo>
                <a:lnTo>
                  <a:pt x="380" y="641"/>
                </a:lnTo>
                <a:lnTo>
                  <a:pt x="369" y="637"/>
                </a:lnTo>
                <a:lnTo>
                  <a:pt x="357" y="633"/>
                </a:lnTo>
                <a:lnTo>
                  <a:pt x="345" y="628"/>
                </a:lnTo>
                <a:lnTo>
                  <a:pt x="334" y="623"/>
                </a:lnTo>
                <a:lnTo>
                  <a:pt x="323" y="617"/>
                </a:lnTo>
                <a:lnTo>
                  <a:pt x="311" y="612"/>
                </a:lnTo>
                <a:lnTo>
                  <a:pt x="300" y="606"/>
                </a:lnTo>
                <a:lnTo>
                  <a:pt x="289" y="600"/>
                </a:lnTo>
                <a:lnTo>
                  <a:pt x="279" y="593"/>
                </a:lnTo>
                <a:lnTo>
                  <a:pt x="268" y="586"/>
                </a:lnTo>
                <a:lnTo>
                  <a:pt x="257" y="578"/>
                </a:lnTo>
                <a:lnTo>
                  <a:pt x="247" y="570"/>
                </a:lnTo>
                <a:lnTo>
                  <a:pt x="237" y="563"/>
                </a:lnTo>
                <a:lnTo>
                  <a:pt x="226" y="554"/>
                </a:lnTo>
                <a:lnTo>
                  <a:pt x="216" y="545"/>
                </a:lnTo>
                <a:lnTo>
                  <a:pt x="208" y="536"/>
                </a:lnTo>
                <a:lnTo>
                  <a:pt x="198" y="526"/>
                </a:lnTo>
                <a:lnTo>
                  <a:pt x="188" y="518"/>
                </a:lnTo>
                <a:lnTo>
                  <a:pt x="179" y="508"/>
                </a:lnTo>
                <a:lnTo>
                  <a:pt x="170" y="497"/>
                </a:lnTo>
                <a:lnTo>
                  <a:pt x="162" y="487"/>
                </a:lnTo>
                <a:lnTo>
                  <a:pt x="144" y="465"/>
                </a:lnTo>
                <a:lnTo>
                  <a:pt x="129" y="442"/>
                </a:lnTo>
                <a:lnTo>
                  <a:pt x="112" y="419"/>
                </a:lnTo>
                <a:lnTo>
                  <a:pt x="98" y="394"/>
                </a:lnTo>
                <a:lnTo>
                  <a:pt x="85" y="369"/>
                </a:lnTo>
                <a:lnTo>
                  <a:pt x="72" y="341"/>
                </a:lnTo>
                <a:lnTo>
                  <a:pt x="59" y="314"/>
                </a:lnTo>
                <a:lnTo>
                  <a:pt x="50" y="286"/>
                </a:lnTo>
                <a:lnTo>
                  <a:pt x="40" y="257"/>
                </a:lnTo>
                <a:lnTo>
                  <a:pt x="31" y="227"/>
                </a:lnTo>
                <a:lnTo>
                  <a:pt x="27" y="212"/>
                </a:lnTo>
                <a:lnTo>
                  <a:pt x="23" y="197"/>
                </a:lnTo>
                <a:lnTo>
                  <a:pt x="19" y="181"/>
                </a:lnTo>
                <a:lnTo>
                  <a:pt x="17" y="166"/>
                </a:lnTo>
                <a:lnTo>
                  <a:pt x="13" y="151"/>
                </a:lnTo>
                <a:lnTo>
                  <a:pt x="11" y="134"/>
                </a:lnTo>
                <a:lnTo>
                  <a:pt x="8" y="119"/>
                </a:lnTo>
                <a:lnTo>
                  <a:pt x="7" y="102"/>
                </a:lnTo>
                <a:lnTo>
                  <a:pt x="5" y="86"/>
                </a:lnTo>
                <a:lnTo>
                  <a:pt x="3" y="70"/>
                </a:lnTo>
                <a:lnTo>
                  <a:pt x="2" y="53"/>
                </a:lnTo>
                <a:lnTo>
                  <a:pt x="1" y="37"/>
                </a:lnTo>
                <a:lnTo>
                  <a:pt x="1" y="20"/>
                </a:lnTo>
                <a:lnTo>
                  <a:pt x="0" y="3"/>
                </a:lnTo>
                <a:lnTo>
                  <a:pt x="1" y="2"/>
                </a:lnTo>
                <a:lnTo>
                  <a:pt x="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562040" y="5992920"/>
            <a:ext cx="39196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486400" y="3789360"/>
            <a:ext cx="393840" cy="387360"/>
          </a:xfrm>
          <a:custGeom>
            <a:avLst/>
            <a:gdLst/>
            <a:ahLst/>
            <a:rect l="l" t="t" r="r" b="b"/>
            <a:pathLst>
              <a:path w="496" h="489">
                <a:moveTo>
                  <a:pt x="0" y="0"/>
                </a:moveTo>
                <a:lnTo>
                  <a:pt x="2" y="0"/>
                </a:lnTo>
                <a:lnTo>
                  <a:pt x="15" y="0"/>
                </a:lnTo>
                <a:lnTo>
                  <a:pt x="27" y="0"/>
                </a:lnTo>
                <a:lnTo>
                  <a:pt x="40" y="2"/>
                </a:lnTo>
                <a:lnTo>
                  <a:pt x="53" y="3"/>
                </a:lnTo>
                <a:lnTo>
                  <a:pt x="65" y="4"/>
                </a:lnTo>
                <a:lnTo>
                  <a:pt x="78" y="6"/>
                </a:lnTo>
                <a:lnTo>
                  <a:pt x="90" y="7"/>
                </a:lnTo>
                <a:lnTo>
                  <a:pt x="102" y="10"/>
                </a:lnTo>
                <a:lnTo>
                  <a:pt x="114" y="13"/>
                </a:lnTo>
                <a:lnTo>
                  <a:pt x="125" y="16"/>
                </a:lnTo>
                <a:lnTo>
                  <a:pt x="137" y="18"/>
                </a:lnTo>
                <a:lnTo>
                  <a:pt x="149" y="22"/>
                </a:lnTo>
                <a:lnTo>
                  <a:pt x="160" y="26"/>
                </a:lnTo>
                <a:lnTo>
                  <a:pt x="172" y="30"/>
                </a:lnTo>
                <a:lnTo>
                  <a:pt x="194" y="39"/>
                </a:lnTo>
                <a:lnTo>
                  <a:pt x="216" y="49"/>
                </a:lnTo>
                <a:lnTo>
                  <a:pt x="237" y="59"/>
                </a:lnTo>
                <a:lnTo>
                  <a:pt x="258" y="71"/>
                </a:lnTo>
                <a:lnTo>
                  <a:pt x="278" y="84"/>
                </a:lnTo>
                <a:lnTo>
                  <a:pt x="297" y="97"/>
                </a:lnTo>
                <a:lnTo>
                  <a:pt x="316" y="111"/>
                </a:lnTo>
                <a:lnTo>
                  <a:pt x="333" y="126"/>
                </a:lnTo>
                <a:lnTo>
                  <a:pt x="351" y="143"/>
                </a:lnTo>
                <a:lnTo>
                  <a:pt x="368" y="160"/>
                </a:lnTo>
                <a:lnTo>
                  <a:pt x="383" y="178"/>
                </a:lnTo>
                <a:lnTo>
                  <a:pt x="397" y="197"/>
                </a:lnTo>
                <a:lnTo>
                  <a:pt x="411" y="215"/>
                </a:lnTo>
                <a:lnTo>
                  <a:pt x="425" y="235"/>
                </a:lnTo>
                <a:lnTo>
                  <a:pt x="436" y="256"/>
                </a:lnTo>
                <a:lnTo>
                  <a:pt x="447" y="277"/>
                </a:lnTo>
                <a:lnTo>
                  <a:pt x="456" y="298"/>
                </a:lnTo>
                <a:lnTo>
                  <a:pt x="466" y="320"/>
                </a:lnTo>
                <a:lnTo>
                  <a:pt x="470" y="332"/>
                </a:lnTo>
                <a:lnTo>
                  <a:pt x="474" y="343"/>
                </a:lnTo>
                <a:lnTo>
                  <a:pt x="477" y="355"/>
                </a:lnTo>
                <a:lnTo>
                  <a:pt x="481" y="366"/>
                </a:lnTo>
                <a:lnTo>
                  <a:pt x="484" y="378"/>
                </a:lnTo>
                <a:lnTo>
                  <a:pt x="486" y="390"/>
                </a:lnTo>
                <a:lnTo>
                  <a:pt x="488" y="402"/>
                </a:lnTo>
                <a:lnTo>
                  <a:pt x="490" y="415"/>
                </a:lnTo>
                <a:lnTo>
                  <a:pt x="493" y="427"/>
                </a:lnTo>
                <a:lnTo>
                  <a:pt x="494" y="439"/>
                </a:lnTo>
                <a:lnTo>
                  <a:pt x="495" y="452"/>
                </a:lnTo>
                <a:lnTo>
                  <a:pt x="496" y="464"/>
                </a:lnTo>
                <a:lnTo>
                  <a:pt x="496" y="477"/>
                </a:lnTo>
                <a:lnTo>
                  <a:pt x="496" y="489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73760" y="4172040"/>
            <a:ext cx="1440" cy="1430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86400" y="5607000"/>
            <a:ext cx="395280" cy="392040"/>
          </a:xfrm>
          <a:custGeom>
            <a:avLst/>
            <a:gdLst/>
            <a:ahLst/>
            <a:rect l="l" t="t" r="r" b="b"/>
            <a:pathLst>
              <a:path w="497" h="494">
                <a:moveTo>
                  <a:pt x="497" y="0"/>
                </a:moveTo>
                <a:lnTo>
                  <a:pt x="497" y="2"/>
                </a:lnTo>
                <a:lnTo>
                  <a:pt x="496" y="15"/>
                </a:lnTo>
                <a:lnTo>
                  <a:pt x="496" y="27"/>
                </a:lnTo>
                <a:lnTo>
                  <a:pt x="495" y="40"/>
                </a:lnTo>
                <a:lnTo>
                  <a:pt x="494" y="52"/>
                </a:lnTo>
                <a:lnTo>
                  <a:pt x="493" y="65"/>
                </a:lnTo>
                <a:lnTo>
                  <a:pt x="490" y="78"/>
                </a:lnTo>
                <a:lnTo>
                  <a:pt x="488" y="90"/>
                </a:lnTo>
                <a:lnTo>
                  <a:pt x="486" y="102"/>
                </a:lnTo>
                <a:lnTo>
                  <a:pt x="484" y="114"/>
                </a:lnTo>
                <a:lnTo>
                  <a:pt x="481" y="125"/>
                </a:lnTo>
                <a:lnTo>
                  <a:pt x="477" y="137"/>
                </a:lnTo>
                <a:lnTo>
                  <a:pt x="474" y="149"/>
                </a:lnTo>
                <a:lnTo>
                  <a:pt x="471" y="160"/>
                </a:lnTo>
                <a:lnTo>
                  <a:pt x="466" y="171"/>
                </a:lnTo>
                <a:lnTo>
                  <a:pt x="457" y="194"/>
                </a:lnTo>
                <a:lnTo>
                  <a:pt x="448" y="216"/>
                </a:lnTo>
                <a:lnTo>
                  <a:pt x="437" y="236"/>
                </a:lnTo>
                <a:lnTo>
                  <a:pt x="425" y="257"/>
                </a:lnTo>
                <a:lnTo>
                  <a:pt x="412" y="277"/>
                </a:lnTo>
                <a:lnTo>
                  <a:pt x="398" y="297"/>
                </a:lnTo>
                <a:lnTo>
                  <a:pt x="384" y="315"/>
                </a:lnTo>
                <a:lnTo>
                  <a:pt x="369" y="333"/>
                </a:lnTo>
                <a:lnTo>
                  <a:pt x="352" y="349"/>
                </a:lnTo>
                <a:lnTo>
                  <a:pt x="335" y="366"/>
                </a:lnTo>
                <a:lnTo>
                  <a:pt x="317" y="381"/>
                </a:lnTo>
                <a:lnTo>
                  <a:pt x="298" y="396"/>
                </a:lnTo>
                <a:lnTo>
                  <a:pt x="279" y="410"/>
                </a:lnTo>
                <a:lnTo>
                  <a:pt x="259" y="423"/>
                </a:lnTo>
                <a:lnTo>
                  <a:pt x="238" y="435"/>
                </a:lnTo>
                <a:lnTo>
                  <a:pt x="217" y="446"/>
                </a:lnTo>
                <a:lnTo>
                  <a:pt x="195" y="456"/>
                </a:lnTo>
                <a:lnTo>
                  <a:pt x="172" y="464"/>
                </a:lnTo>
                <a:lnTo>
                  <a:pt x="161" y="468"/>
                </a:lnTo>
                <a:lnTo>
                  <a:pt x="149" y="472"/>
                </a:lnTo>
                <a:lnTo>
                  <a:pt x="138" y="475"/>
                </a:lnTo>
                <a:lnTo>
                  <a:pt x="126" y="479"/>
                </a:lnTo>
                <a:lnTo>
                  <a:pt x="114" y="481"/>
                </a:lnTo>
                <a:lnTo>
                  <a:pt x="102" y="484"/>
                </a:lnTo>
                <a:lnTo>
                  <a:pt x="90" y="486"/>
                </a:lnTo>
                <a:lnTo>
                  <a:pt x="78" y="488"/>
                </a:lnTo>
                <a:lnTo>
                  <a:pt x="66" y="490"/>
                </a:lnTo>
                <a:lnTo>
                  <a:pt x="53" y="491"/>
                </a:lnTo>
                <a:lnTo>
                  <a:pt x="40" y="492"/>
                </a:lnTo>
                <a:lnTo>
                  <a:pt x="28" y="493"/>
                </a:lnTo>
                <a:lnTo>
                  <a:pt x="15" y="494"/>
                </a:lnTo>
                <a:lnTo>
                  <a:pt x="2" y="494"/>
                </a:lnTo>
                <a:lnTo>
                  <a:pt x="1" y="494"/>
                </a:lnTo>
                <a:lnTo>
                  <a:pt x="0" y="494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83480" y="1647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73480" y="16732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328120" y="3989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418120" y="40147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433040" y="4640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23040" y="46656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592600" y="3060720"/>
            <a:ext cx="229896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4068720" y="1089000"/>
            <a:ext cx="4209840" cy="3035160"/>
            <a:chOff x="4068720" y="1089000"/>
            <a:chExt cx="4209840" cy="3035160"/>
          </a:xfrm>
        </p:grpSpPr>
        <p:sp>
          <p:nvSpPr>
            <p:cNvPr id="430" name=""/>
            <p:cNvSpPr/>
            <p:nvPr/>
          </p:nvSpPr>
          <p:spPr>
            <a:xfrm>
              <a:off x="4481280" y="1423800"/>
              <a:ext cx="104472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48776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65632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66424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65632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66424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65632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66424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96276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97068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96276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97068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96276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97068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481280" y="2074680"/>
              <a:ext cx="104472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8776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87720" y="16160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01300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064200" y="2265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189120" y="2292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64200" y="16160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7976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8772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01300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370280" y="16444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476840" y="1671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37064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9556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6420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17976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37064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8620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31720" y="1719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128920" y="17445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16500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26220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208200" y="234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305040" y="23652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50024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59744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514640" y="2384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611480" y="2409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743240" y="3363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068720" y="1089000"/>
              <a:ext cx="4209840" cy="3035160"/>
            </a:xfrm>
            <a:custGeom>
              <a:avLst/>
              <a:gdLst/>
              <a:ahLst/>
              <a:rect l="l" t="t" r="r" b="b"/>
              <a:pathLst>
                <a:path w="5304" h="3824">
                  <a:moveTo>
                    <a:pt x="0" y="363"/>
                  </a:moveTo>
                  <a:lnTo>
                    <a:pt x="19" y="346"/>
                  </a:lnTo>
                  <a:lnTo>
                    <a:pt x="55" y="327"/>
                  </a:lnTo>
                  <a:lnTo>
                    <a:pt x="91" y="308"/>
                  </a:lnTo>
                  <a:lnTo>
                    <a:pt x="128" y="291"/>
                  </a:lnTo>
                  <a:lnTo>
                    <a:pt x="165" y="272"/>
                  </a:lnTo>
                  <a:lnTo>
                    <a:pt x="201" y="254"/>
                  </a:lnTo>
                  <a:lnTo>
                    <a:pt x="238" y="237"/>
                  </a:lnTo>
                  <a:lnTo>
                    <a:pt x="274" y="219"/>
                  </a:lnTo>
                  <a:lnTo>
                    <a:pt x="293" y="219"/>
                  </a:lnTo>
                  <a:lnTo>
                    <a:pt x="329" y="200"/>
                  </a:lnTo>
                  <a:lnTo>
                    <a:pt x="348" y="183"/>
                  </a:lnTo>
                  <a:lnTo>
                    <a:pt x="384" y="164"/>
                  </a:lnTo>
                  <a:lnTo>
                    <a:pt x="403" y="145"/>
                  </a:lnTo>
                  <a:lnTo>
                    <a:pt x="420" y="145"/>
                  </a:lnTo>
                  <a:lnTo>
                    <a:pt x="439" y="128"/>
                  </a:lnTo>
                  <a:lnTo>
                    <a:pt x="475" y="109"/>
                  </a:lnTo>
                  <a:lnTo>
                    <a:pt x="494" y="109"/>
                  </a:lnTo>
                  <a:lnTo>
                    <a:pt x="494" y="91"/>
                  </a:lnTo>
                  <a:lnTo>
                    <a:pt x="512" y="91"/>
                  </a:lnTo>
                  <a:lnTo>
                    <a:pt x="530" y="73"/>
                  </a:lnTo>
                  <a:lnTo>
                    <a:pt x="549" y="73"/>
                  </a:lnTo>
                  <a:lnTo>
                    <a:pt x="567" y="54"/>
                  </a:lnTo>
                  <a:lnTo>
                    <a:pt x="585" y="54"/>
                  </a:lnTo>
                  <a:lnTo>
                    <a:pt x="604" y="36"/>
                  </a:lnTo>
                  <a:lnTo>
                    <a:pt x="622" y="36"/>
                  </a:lnTo>
                  <a:lnTo>
                    <a:pt x="640" y="18"/>
                  </a:lnTo>
                  <a:lnTo>
                    <a:pt x="658" y="18"/>
                  </a:lnTo>
                  <a:lnTo>
                    <a:pt x="677" y="18"/>
                  </a:lnTo>
                  <a:lnTo>
                    <a:pt x="695" y="18"/>
                  </a:lnTo>
                  <a:lnTo>
                    <a:pt x="713" y="0"/>
                  </a:lnTo>
                  <a:lnTo>
                    <a:pt x="732" y="0"/>
                  </a:lnTo>
                  <a:lnTo>
                    <a:pt x="750" y="0"/>
                  </a:lnTo>
                  <a:lnTo>
                    <a:pt x="768" y="0"/>
                  </a:lnTo>
                  <a:lnTo>
                    <a:pt x="787" y="0"/>
                  </a:lnTo>
                  <a:lnTo>
                    <a:pt x="804" y="0"/>
                  </a:lnTo>
                  <a:lnTo>
                    <a:pt x="823" y="0"/>
                  </a:lnTo>
                  <a:lnTo>
                    <a:pt x="842" y="0"/>
                  </a:lnTo>
                  <a:lnTo>
                    <a:pt x="859" y="0"/>
                  </a:lnTo>
                  <a:lnTo>
                    <a:pt x="878" y="0"/>
                  </a:lnTo>
                  <a:lnTo>
                    <a:pt x="897" y="0"/>
                  </a:lnTo>
                  <a:lnTo>
                    <a:pt x="914" y="0"/>
                  </a:lnTo>
                  <a:lnTo>
                    <a:pt x="933" y="0"/>
                  </a:lnTo>
                  <a:lnTo>
                    <a:pt x="951" y="0"/>
                  </a:lnTo>
                  <a:lnTo>
                    <a:pt x="988" y="0"/>
                  </a:lnTo>
                  <a:lnTo>
                    <a:pt x="1006" y="0"/>
                  </a:lnTo>
                  <a:lnTo>
                    <a:pt x="1024" y="0"/>
                  </a:lnTo>
                  <a:lnTo>
                    <a:pt x="1043" y="0"/>
                  </a:lnTo>
                  <a:lnTo>
                    <a:pt x="1061" y="0"/>
                  </a:lnTo>
                  <a:lnTo>
                    <a:pt x="1097" y="0"/>
                  </a:lnTo>
                  <a:lnTo>
                    <a:pt x="1116" y="0"/>
                  </a:lnTo>
                  <a:lnTo>
                    <a:pt x="1134" y="0"/>
                  </a:lnTo>
                  <a:lnTo>
                    <a:pt x="1152" y="0"/>
                  </a:lnTo>
                  <a:lnTo>
                    <a:pt x="1188" y="18"/>
                  </a:lnTo>
                  <a:lnTo>
                    <a:pt x="1207" y="18"/>
                  </a:lnTo>
                  <a:lnTo>
                    <a:pt x="1226" y="18"/>
                  </a:lnTo>
                  <a:lnTo>
                    <a:pt x="1243" y="18"/>
                  </a:lnTo>
                  <a:lnTo>
                    <a:pt x="1262" y="18"/>
                  </a:lnTo>
                  <a:lnTo>
                    <a:pt x="1298" y="36"/>
                  </a:lnTo>
                  <a:lnTo>
                    <a:pt x="1317" y="36"/>
                  </a:lnTo>
                  <a:lnTo>
                    <a:pt x="1336" y="36"/>
                  </a:lnTo>
                  <a:lnTo>
                    <a:pt x="1353" y="36"/>
                  </a:lnTo>
                  <a:lnTo>
                    <a:pt x="1390" y="36"/>
                  </a:lnTo>
                  <a:lnTo>
                    <a:pt x="1408" y="54"/>
                  </a:lnTo>
                  <a:lnTo>
                    <a:pt x="1427" y="54"/>
                  </a:lnTo>
                  <a:lnTo>
                    <a:pt x="1445" y="54"/>
                  </a:lnTo>
                  <a:lnTo>
                    <a:pt x="1463" y="54"/>
                  </a:lnTo>
                  <a:lnTo>
                    <a:pt x="1500" y="73"/>
                  </a:lnTo>
                  <a:lnTo>
                    <a:pt x="1518" y="73"/>
                  </a:lnTo>
                  <a:lnTo>
                    <a:pt x="1555" y="73"/>
                  </a:lnTo>
                  <a:lnTo>
                    <a:pt x="1573" y="73"/>
                  </a:lnTo>
                  <a:lnTo>
                    <a:pt x="1610" y="73"/>
                  </a:lnTo>
                  <a:lnTo>
                    <a:pt x="1627" y="91"/>
                  </a:lnTo>
                  <a:lnTo>
                    <a:pt x="1665" y="91"/>
                  </a:lnTo>
                  <a:lnTo>
                    <a:pt x="1701" y="91"/>
                  </a:lnTo>
                  <a:lnTo>
                    <a:pt x="1737" y="91"/>
                  </a:lnTo>
                  <a:lnTo>
                    <a:pt x="1774" y="91"/>
                  </a:lnTo>
                  <a:lnTo>
                    <a:pt x="1811" y="109"/>
                  </a:lnTo>
                  <a:lnTo>
                    <a:pt x="1847" y="109"/>
                  </a:lnTo>
                  <a:lnTo>
                    <a:pt x="1902" y="109"/>
                  </a:lnTo>
                  <a:lnTo>
                    <a:pt x="1939" y="109"/>
                  </a:lnTo>
                  <a:lnTo>
                    <a:pt x="1975" y="109"/>
                  </a:lnTo>
                  <a:lnTo>
                    <a:pt x="2030" y="109"/>
                  </a:lnTo>
                  <a:lnTo>
                    <a:pt x="2066" y="109"/>
                  </a:lnTo>
                  <a:lnTo>
                    <a:pt x="2104" y="109"/>
                  </a:lnTo>
                  <a:lnTo>
                    <a:pt x="2140" y="109"/>
                  </a:lnTo>
                  <a:lnTo>
                    <a:pt x="2195" y="109"/>
                  </a:lnTo>
                  <a:lnTo>
                    <a:pt x="2231" y="109"/>
                  </a:lnTo>
                  <a:lnTo>
                    <a:pt x="2268" y="128"/>
                  </a:lnTo>
                  <a:lnTo>
                    <a:pt x="2304" y="128"/>
                  </a:lnTo>
                  <a:lnTo>
                    <a:pt x="2359" y="109"/>
                  </a:lnTo>
                  <a:lnTo>
                    <a:pt x="2396" y="109"/>
                  </a:lnTo>
                  <a:lnTo>
                    <a:pt x="2433" y="109"/>
                  </a:lnTo>
                  <a:lnTo>
                    <a:pt x="2469" y="109"/>
                  </a:lnTo>
                  <a:lnTo>
                    <a:pt x="2505" y="109"/>
                  </a:lnTo>
                  <a:lnTo>
                    <a:pt x="2543" y="109"/>
                  </a:lnTo>
                  <a:lnTo>
                    <a:pt x="2579" y="109"/>
                  </a:lnTo>
                  <a:lnTo>
                    <a:pt x="2615" y="109"/>
                  </a:lnTo>
                  <a:lnTo>
                    <a:pt x="2652" y="109"/>
                  </a:lnTo>
                  <a:lnTo>
                    <a:pt x="2689" y="109"/>
                  </a:lnTo>
                  <a:lnTo>
                    <a:pt x="2725" y="109"/>
                  </a:lnTo>
                  <a:lnTo>
                    <a:pt x="2762" y="109"/>
                  </a:lnTo>
                  <a:lnTo>
                    <a:pt x="2798" y="109"/>
                  </a:lnTo>
                  <a:lnTo>
                    <a:pt x="2817" y="109"/>
                  </a:lnTo>
                  <a:lnTo>
                    <a:pt x="2853" y="109"/>
                  </a:lnTo>
                  <a:lnTo>
                    <a:pt x="2889" y="109"/>
                  </a:lnTo>
                  <a:lnTo>
                    <a:pt x="2927" y="109"/>
                  </a:lnTo>
                  <a:lnTo>
                    <a:pt x="2944" y="109"/>
                  </a:lnTo>
                  <a:lnTo>
                    <a:pt x="2982" y="109"/>
                  </a:lnTo>
                  <a:lnTo>
                    <a:pt x="3018" y="109"/>
                  </a:lnTo>
                  <a:lnTo>
                    <a:pt x="3036" y="109"/>
                  </a:lnTo>
                  <a:lnTo>
                    <a:pt x="3073" y="109"/>
                  </a:lnTo>
                  <a:lnTo>
                    <a:pt x="3091" y="109"/>
                  </a:lnTo>
                  <a:lnTo>
                    <a:pt x="3127" y="109"/>
                  </a:lnTo>
                  <a:lnTo>
                    <a:pt x="3146" y="109"/>
                  </a:lnTo>
                  <a:lnTo>
                    <a:pt x="3182" y="109"/>
                  </a:lnTo>
                  <a:lnTo>
                    <a:pt x="3201" y="109"/>
                  </a:lnTo>
                  <a:lnTo>
                    <a:pt x="3219" y="109"/>
                  </a:lnTo>
                  <a:lnTo>
                    <a:pt x="3256" y="109"/>
                  </a:lnTo>
                  <a:lnTo>
                    <a:pt x="3273" y="109"/>
                  </a:lnTo>
                  <a:lnTo>
                    <a:pt x="3292" y="109"/>
                  </a:lnTo>
                  <a:lnTo>
                    <a:pt x="3328" y="109"/>
                  </a:lnTo>
                  <a:lnTo>
                    <a:pt x="3347" y="109"/>
                  </a:lnTo>
                  <a:lnTo>
                    <a:pt x="3366" y="109"/>
                  </a:lnTo>
                  <a:lnTo>
                    <a:pt x="3383" y="109"/>
                  </a:lnTo>
                  <a:lnTo>
                    <a:pt x="3402" y="109"/>
                  </a:lnTo>
                  <a:lnTo>
                    <a:pt x="3420" y="109"/>
                  </a:lnTo>
                  <a:lnTo>
                    <a:pt x="3438" y="91"/>
                  </a:lnTo>
                  <a:lnTo>
                    <a:pt x="3475" y="91"/>
                  </a:lnTo>
                  <a:lnTo>
                    <a:pt x="3493" y="91"/>
                  </a:lnTo>
                  <a:lnTo>
                    <a:pt x="3512" y="91"/>
                  </a:lnTo>
                  <a:lnTo>
                    <a:pt x="3530" y="73"/>
                  </a:lnTo>
                  <a:lnTo>
                    <a:pt x="3548" y="73"/>
                  </a:lnTo>
                  <a:lnTo>
                    <a:pt x="3585" y="73"/>
                  </a:lnTo>
                  <a:lnTo>
                    <a:pt x="3603" y="73"/>
                  </a:lnTo>
                  <a:lnTo>
                    <a:pt x="3640" y="73"/>
                  </a:lnTo>
                  <a:lnTo>
                    <a:pt x="3676" y="73"/>
                  </a:lnTo>
                  <a:lnTo>
                    <a:pt x="3712" y="73"/>
                  </a:lnTo>
                  <a:lnTo>
                    <a:pt x="3750" y="73"/>
                  </a:lnTo>
                  <a:lnTo>
                    <a:pt x="3805" y="54"/>
                  </a:lnTo>
                  <a:lnTo>
                    <a:pt x="3841" y="54"/>
                  </a:lnTo>
                  <a:lnTo>
                    <a:pt x="3896" y="54"/>
                  </a:lnTo>
                  <a:lnTo>
                    <a:pt x="3950" y="54"/>
                  </a:lnTo>
                  <a:lnTo>
                    <a:pt x="3987" y="54"/>
                  </a:lnTo>
                  <a:lnTo>
                    <a:pt x="4042" y="54"/>
                  </a:lnTo>
                  <a:lnTo>
                    <a:pt x="4115" y="73"/>
                  </a:lnTo>
                  <a:lnTo>
                    <a:pt x="4170" y="73"/>
                  </a:lnTo>
                  <a:lnTo>
                    <a:pt x="4206" y="73"/>
                  </a:lnTo>
                  <a:lnTo>
                    <a:pt x="4261" y="73"/>
                  </a:lnTo>
                  <a:lnTo>
                    <a:pt x="4316" y="73"/>
                  </a:lnTo>
                  <a:lnTo>
                    <a:pt x="4353" y="91"/>
                  </a:lnTo>
                  <a:lnTo>
                    <a:pt x="4408" y="91"/>
                  </a:lnTo>
                  <a:lnTo>
                    <a:pt x="4444" y="91"/>
                  </a:lnTo>
                  <a:lnTo>
                    <a:pt x="4481" y="109"/>
                  </a:lnTo>
                  <a:lnTo>
                    <a:pt x="4518" y="109"/>
                  </a:lnTo>
                  <a:lnTo>
                    <a:pt x="4554" y="128"/>
                  </a:lnTo>
                  <a:lnTo>
                    <a:pt x="4590" y="128"/>
                  </a:lnTo>
                  <a:lnTo>
                    <a:pt x="4628" y="145"/>
                  </a:lnTo>
                  <a:lnTo>
                    <a:pt x="4664" y="164"/>
                  </a:lnTo>
                  <a:lnTo>
                    <a:pt x="4682" y="164"/>
                  </a:lnTo>
                  <a:lnTo>
                    <a:pt x="4700" y="183"/>
                  </a:lnTo>
                  <a:lnTo>
                    <a:pt x="4737" y="200"/>
                  </a:lnTo>
                  <a:lnTo>
                    <a:pt x="4755" y="219"/>
                  </a:lnTo>
                  <a:lnTo>
                    <a:pt x="4774" y="237"/>
                  </a:lnTo>
                  <a:lnTo>
                    <a:pt x="4792" y="237"/>
                  </a:lnTo>
                  <a:lnTo>
                    <a:pt x="4810" y="254"/>
                  </a:lnTo>
                  <a:lnTo>
                    <a:pt x="4828" y="272"/>
                  </a:lnTo>
                  <a:lnTo>
                    <a:pt x="4847" y="291"/>
                  </a:lnTo>
                  <a:lnTo>
                    <a:pt x="4865" y="308"/>
                  </a:lnTo>
                  <a:lnTo>
                    <a:pt x="4883" y="327"/>
                  </a:lnTo>
                  <a:lnTo>
                    <a:pt x="4902" y="346"/>
                  </a:lnTo>
                  <a:lnTo>
                    <a:pt x="4919" y="363"/>
                  </a:lnTo>
                  <a:lnTo>
                    <a:pt x="4938" y="382"/>
                  </a:lnTo>
                  <a:lnTo>
                    <a:pt x="4957" y="400"/>
                  </a:lnTo>
                  <a:lnTo>
                    <a:pt x="4957" y="418"/>
                  </a:lnTo>
                  <a:lnTo>
                    <a:pt x="4974" y="437"/>
                  </a:lnTo>
                  <a:lnTo>
                    <a:pt x="4993" y="455"/>
                  </a:lnTo>
                  <a:lnTo>
                    <a:pt x="4993" y="491"/>
                  </a:lnTo>
                  <a:lnTo>
                    <a:pt x="5012" y="510"/>
                  </a:lnTo>
                  <a:lnTo>
                    <a:pt x="5029" y="528"/>
                  </a:lnTo>
                  <a:lnTo>
                    <a:pt x="5029" y="546"/>
                  </a:lnTo>
                  <a:lnTo>
                    <a:pt x="5048" y="565"/>
                  </a:lnTo>
                  <a:lnTo>
                    <a:pt x="5048" y="582"/>
                  </a:lnTo>
                  <a:lnTo>
                    <a:pt x="5066" y="582"/>
                  </a:lnTo>
                  <a:lnTo>
                    <a:pt x="5066" y="601"/>
                  </a:lnTo>
                  <a:lnTo>
                    <a:pt x="5084" y="618"/>
                  </a:lnTo>
                  <a:lnTo>
                    <a:pt x="5084" y="637"/>
                  </a:lnTo>
                  <a:lnTo>
                    <a:pt x="5103" y="655"/>
                  </a:lnTo>
                  <a:lnTo>
                    <a:pt x="5121" y="673"/>
                  </a:lnTo>
                  <a:lnTo>
                    <a:pt x="5121" y="692"/>
                  </a:lnTo>
                  <a:lnTo>
                    <a:pt x="5139" y="709"/>
                  </a:lnTo>
                  <a:lnTo>
                    <a:pt x="5158" y="728"/>
                  </a:lnTo>
                  <a:lnTo>
                    <a:pt x="5158" y="747"/>
                  </a:lnTo>
                  <a:lnTo>
                    <a:pt x="5176" y="764"/>
                  </a:lnTo>
                  <a:lnTo>
                    <a:pt x="5176" y="783"/>
                  </a:lnTo>
                  <a:lnTo>
                    <a:pt x="5194" y="783"/>
                  </a:lnTo>
                  <a:lnTo>
                    <a:pt x="5194" y="801"/>
                  </a:lnTo>
                  <a:lnTo>
                    <a:pt x="5194" y="819"/>
                  </a:lnTo>
                  <a:lnTo>
                    <a:pt x="5212" y="838"/>
                  </a:lnTo>
                  <a:lnTo>
                    <a:pt x="5212" y="856"/>
                  </a:lnTo>
                  <a:lnTo>
                    <a:pt x="5231" y="892"/>
                  </a:lnTo>
                  <a:lnTo>
                    <a:pt x="5231" y="911"/>
                  </a:lnTo>
                  <a:lnTo>
                    <a:pt x="5231" y="928"/>
                  </a:lnTo>
                  <a:lnTo>
                    <a:pt x="5249" y="947"/>
                  </a:lnTo>
                  <a:lnTo>
                    <a:pt x="5249" y="982"/>
                  </a:lnTo>
                  <a:lnTo>
                    <a:pt x="5267" y="1001"/>
                  </a:lnTo>
                  <a:lnTo>
                    <a:pt x="5267" y="1037"/>
                  </a:lnTo>
                  <a:lnTo>
                    <a:pt x="5267" y="1055"/>
                  </a:lnTo>
                  <a:lnTo>
                    <a:pt x="5286" y="1092"/>
                  </a:lnTo>
                  <a:lnTo>
                    <a:pt x="5286" y="1110"/>
                  </a:lnTo>
                  <a:lnTo>
                    <a:pt x="5286" y="1129"/>
                  </a:lnTo>
                  <a:lnTo>
                    <a:pt x="5304" y="1165"/>
                  </a:lnTo>
                  <a:lnTo>
                    <a:pt x="5304" y="1184"/>
                  </a:lnTo>
                  <a:lnTo>
                    <a:pt x="5304" y="1220"/>
                  </a:lnTo>
                  <a:lnTo>
                    <a:pt x="5304" y="1238"/>
                  </a:lnTo>
                  <a:lnTo>
                    <a:pt x="5304" y="1256"/>
                  </a:lnTo>
                  <a:lnTo>
                    <a:pt x="5304" y="1293"/>
                  </a:lnTo>
                  <a:lnTo>
                    <a:pt x="5304" y="1311"/>
                  </a:lnTo>
                  <a:lnTo>
                    <a:pt x="5304" y="1347"/>
                  </a:lnTo>
                  <a:lnTo>
                    <a:pt x="5304" y="1365"/>
                  </a:lnTo>
                  <a:lnTo>
                    <a:pt x="5304" y="1383"/>
                  </a:lnTo>
                  <a:lnTo>
                    <a:pt x="5304" y="1420"/>
                  </a:lnTo>
                  <a:lnTo>
                    <a:pt x="5304" y="1438"/>
                  </a:lnTo>
                  <a:lnTo>
                    <a:pt x="5304" y="1456"/>
                  </a:lnTo>
                  <a:lnTo>
                    <a:pt x="5286" y="1493"/>
                  </a:lnTo>
                  <a:lnTo>
                    <a:pt x="5286" y="1511"/>
                  </a:lnTo>
                  <a:lnTo>
                    <a:pt x="5286" y="1547"/>
                  </a:lnTo>
                  <a:lnTo>
                    <a:pt x="5286" y="1566"/>
                  </a:lnTo>
                  <a:lnTo>
                    <a:pt x="5286" y="1602"/>
                  </a:lnTo>
                  <a:lnTo>
                    <a:pt x="5267" y="1621"/>
                  </a:lnTo>
                  <a:lnTo>
                    <a:pt x="5267" y="1657"/>
                  </a:lnTo>
                  <a:lnTo>
                    <a:pt x="5267" y="1675"/>
                  </a:lnTo>
                  <a:lnTo>
                    <a:pt x="5249" y="1711"/>
                  </a:lnTo>
                  <a:lnTo>
                    <a:pt x="5249" y="1729"/>
                  </a:lnTo>
                  <a:lnTo>
                    <a:pt x="5249" y="1765"/>
                  </a:lnTo>
                  <a:lnTo>
                    <a:pt x="5231" y="1803"/>
                  </a:lnTo>
                  <a:lnTo>
                    <a:pt x="5231" y="1820"/>
                  </a:lnTo>
                  <a:lnTo>
                    <a:pt x="5212" y="1857"/>
                  </a:lnTo>
                  <a:lnTo>
                    <a:pt x="5212" y="1875"/>
                  </a:lnTo>
                  <a:lnTo>
                    <a:pt x="5194" y="1912"/>
                  </a:lnTo>
                  <a:lnTo>
                    <a:pt x="5194" y="1948"/>
                  </a:lnTo>
                  <a:lnTo>
                    <a:pt x="5194" y="1984"/>
                  </a:lnTo>
                  <a:lnTo>
                    <a:pt x="5194" y="2003"/>
                  </a:lnTo>
                  <a:lnTo>
                    <a:pt x="5176" y="2039"/>
                  </a:lnTo>
                  <a:lnTo>
                    <a:pt x="5176" y="2075"/>
                  </a:lnTo>
                  <a:lnTo>
                    <a:pt x="5176" y="2111"/>
                  </a:lnTo>
                  <a:lnTo>
                    <a:pt x="5176" y="2149"/>
                  </a:lnTo>
                  <a:lnTo>
                    <a:pt x="5158" y="2185"/>
                  </a:lnTo>
                  <a:lnTo>
                    <a:pt x="5158" y="2221"/>
                  </a:lnTo>
                  <a:lnTo>
                    <a:pt x="5158" y="2258"/>
                  </a:lnTo>
                  <a:lnTo>
                    <a:pt x="5158" y="2294"/>
                  </a:lnTo>
                  <a:lnTo>
                    <a:pt x="5158" y="2330"/>
                  </a:lnTo>
                  <a:lnTo>
                    <a:pt x="5158" y="2368"/>
                  </a:lnTo>
                  <a:lnTo>
                    <a:pt x="5158" y="2421"/>
                  </a:lnTo>
                  <a:lnTo>
                    <a:pt x="5158" y="2458"/>
                  </a:lnTo>
                  <a:lnTo>
                    <a:pt x="5158" y="2494"/>
                  </a:lnTo>
                  <a:lnTo>
                    <a:pt x="5158" y="2531"/>
                  </a:lnTo>
                  <a:lnTo>
                    <a:pt x="5158" y="2567"/>
                  </a:lnTo>
                  <a:lnTo>
                    <a:pt x="5158" y="2603"/>
                  </a:lnTo>
                  <a:lnTo>
                    <a:pt x="5158" y="2640"/>
                  </a:lnTo>
                  <a:lnTo>
                    <a:pt x="5158" y="2658"/>
                  </a:lnTo>
                  <a:lnTo>
                    <a:pt x="5158" y="2695"/>
                  </a:lnTo>
                  <a:lnTo>
                    <a:pt x="5158" y="2731"/>
                  </a:lnTo>
                  <a:lnTo>
                    <a:pt x="5158" y="2767"/>
                  </a:lnTo>
                  <a:lnTo>
                    <a:pt x="5158" y="2785"/>
                  </a:lnTo>
                  <a:lnTo>
                    <a:pt x="5158" y="2822"/>
                  </a:lnTo>
                  <a:lnTo>
                    <a:pt x="5158" y="2840"/>
                  </a:lnTo>
                  <a:lnTo>
                    <a:pt x="5158" y="2877"/>
                  </a:lnTo>
                  <a:lnTo>
                    <a:pt x="5158" y="2895"/>
                  </a:lnTo>
                  <a:lnTo>
                    <a:pt x="5176" y="2932"/>
                  </a:lnTo>
                  <a:lnTo>
                    <a:pt x="5176" y="2949"/>
                  </a:lnTo>
                  <a:lnTo>
                    <a:pt x="5176" y="2968"/>
                  </a:lnTo>
                  <a:lnTo>
                    <a:pt x="5176" y="3004"/>
                  </a:lnTo>
                  <a:lnTo>
                    <a:pt x="5176" y="3023"/>
                  </a:lnTo>
                  <a:lnTo>
                    <a:pt x="5176" y="3041"/>
                  </a:lnTo>
                  <a:lnTo>
                    <a:pt x="5176" y="3077"/>
                  </a:lnTo>
                  <a:lnTo>
                    <a:pt x="5176" y="3096"/>
                  </a:lnTo>
                  <a:lnTo>
                    <a:pt x="5158" y="3114"/>
                  </a:lnTo>
                  <a:lnTo>
                    <a:pt x="5158" y="3150"/>
                  </a:lnTo>
                  <a:lnTo>
                    <a:pt x="5158" y="3167"/>
                  </a:lnTo>
                  <a:lnTo>
                    <a:pt x="5158" y="3186"/>
                  </a:lnTo>
                  <a:lnTo>
                    <a:pt x="5158" y="3222"/>
                  </a:lnTo>
                  <a:lnTo>
                    <a:pt x="5158" y="3241"/>
                  </a:lnTo>
                  <a:lnTo>
                    <a:pt x="5158" y="3259"/>
                  </a:lnTo>
                  <a:lnTo>
                    <a:pt x="5158" y="3277"/>
                  </a:lnTo>
                  <a:lnTo>
                    <a:pt x="5139" y="3314"/>
                  </a:lnTo>
                  <a:lnTo>
                    <a:pt x="5139" y="3332"/>
                  </a:lnTo>
                  <a:lnTo>
                    <a:pt x="5139" y="3350"/>
                  </a:lnTo>
                  <a:lnTo>
                    <a:pt x="5139" y="3369"/>
                  </a:lnTo>
                  <a:lnTo>
                    <a:pt x="5121" y="3386"/>
                  </a:lnTo>
                  <a:lnTo>
                    <a:pt x="5121" y="3424"/>
                  </a:lnTo>
                  <a:lnTo>
                    <a:pt x="5121" y="3441"/>
                  </a:lnTo>
                  <a:lnTo>
                    <a:pt x="5103" y="3460"/>
                  </a:lnTo>
                  <a:lnTo>
                    <a:pt x="5103" y="3478"/>
                  </a:lnTo>
                  <a:lnTo>
                    <a:pt x="5103" y="3496"/>
                  </a:lnTo>
                  <a:lnTo>
                    <a:pt x="5084" y="3513"/>
                  </a:lnTo>
                  <a:lnTo>
                    <a:pt x="5084" y="3532"/>
                  </a:lnTo>
                  <a:lnTo>
                    <a:pt x="5066" y="3551"/>
                  </a:lnTo>
                  <a:lnTo>
                    <a:pt x="5066" y="3568"/>
                  </a:lnTo>
                  <a:lnTo>
                    <a:pt x="5048" y="3587"/>
                  </a:lnTo>
                  <a:lnTo>
                    <a:pt x="5048" y="3605"/>
                  </a:lnTo>
                  <a:lnTo>
                    <a:pt x="5029" y="3605"/>
                  </a:lnTo>
                  <a:lnTo>
                    <a:pt x="5029" y="3623"/>
                  </a:lnTo>
                  <a:lnTo>
                    <a:pt x="5012" y="3642"/>
                  </a:lnTo>
                  <a:lnTo>
                    <a:pt x="4993" y="3660"/>
                  </a:lnTo>
                  <a:lnTo>
                    <a:pt x="4974" y="3678"/>
                  </a:lnTo>
                  <a:lnTo>
                    <a:pt x="4957" y="3696"/>
                  </a:lnTo>
                  <a:lnTo>
                    <a:pt x="4938" y="3715"/>
                  </a:lnTo>
                  <a:lnTo>
                    <a:pt x="4919" y="3715"/>
                  </a:lnTo>
                  <a:lnTo>
                    <a:pt x="4902" y="3732"/>
                  </a:lnTo>
                  <a:lnTo>
                    <a:pt x="4883" y="3732"/>
                  </a:lnTo>
                  <a:lnTo>
                    <a:pt x="4865" y="3751"/>
                  </a:lnTo>
                  <a:lnTo>
                    <a:pt x="4847" y="3770"/>
                  </a:lnTo>
                  <a:lnTo>
                    <a:pt x="4810" y="3770"/>
                  </a:lnTo>
                  <a:lnTo>
                    <a:pt x="4792" y="3770"/>
                  </a:lnTo>
                  <a:lnTo>
                    <a:pt x="4774" y="3787"/>
                  </a:lnTo>
                  <a:lnTo>
                    <a:pt x="4737" y="3787"/>
                  </a:lnTo>
                  <a:lnTo>
                    <a:pt x="4719" y="3806"/>
                  </a:lnTo>
                  <a:lnTo>
                    <a:pt x="4700" y="3806"/>
                  </a:lnTo>
                  <a:lnTo>
                    <a:pt x="4664" y="3806"/>
                  </a:lnTo>
                  <a:lnTo>
                    <a:pt x="4645" y="3806"/>
                  </a:lnTo>
                  <a:lnTo>
                    <a:pt x="4628" y="3824"/>
                  </a:lnTo>
                  <a:lnTo>
                    <a:pt x="4609" y="3824"/>
                  </a:lnTo>
                  <a:lnTo>
                    <a:pt x="4573" y="3824"/>
                  </a:lnTo>
                  <a:lnTo>
                    <a:pt x="4554" y="3824"/>
                  </a:lnTo>
                  <a:lnTo>
                    <a:pt x="4535" y="3824"/>
                  </a:lnTo>
                  <a:lnTo>
                    <a:pt x="4518" y="3824"/>
                  </a:lnTo>
                  <a:lnTo>
                    <a:pt x="4499" y="3824"/>
                  </a:lnTo>
                  <a:lnTo>
                    <a:pt x="4481" y="3824"/>
                  </a:lnTo>
                  <a:lnTo>
                    <a:pt x="4463" y="3824"/>
                  </a:lnTo>
                  <a:lnTo>
                    <a:pt x="4444" y="3824"/>
                  </a:lnTo>
                  <a:lnTo>
                    <a:pt x="4426" y="3824"/>
                  </a:lnTo>
                  <a:lnTo>
                    <a:pt x="4408" y="3806"/>
                  </a:lnTo>
                  <a:lnTo>
                    <a:pt x="4371" y="3806"/>
                  </a:lnTo>
                  <a:lnTo>
                    <a:pt x="4353" y="3806"/>
                  </a:lnTo>
                  <a:lnTo>
                    <a:pt x="4335" y="3787"/>
                  </a:lnTo>
                  <a:lnTo>
                    <a:pt x="4316" y="3787"/>
                  </a:lnTo>
                  <a:lnTo>
                    <a:pt x="4280" y="3770"/>
                  </a:lnTo>
                  <a:lnTo>
                    <a:pt x="4261" y="3770"/>
                  </a:lnTo>
                  <a:lnTo>
                    <a:pt x="4225" y="3751"/>
                  </a:lnTo>
                  <a:lnTo>
                    <a:pt x="4206" y="3732"/>
                  </a:lnTo>
                  <a:lnTo>
                    <a:pt x="4170" y="3732"/>
                  </a:lnTo>
                  <a:lnTo>
                    <a:pt x="4134" y="3715"/>
                  </a:lnTo>
                  <a:lnTo>
                    <a:pt x="4115" y="3696"/>
                  </a:lnTo>
                  <a:lnTo>
                    <a:pt x="4079" y="3678"/>
                  </a:lnTo>
                  <a:lnTo>
                    <a:pt x="4042" y="3660"/>
                  </a:lnTo>
                  <a:lnTo>
                    <a:pt x="4005" y="3623"/>
                  </a:lnTo>
                  <a:lnTo>
                    <a:pt x="3969" y="3605"/>
                  </a:lnTo>
                  <a:lnTo>
                    <a:pt x="3914" y="3587"/>
                  </a:lnTo>
                  <a:lnTo>
                    <a:pt x="3877" y="3568"/>
                  </a:lnTo>
                  <a:lnTo>
                    <a:pt x="3841" y="3532"/>
                  </a:lnTo>
                  <a:lnTo>
                    <a:pt x="3805" y="3513"/>
                  </a:lnTo>
                  <a:lnTo>
                    <a:pt x="3767" y="3496"/>
                  </a:lnTo>
                  <a:lnTo>
                    <a:pt x="3731" y="3478"/>
                  </a:lnTo>
                  <a:lnTo>
                    <a:pt x="3712" y="3441"/>
                  </a:lnTo>
                  <a:lnTo>
                    <a:pt x="3676" y="3424"/>
                  </a:lnTo>
                  <a:lnTo>
                    <a:pt x="3640" y="3405"/>
                  </a:lnTo>
                  <a:lnTo>
                    <a:pt x="3621" y="3386"/>
                  </a:lnTo>
                  <a:lnTo>
                    <a:pt x="3585" y="3369"/>
                  </a:lnTo>
                  <a:lnTo>
                    <a:pt x="3566" y="3350"/>
                  </a:lnTo>
                  <a:lnTo>
                    <a:pt x="3530" y="3332"/>
                  </a:lnTo>
                  <a:lnTo>
                    <a:pt x="3512" y="3314"/>
                  </a:lnTo>
                  <a:lnTo>
                    <a:pt x="3493" y="3295"/>
                  </a:lnTo>
                  <a:lnTo>
                    <a:pt x="3475" y="3277"/>
                  </a:lnTo>
                  <a:lnTo>
                    <a:pt x="3438" y="3259"/>
                  </a:lnTo>
                  <a:lnTo>
                    <a:pt x="3420" y="3241"/>
                  </a:lnTo>
                  <a:lnTo>
                    <a:pt x="3402" y="3222"/>
                  </a:lnTo>
                  <a:lnTo>
                    <a:pt x="3383" y="3205"/>
                  </a:lnTo>
                  <a:lnTo>
                    <a:pt x="3366" y="3205"/>
                  </a:lnTo>
                  <a:lnTo>
                    <a:pt x="3347" y="3186"/>
                  </a:lnTo>
                  <a:lnTo>
                    <a:pt x="3328" y="3167"/>
                  </a:lnTo>
                  <a:lnTo>
                    <a:pt x="3311" y="3167"/>
                  </a:lnTo>
                  <a:lnTo>
                    <a:pt x="3311" y="3150"/>
                  </a:lnTo>
                  <a:lnTo>
                    <a:pt x="3292" y="3150"/>
                  </a:lnTo>
                  <a:lnTo>
                    <a:pt x="3273" y="3132"/>
                  </a:lnTo>
                  <a:lnTo>
                    <a:pt x="3256" y="3132"/>
                  </a:lnTo>
                  <a:lnTo>
                    <a:pt x="3237" y="3114"/>
                  </a:lnTo>
                  <a:lnTo>
                    <a:pt x="3219" y="3096"/>
                  </a:lnTo>
                  <a:lnTo>
                    <a:pt x="3201" y="3096"/>
                  </a:lnTo>
                  <a:lnTo>
                    <a:pt x="3182" y="3096"/>
                  </a:lnTo>
                  <a:lnTo>
                    <a:pt x="3164" y="3077"/>
                  </a:lnTo>
                  <a:lnTo>
                    <a:pt x="3146" y="3077"/>
                  </a:lnTo>
                  <a:lnTo>
                    <a:pt x="3127" y="3077"/>
                  </a:lnTo>
                  <a:lnTo>
                    <a:pt x="3109" y="3077"/>
                  </a:lnTo>
                  <a:lnTo>
                    <a:pt x="3091" y="3077"/>
                  </a:lnTo>
                  <a:lnTo>
                    <a:pt x="3054" y="3077"/>
                  </a:lnTo>
                  <a:lnTo>
                    <a:pt x="3036" y="3059"/>
                  </a:lnTo>
                  <a:lnTo>
                    <a:pt x="2999" y="3059"/>
                  </a:lnTo>
                  <a:lnTo>
                    <a:pt x="2982" y="3059"/>
                  </a:lnTo>
                  <a:lnTo>
                    <a:pt x="2944" y="3059"/>
                  </a:lnTo>
                  <a:lnTo>
                    <a:pt x="2908" y="3059"/>
                  </a:lnTo>
                  <a:lnTo>
                    <a:pt x="2872" y="3059"/>
                  </a:lnTo>
                  <a:lnTo>
                    <a:pt x="2834" y="3059"/>
                  </a:lnTo>
                  <a:lnTo>
                    <a:pt x="2798" y="3059"/>
                  </a:lnTo>
                  <a:lnTo>
                    <a:pt x="2762" y="3059"/>
                  </a:lnTo>
                  <a:lnTo>
                    <a:pt x="2725" y="3059"/>
                  </a:lnTo>
                  <a:lnTo>
                    <a:pt x="2670" y="3059"/>
                  </a:lnTo>
                  <a:lnTo>
                    <a:pt x="2634" y="3059"/>
                  </a:lnTo>
                  <a:lnTo>
                    <a:pt x="2597" y="3059"/>
                  </a:lnTo>
                  <a:lnTo>
                    <a:pt x="2560" y="3059"/>
                  </a:lnTo>
                  <a:lnTo>
                    <a:pt x="2524" y="3059"/>
                  </a:lnTo>
                  <a:lnTo>
                    <a:pt x="2488" y="3059"/>
                  </a:lnTo>
                  <a:lnTo>
                    <a:pt x="2450" y="3059"/>
                  </a:lnTo>
                  <a:lnTo>
                    <a:pt x="2414" y="3059"/>
                  </a:lnTo>
                  <a:lnTo>
                    <a:pt x="2359" y="3059"/>
                  </a:lnTo>
                  <a:lnTo>
                    <a:pt x="2323" y="3059"/>
                  </a:lnTo>
                  <a:lnTo>
                    <a:pt x="2286" y="3059"/>
                  </a:lnTo>
                  <a:lnTo>
                    <a:pt x="2250" y="3059"/>
                  </a:lnTo>
                  <a:lnTo>
                    <a:pt x="2213" y="3059"/>
                  </a:lnTo>
                  <a:lnTo>
                    <a:pt x="2176" y="3059"/>
                  </a:lnTo>
                  <a:lnTo>
                    <a:pt x="2159" y="3077"/>
                  </a:lnTo>
                  <a:lnTo>
                    <a:pt x="2121" y="3077"/>
                  </a:lnTo>
                  <a:lnTo>
                    <a:pt x="2085" y="3077"/>
                  </a:lnTo>
                  <a:lnTo>
                    <a:pt x="2049" y="3077"/>
                  </a:lnTo>
                  <a:lnTo>
                    <a:pt x="2011" y="3059"/>
                  </a:lnTo>
                  <a:lnTo>
                    <a:pt x="1994" y="3059"/>
                  </a:lnTo>
                  <a:lnTo>
                    <a:pt x="1957" y="3059"/>
                  </a:lnTo>
                  <a:lnTo>
                    <a:pt x="1939" y="3059"/>
                  </a:lnTo>
                  <a:lnTo>
                    <a:pt x="1902" y="3059"/>
                  </a:lnTo>
                  <a:lnTo>
                    <a:pt x="1884" y="3059"/>
                  </a:lnTo>
                  <a:lnTo>
                    <a:pt x="1847" y="3041"/>
                  </a:lnTo>
                  <a:lnTo>
                    <a:pt x="1829" y="3041"/>
                  </a:lnTo>
                  <a:lnTo>
                    <a:pt x="1811" y="3041"/>
                  </a:lnTo>
                  <a:lnTo>
                    <a:pt x="1774" y="3041"/>
                  </a:lnTo>
                  <a:lnTo>
                    <a:pt x="1756" y="3023"/>
                  </a:lnTo>
                  <a:lnTo>
                    <a:pt x="1737" y="3023"/>
                  </a:lnTo>
                  <a:lnTo>
                    <a:pt x="1720" y="3004"/>
                  </a:lnTo>
                  <a:lnTo>
                    <a:pt x="1701" y="3004"/>
                  </a:lnTo>
                  <a:lnTo>
                    <a:pt x="1682" y="2987"/>
                  </a:lnTo>
                  <a:lnTo>
                    <a:pt x="1665" y="2987"/>
                  </a:lnTo>
                  <a:lnTo>
                    <a:pt x="1627" y="2968"/>
                  </a:lnTo>
                  <a:lnTo>
                    <a:pt x="1610" y="2968"/>
                  </a:lnTo>
                  <a:lnTo>
                    <a:pt x="1591" y="2949"/>
                  </a:lnTo>
                  <a:lnTo>
                    <a:pt x="1573" y="2949"/>
                  </a:lnTo>
                  <a:lnTo>
                    <a:pt x="1536" y="2932"/>
                  </a:lnTo>
                  <a:lnTo>
                    <a:pt x="1518" y="2932"/>
                  </a:lnTo>
                  <a:lnTo>
                    <a:pt x="1500" y="2913"/>
                  </a:lnTo>
                  <a:lnTo>
                    <a:pt x="1463" y="2895"/>
                  </a:lnTo>
                  <a:lnTo>
                    <a:pt x="1445" y="2895"/>
                  </a:lnTo>
                  <a:lnTo>
                    <a:pt x="1427" y="2877"/>
                  </a:lnTo>
                  <a:lnTo>
                    <a:pt x="1390" y="2877"/>
                  </a:lnTo>
                  <a:lnTo>
                    <a:pt x="1372" y="2858"/>
                  </a:lnTo>
                  <a:lnTo>
                    <a:pt x="1336" y="2840"/>
                  </a:lnTo>
                  <a:lnTo>
                    <a:pt x="1317" y="2822"/>
                  </a:lnTo>
                  <a:lnTo>
                    <a:pt x="1281" y="2822"/>
                  </a:lnTo>
                  <a:lnTo>
                    <a:pt x="1262" y="2804"/>
                  </a:lnTo>
                  <a:lnTo>
                    <a:pt x="1243" y="2804"/>
                  </a:lnTo>
                  <a:lnTo>
                    <a:pt x="1207" y="2785"/>
                  </a:lnTo>
                  <a:lnTo>
                    <a:pt x="1188" y="2785"/>
                  </a:lnTo>
                  <a:lnTo>
                    <a:pt x="1171" y="2767"/>
                  </a:lnTo>
                  <a:lnTo>
                    <a:pt x="1152" y="2767"/>
                  </a:lnTo>
                  <a:lnTo>
                    <a:pt x="1134" y="2750"/>
                  </a:lnTo>
                  <a:lnTo>
                    <a:pt x="1116" y="2750"/>
                  </a:lnTo>
                  <a:lnTo>
                    <a:pt x="1097" y="2731"/>
                  </a:lnTo>
                  <a:lnTo>
                    <a:pt x="1079" y="2731"/>
                  </a:lnTo>
                  <a:lnTo>
                    <a:pt x="1061" y="2731"/>
                  </a:lnTo>
                  <a:lnTo>
                    <a:pt x="1043" y="2713"/>
                  </a:lnTo>
                  <a:lnTo>
                    <a:pt x="1024" y="2713"/>
                  </a:lnTo>
                  <a:lnTo>
                    <a:pt x="1006" y="2713"/>
                  </a:lnTo>
                  <a:lnTo>
                    <a:pt x="988" y="2695"/>
                  </a:lnTo>
                  <a:lnTo>
                    <a:pt x="969" y="2695"/>
                  </a:lnTo>
                  <a:lnTo>
                    <a:pt x="969" y="2677"/>
                  </a:lnTo>
                  <a:lnTo>
                    <a:pt x="951" y="2677"/>
                  </a:lnTo>
                  <a:lnTo>
                    <a:pt x="933" y="2658"/>
                  </a:lnTo>
                  <a:lnTo>
                    <a:pt x="914" y="2640"/>
                  </a:lnTo>
                  <a:lnTo>
                    <a:pt x="897" y="2622"/>
                  </a:lnTo>
                  <a:lnTo>
                    <a:pt x="878" y="2603"/>
                  </a:lnTo>
                  <a:lnTo>
                    <a:pt x="878" y="2586"/>
                  </a:lnTo>
                  <a:lnTo>
                    <a:pt x="859" y="2567"/>
                  </a:lnTo>
                  <a:lnTo>
                    <a:pt x="859" y="2548"/>
                  </a:lnTo>
                  <a:lnTo>
                    <a:pt x="842" y="2548"/>
                  </a:lnTo>
                  <a:lnTo>
                    <a:pt x="842" y="2531"/>
                  </a:lnTo>
                  <a:lnTo>
                    <a:pt x="823" y="2512"/>
                  </a:lnTo>
                  <a:lnTo>
                    <a:pt x="823" y="2494"/>
                  </a:lnTo>
                  <a:lnTo>
                    <a:pt x="804" y="2476"/>
                  </a:lnTo>
                  <a:lnTo>
                    <a:pt x="804" y="2458"/>
                  </a:lnTo>
                  <a:lnTo>
                    <a:pt x="787" y="2439"/>
                  </a:lnTo>
                  <a:lnTo>
                    <a:pt x="787" y="2421"/>
                  </a:lnTo>
                  <a:lnTo>
                    <a:pt x="768" y="2404"/>
                  </a:lnTo>
                  <a:lnTo>
                    <a:pt x="768" y="2385"/>
                  </a:lnTo>
                  <a:lnTo>
                    <a:pt x="750" y="2385"/>
                  </a:lnTo>
                  <a:lnTo>
                    <a:pt x="750" y="2368"/>
                  </a:lnTo>
                  <a:lnTo>
                    <a:pt x="732" y="2349"/>
                  </a:lnTo>
                  <a:lnTo>
                    <a:pt x="732" y="2330"/>
                  </a:lnTo>
                  <a:lnTo>
                    <a:pt x="713" y="2330"/>
                  </a:lnTo>
                  <a:lnTo>
                    <a:pt x="713" y="2313"/>
                  </a:lnTo>
                  <a:lnTo>
                    <a:pt x="695" y="2294"/>
                  </a:lnTo>
                  <a:lnTo>
                    <a:pt x="677" y="2276"/>
                  </a:lnTo>
                  <a:lnTo>
                    <a:pt x="658" y="2258"/>
                  </a:lnTo>
                  <a:lnTo>
                    <a:pt x="640" y="2258"/>
                  </a:lnTo>
                  <a:lnTo>
                    <a:pt x="640" y="2240"/>
                  </a:lnTo>
                  <a:lnTo>
                    <a:pt x="622" y="2240"/>
                  </a:lnTo>
                  <a:lnTo>
                    <a:pt x="604" y="2221"/>
                  </a:lnTo>
                  <a:lnTo>
                    <a:pt x="585" y="2203"/>
                  </a:lnTo>
                  <a:lnTo>
                    <a:pt x="567" y="2203"/>
                  </a:lnTo>
                  <a:lnTo>
                    <a:pt x="549" y="2203"/>
                  </a:lnTo>
                  <a:lnTo>
                    <a:pt x="530" y="2203"/>
                  </a:lnTo>
                  <a:lnTo>
                    <a:pt x="512" y="2185"/>
                  </a:lnTo>
                  <a:lnTo>
                    <a:pt x="494" y="2185"/>
                  </a:lnTo>
                  <a:lnTo>
                    <a:pt x="475" y="2185"/>
                  </a:lnTo>
                  <a:lnTo>
                    <a:pt x="458" y="2185"/>
                  </a:lnTo>
                  <a:lnTo>
                    <a:pt x="439" y="2185"/>
                  </a:lnTo>
                  <a:lnTo>
                    <a:pt x="420" y="2166"/>
                  </a:lnTo>
                  <a:lnTo>
                    <a:pt x="403" y="2166"/>
                  </a:lnTo>
                  <a:lnTo>
                    <a:pt x="384" y="2166"/>
                  </a:lnTo>
                  <a:lnTo>
                    <a:pt x="365" y="2149"/>
                  </a:lnTo>
                  <a:lnTo>
                    <a:pt x="348" y="2149"/>
                  </a:lnTo>
                  <a:lnTo>
                    <a:pt x="329" y="2149"/>
                  </a:lnTo>
                  <a:lnTo>
                    <a:pt x="311" y="2130"/>
                  </a:lnTo>
                  <a:lnTo>
                    <a:pt x="293" y="2130"/>
                  </a:lnTo>
                  <a:lnTo>
                    <a:pt x="274" y="2111"/>
                  </a:lnTo>
                  <a:lnTo>
                    <a:pt x="256" y="2111"/>
                  </a:lnTo>
                  <a:lnTo>
                    <a:pt x="256" y="2094"/>
                  </a:lnTo>
                  <a:lnTo>
                    <a:pt x="238" y="2075"/>
                  </a:lnTo>
                  <a:lnTo>
                    <a:pt x="220" y="2075"/>
                  </a:lnTo>
                  <a:lnTo>
                    <a:pt x="201" y="2057"/>
                  </a:lnTo>
                  <a:lnTo>
                    <a:pt x="183" y="2039"/>
                  </a:lnTo>
                  <a:lnTo>
                    <a:pt x="165" y="2022"/>
                  </a:lnTo>
                  <a:lnTo>
                    <a:pt x="146" y="2003"/>
                  </a:lnTo>
                  <a:lnTo>
                    <a:pt x="128" y="1984"/>
                  </a:lnTo>
                  <a:lnTo>
                    <a:pt x="128" y="1967"/>
                  </a:lnTo>
                  <a:lnTo>
                    <a:pt x="128" y="1948"/>
                  </a:lnTo>
                  <a:lnTo>
                    <a:pt x="110" y="1930"/>
                  </a:lnTo>
                  <a:lnTo>
                    <a:pt x="110" y="1912"/>
                  </a:lnTo>
                  <a:lnTo>
                    <a:pt x="110" y="1893"/>
                  </a:lnTo>
                  <a:lnTo>
                    <a:pt x="110" y="1875"/>
                  </a:lnTo>
                  <a:lnTo>
                    <a:pt x="91" y="1857"/>
                  </a:lnTo>
                  <a:lnTo>
                    <a:pt x="91" y="1839"/>
                  </a:lnTo>
                  <a:lnTo>
                    <a:pt x="110" y="1839"/>
                  </a:lnTo>
                  <a:lnTo>
                    <a:pt x="110" y="1820"/>
                  </a:lnTo>
                  <a:lnTo>
                    <a:pt x="110" y="1803"/>
                  </a:lnTo>
                  <a:lnTo>
                    <a:pt x="110" y="1784"/>
                  </a:lnTo>
                  <a:lnTo>
                    <a:pt x="110" y="1765"/>
                  </a:lnTo>
                  <a:lnTo>
                    <a:pt x="110" y="1748"/>
                  </a:lnTo>
                  <a:lnTo>
                    <a:pt x="110" y="1729"/>
                  </a:lnTo>
                  <a:lnTo>
                    <a:pt x="110" y="1711"/>
                  </a:lnTo>
                  <a:lnTo>
                    <a:pt x="128" y="1711"/>
                  </a:lnTo>
                  <a:lnTo>
                    <a:pt x="128" y="1693"/>
                  </a:lnTo>
                  <a:lnTo>
                    <a:pt x="128" y="1675"/>
                  </a:lnTo>
                  <a:lnTo>
                    <a:pt x="146" y="1675"/>
                  </a:lnTo>
                  <a:lnTo>
                    <a:pt x="146" y="1657"/>
                  </a:lnTo>
                  <a:lnTo>
                    <a:pt x="146" y="1639"/>
                  </a:lnTo>
                  <a:lnTo>
                    <a:pt x="146" y="1621"/>
                  </a:lnTo>
                  <a:lnTo>
                    <a:pt x="146" y="1602"/>
                  </a:lnTo>
                  <a:lnTo>
                    <a:pt x="146" y="1585"/>
                  </a:lnTo>
                  <a:lnTo>
                    <a:pt x="146" y="1566"/>
                  </a:lnTo>
                  <a:lnTo>
                    <a:pt x="146" y="1547"/>
                  </a:lnTo>
                  <a:lnTo>
                    <a:pt x="146" y="1530"/>
                  </a:lnTo>
                  <a:lnTo>
                    <a:pt x="146" y="1511"/>
                  </a:lnTo>
                  <a:lnTo>
                    <a:pt x="128" y="1475"/>
                  </a:lnTo>
                  <a:lnTo>
                    <a:pt x="128" y="1456"/>
                  </a:lnTo>
                  <a:lnTo>
                    <a:pt x="128" y="1420"/>
                  </a:lnTo>
                  <a:lnTo>
                    <a:pt x="128" y="1383"/>
                  </a:lnTo>
                  <a:lnTo>
                    <a:pt x="110" y="1365"/>
                  </a:lnTo>
                  <a:lnTo>
                    <a:pt x="110" y="1329"/>
                  </a:lnTo>
                  <a:lnTo>
                    <a:pt x="110" y="1293"/>
                  </a:lnTo>
                  <a:lnTo>
                    <a:pt x="110" y="1275"/>
                  </a:lnTo>
                  <a:lnTo>
                    <a:pt x="91" y="1238"/>
                  </a:lnTo>
                  <a:lnTo>
                    <a:pt x="91" y="1220"/>
                  </a:lnTo>
                  <a:lnTo>
                    <a:pt x="91" y="1184"/>
                  </a:lnTo>
                  <a:lnTo>
                    <a:pt x="91" y="1165"/>
                  </a:lnTo>
                  <a:lnTo>
                    <a:pt x="91" y="1146"/>
                  </a:lnTo>
                  <a:lnTo>
                    <a:pt x="91" y="1129"/>
                  </a:lnTo>
                  <a:lnTo>
                    <a:pt x="91" y="1110"/>
                  </a:lnTo>
                  <a:lnTo>
                    <a:pt x="91" y="1092"/>
                  </a:lnTo>
                  <a:lnTo>
                    <a:pt x="91" y="1074"/>
                  </a:lnTo>
                  <a:lnTo>
                    <a:pt x="91" y="1055"/>
                  </a:lnTo>
                  <a:lnTo>
                    <a:pt x="91" y="1037"/>
                  </a:lnTo>
                  <a:lnTo>
                    <a:pt x="110" y="1037"/>
                  </a:lnTo>
                  <a:lnTo>
                    <a:pt x="110" y="1019"/>
                  </a:lnTo>
                  <a:lnTo>
                    <a:pt x="110" y="1001"/>
                  </a:lnTo>
                  <a:lnTo>
                    <a:pt x="110" y="982"/>
                  </a:lnTo>
                  <a:lnTo>
                    <a:pt x="110" y="966"/>
                  </a:lnTo>
                  <a:lnTo>
                    <a:pt x="110" y="947"/>
                  </a:lnTo>
                  <a:lnTo>
                    <a:pt x="128" y="928"/>
                  </a:lnTo>
                  <a:lnTo>
                    <a:pt x="128" y="911"/>
                  </a:lnTo>
                  <a:lnTo>
                    <a:pt x="128" y="892"/>
                  </a:lnTo>
                  <a:lnTo>
                    <a:pt x="128" y="856"/>
                  </a:lnTo>
                  <a:lnTo>
                    <a:pt x="128" y="838"/>
                  </a:lnTo>
                  <a:lnTo>
                    <a:pt x="128" y="819"/>
                  </a:lnTo>
                  <a:lnTo>
                    <a:pt x="128" y="801"/>
                  </a:lnTo>
                  <a:lnTo>
                    <a:pt x="128" y="764"/>
                  </a:lnTo>
                  <a:lnTo>
                    <a:pt x="110" y="747"/>
                  </a:lnTo>
                  <a:lnTo>
                    <a:pt x="110" y="709"/>
                  </a:lnTo>
                  <a:lnTo>
                    <a:pt x="110" y="692"/>
                  </a:lnTo>
                  <a:lnTo>
                    <a:pt x="110" y="673"/>
                  </a:lnTo>
                  <a:lnTo>
                    <a:pt x="110" y="637"/>
                  </a:lnTo>
                  <a:lnTo>
                    <a:pt x="110" y="618"/>
                  </a:lnTo>
                  <a:lnTo>
                    <a:pt x="110" y="601"/>
                  </a:lnTo>
                  <a:lnTo>
                    <a:pt x="91" y="565"/>
                  </a:lnTo>
                  <a:lnTo>
                    <a:pt x="91" y="546"/>
                  </a:lnTo>
                  <a:lnTo>
                    <a:pt x="91" y="528"/>
                  </a:lnTo>
                  <a:lnTo>
                    <a:pt x="74" y="491"/>
                  </a:lnTo>
                  <a:lnTo>
                    <a:pt x="74" y="473"/>
                  </a:lnTo>
                  <a:lnTo>
                    <a:pt x="74" y="455"/>
                  </a:lnTo>
                  <a:lnTo>
                    <a:pt x="55" y="437"/>
                  </a:lnTo>
                  <a:lnTo>
                    <a:pt x="55" y="418"/>
                  </a:lnTo>
                  <a:lnTo>
                    <a:pt x="36" y="400"/>
                  </a:lnTo>
                  <a:lnTo>
                    <a:pt x="36" y="382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4502160" y="554040"/>
            <a:ext cx="34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onent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D806-4FDC-4ABE-880B-B0A217D684D7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seline and private workspa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ct basel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 repository of reviewed and approved artifacts that represent a given stable point in system develop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vate worksp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and intermediate version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A34B-AEAF-4927-8410-D22CCE0A3821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refin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 version supersedes the previ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a linear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implementations of the same specification for different machin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or access to different I/O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397A-6C8D-476B-B34A-C95EB37FD020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ed 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logical relations may exist among versions of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mponent may be derived from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code component is a derived version of a source code compon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33CA-6E10-4DEC-91EB-7431721FE617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4C60-E3A1-4B39-907C-62E1A3E2CD24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tandard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are needed to achieve quality in both software products and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y be imposed internally or extern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 2167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mposed to contractors for military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examples: ISO series, IE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AAFE-2EE2-4EEE-86FD-B2ED8E11222C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model goals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B. Boehm 1988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8000" y="1676520"/>
            <a:ext cx="8840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"determine the order of stages involved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velopment and evolutio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 to establish the transition criteria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essing from one stage to the nex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se include completion criteria for the curr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age plus choice criteria and entrance criter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the next stage. Thus a process model addr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ollowing software project ques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shall we do nex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ow long shall we continue to do it?"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786D-691D-4F27-87DE-774EC9D9D2D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 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develop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andards enforce a uniform behavior within an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facilitate communication among people, stabilizes the production process, and makes it easier to add new people to ongoing pro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custom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ke it easier to assess the progress and quality of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reduce the strict dependency of customers on specific contra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BA55-B81B-4E82-B453-076626F98B59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 with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eezing premature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hibit acceptance of new id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s prolif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-facto standards vs. official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EC89-232B-436E-80CE-283E7F6CD598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black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227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require2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534160" cy="357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753C-6755-4B36-A2AF-7B4ACB33D19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8T08:37:01Z</dcterms:created>
  <dc:creator>Carlo Ghezzi</dc:creator>
  <dc:description/>
  <dc:language>en-US</dc:language>
  <cp:lastModifiedBy>jazayeri</cp:lastModifiedBy>
  <dcterms:modified xsi:type="dcterms:W3CDTF">2002-02-19T18:17:03Z</dcterms:modified>
  <cp:revision>21</cp:revision>
  <dc:subject/>
  <dc:title>The software production process</dc:title>
</cp:coreProperties>
</file>