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B8E97-95E3-4286-836B-553DBC838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31CA6-276D-490F-B718-206616725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2EDAF-492B-467B-87E9-B62D9E8C3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30B58-06AA-4487-BF5E-2E8F548C8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1E013-9337-4DE0-B1DF-EB6A4140D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82602-C98A-40B5-A259-ABB7A5D39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57CE9-25E1-41D7-8346-B97ECC81E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734FE-8574-481E-9526-EDCC1EB39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1E038-3570-4CA5-BA41-710615FDB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2009F-471B-4E71-9BA5-216A49FF1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8634C-B2E5-4FA1-9D29-1180A173E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1F5A5-69B4-43A1-8B70-0F8EC4A1A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9E120-22DA-4061-B9C2-948D0BA07C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447920" y="1676520"/>
            <a:ext cx="6003720" cy="341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7T15:17:48Z</dcterms:created>
  <dc:creator>Spencer Smith</dc:creator>
  <dc:description/>
  <dc:language>en-US</dc:language>
  <cp:lastModifiedBy>Spencer Smith</cp:lastModifiedBy>
  <dcterms:modified xsi:type="dcterms:W3CDTF">2008-02-27T15:18:27Z</dcterms:modified>
  <cp:revision>1</cp:revision>
  <dc:subject/>
  <dc:title>PowerPoint Presentation</dc:title>
</cp:coreProperties>
</file>