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8CFDC-B6CC-445B-96DE-A3C8B2B0B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1BC53-D69D-4E8D-9D74-4090EFD3D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8FA6B-AF68-45FC-9C6D-C4D2592AD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301C6-28D2-43FE-8659-6A9ABD2D5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5F0B0-2145-4E1D-904A-2CA6A7F74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FF36E-A9BF-41E9-85B2-229F87000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D3E54-3414-4C63-AE98-4E7561A33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CF37A-CA4E-466F-A9A5-8DC3BE76F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333B2-4846-4E35-96BF-0F2C701EE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E87F6-09AF-4A4A-AD4B-8CEC492F2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932B7-ACE8-4D86-95A7-6D3052F22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86552-0800-49C1-9B4D-D0B54990E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879E1-A5AC-4C50-9525-E13343CE29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219320" y="468360"/>
            <a:ext cx="6997680" cy="58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22:21Z</dcterms:modified>
  <cp:revision>1</cp:revision>
  <dc:subject/>
  <dc:title>PowerPoint Presentation</dc:title>
</cp:coreProperties>
</file>