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6.wmf" ContentType="image/x-wmf"/>
  <Override PartName="/ppt/media/image29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wmf" ContentType="image/x-wmf"/>
  <Override PartName="/ppt/media/image27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30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1DDC-3759-4F6F-B2E8-5C1162C66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239D-260D-427C-91A8-821F60FAA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6094-2204-47B3-BA6F-EFD0C39AB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B08F-FC62-4F11-8E16-3E6A8F922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BE83-C0B2-4202-87B1-45FE84535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FA9B-B780-47B1-93AE-CD801EED0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CD78-53DB-4E30-BE29-A5073D2DD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5D2A-309F-4361-9288-5CCECE7CE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EFEF-58CB-4A85-AFC7-8EC521879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D83B-E31F-458E-8B55-33A8BB6A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782D-A216-45CD-B05C-F6700381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18BB-E1F2-4985-90D4-696E3A2A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91020-AEDA-4FBC-A442-6B7FAFA777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nd 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7A8E-F0F4-402D-9AAB-C0EFDC5A5F3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underlying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lease of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optimizing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version of DB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peripheral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"social"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tax reg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URO vs national currency in E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due to development process (transform prototype into produ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A274-F937-40D3-B36F-44DF85778AD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ddle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yer residing between the network operating system and the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building network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s useful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me services, to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processes or resources on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services, such as message passing or RPC (or RMI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F3E7-ADAF-4130-85E9-13225EE4125D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-oriented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kind of module, ADT,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lass exports operations (procedures) to manipulate instance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nce objects accessible via re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10FB-8063-4B04-BF0A-94FC567A5147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ctic change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need to export opaque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name used to declar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 is a reference to a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op (params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C570-0821-4FF7-9614-5E18F6BAA023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urther relation: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Ts may be organized in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B may specialize class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inherits from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rsely, A generaliz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superclass of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 is a subclass of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B7FB-CA64-4651-BBB8-A724A3E95119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193500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0" y="1371600"/>
          <a:ext cx="8763120" cy="707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8763120" cy="707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5EF8-B0A8-4856-BBFB-5CD4BC406761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93500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864560" cy="39528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FAE5-2B31-410D-8851-620D29061FBD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ay of building software increment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ubclass defines a sub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type i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ubstitut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ymorph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variable referring to type A can refer to an object of type B if B is a subclass of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 bind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ethod invoked through a reference depends on the type of the object associated with the reference at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DB8A-D904-450A-881F-AA14F40B5AF1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inheritance be represented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introducing the UM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ML (Unified Modeling Language) is a widely adopted standard notation for representing OO desig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the UML class dia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es are described by bo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060E-33EE-4816-972A-6A354632664F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representation of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353360" cy="396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A392-84AD-4106-82D0-E5F7EB43EBEA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associ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ociations are relations that the implementation is required to sup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hav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icity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>
            <a:off x="194328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-685800" y="3048120"/>
            <a:ext cx="11658600" cy="354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3BE1-EC2F-46BD-B4FA-460F9051CB3F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versions of the sam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mily of mobile ph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s of the family may differ in network standards, end-user interaction languages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cility reservat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hotels: reserve rooms, restaurant, conference space, …, equipment (video beamers, overhead projectors, 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y functionalities are similar, some are different (e.g., facilities may be free of charge or no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965C-C3E8-4458-B023-374DC1DD130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ggre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a PART_OF re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s from IS_COMPOSED_O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e TRANGLE has its own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mplicitly uses POINT to defin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s data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419720" cy="294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EC4A-AE8D-40D7-90DC-1AB088922AFB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UM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resentation of IS_COMPONENT_OF via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cka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1981080" y="3048120"/>
            <a:ext cx="5257800" cy="35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F35D-D852-4C00-A0BD-AAEC9CBA9E8E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s overall system organization and structure in terms of its major constituents and their interaction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architectures can be iden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 based (publish-subscrib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63C1-89D4-4367-9EF2-3B9AD90257C8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ndard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>
            <a:off x="18669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0" y="1752480"/>
          <a:ext cx="6934320" cy="419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6934320" cy="41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"/>
          <p:cNvSpPr/>
          <p:nvPr/>
        </p:nvSpPr>
        <p:spPr>
          <a:xfrm>
            <a:off x="6347880" y="182880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95960" y="480060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12360" y="308124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2CFB-2881-4952-A415-53EA7077FDB0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main specific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"/>
          <p:cNvSpPr/>
          <p:nvPr/>
        </p:nvSpPr>
        <p:spPr>
          <a:xfrm>
            <a:off x="839880" y="2057400"/>
            <a:ext cx="741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–view–controller" architecture for soft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has a significant amount of user interactio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0504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457200" y="3092400"/>
            <a:ext cx="7467480" cy="319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5919-437B-4CF5-80C3-AFFEC50F03E4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compon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systems out of pre-existing librarie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most mature engineering areas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L for C+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Beans and Swing for 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D7D3-5EB7-4D31-8E05-FCD936356365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onent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RBA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Object Request Broker Architectu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iddle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and servers connected via an Object Request Broker (OR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vided by servers defined by an Interface Definition Language (ID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Microsoft world: DCOM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tributed Component Object Mode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96F0-42F2-4121-9F87-77BFDFE14F16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RBA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"/>
          <p:cNvSpPr/>
          <p:nvPr/>
        </p:nvSpPr>
        <p:spPr>
          <a:xfrm>
            <a:off x="198108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620120" cy="414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CF23-343D-42B7-BB49-281AA7C86006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chitectures for distributed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two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-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three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"/>
          <p:cNvSpPr/>
          <p:nvPr/>
        </p:nvSpPr>
        <p:spPr>
          <a:xfrm>
            <a:off x="179064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600200" y="2286000"/>
          <a:ext cx="7086600" cy="38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86000"/>
                    <a:ext cx="7086600" cy="38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84FF-4804-4841-89D7-363E371C6FAB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goal for fami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the whole family as one system, not each individual member of the family separat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0116-A60D-4DCA-BCC3-0064B8D8F11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wrong wa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irst member of product fami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ify existing software to get next member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9833-28ED-4359-B8EE-C10A0804DD5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2378160" y="69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10920" y="1676520"/>
            <a:ext cx="1419480" cy="3932280"/>
            <a:chOff x="610920" y="1676520"/>
            <a:chExt cx="1419480" cy="3932280"/>
          </a:xfrm>
        </p:grpSpPr>
        <p:sp>
          <p:nvSpPr>
            <p:cNvPr id="75" name=""/>
            <p:cNvSpPr/>
            <p:nvPr/>
          </p:nvSpPr>
          <p:spPr>
            <a:xfrm>
              <a:off x="610920" y="167652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93520" y="2430360"/>
              <a:ext cx="586080" cy="542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93520" y="3533760"/>
              <a:ext cx="586080" cy="55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93520" y="4656240"/>
              <a:ext cx="586080" cy="55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1085760" y="1998720"/>
              <a:ext cx="145800" cy="405720"/>
              <a:chOff x="1085760" y="1998720"/>
              <a:chExt cx="145800" cy="405720"/>
            </a:xfrm>
          </p:grpSpPr>
          <p:sp>
            <p:nvSpPr>
              <p:cNvPr id="80" name=""/>
              <p:cNvSpPr/>
              <p:nvPr/>
            </p:nvSpPr>
            <p:spPr>
              <a:xfrm>
                <a:off x="1085760" y="216792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177200" y="1998720"/>
                <a:ext cx="252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1085760" y="2982960"/>
              <a:ext cx="145800" cy="524520"/>
              <a:chOff x="1085760" y="2982960"/>
              <a:chExt cx="145800" cy="524520"/>
            </a:xfrm>
          </p:grpSpPr>
          <p:sp>
            <p:nvSpPr>
              <p:cNvPr id="83" name=""/>
              <p:cNvSpPr/>
              <p:nvPr/>
            </p:nvSpPr>
            <p:spPr>
              <a:xfrm>
                <a:off x="1085760" y="327096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77200" y="2982960"/>
                <a:ext cx="252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1085760" y="4084560"/>
              <a:ext cx="145800" cy="545760"/>
              <a:chOff x="1085760" y="4084560"/>
              <a:chExt cx="145800" cy="545760"/>
            </a:xfrm>
          </p:grpSpPr>
          <p:sp>
            <p:nvSpPr>
              <p:cNvPr id="86" name=""/>
              <p:cNvSpPr/>
              <p:nvPr/>
            </p:nvSpPr>
            <p:spPr>
              <a:xfrm>
                <a:off x="1085760" y="4392360"/>
                <a:ext cx="145800" cy="237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177200" y="4084560"/>
                <a:ext cx="2520" cy="32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1065960" y="2506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65960" y="3610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86480" y="4732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8200" y="533412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263600" y="5791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496400" y="1600200"/>
            <a:ext cx="4494240" cy="4343400"/>
            <a:chOff x="4496400" y="1600200"/>
            <a:chExt cx="4494240" cy="4343400"/>
          </a:xfrm>
        </p:grpSpPr>
        <p:sp>
          <p:nvSpPr>
            <p:cNvPr id="94" name=""/>
            <p:cNvSpPr/>
            <p:nvPr/>
          </p:nvSpPr>
          <p:spPr>
            <a:xfrm>
              <a:off x="5258160" y="40384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5562360" y="5029200"/>
              <a:ext cx="447120" cy="420120"/>
              <a:chOff x="5562360" y="5029200"/>
              <a:chExt cx="447120" cy="420120"/>
            </a:xfrm>
          </p:grpSpPr>
          <p:sp>
            <p:nvSpPr>
              <p:cNvPr id="96" name=""/>
              <p:cNvSpPr/>
              <p:nvPr/>
            </p:nvSpPr>
            <p:spPr>
              <a:xfrm>
                <a:off x="5562360" y="5292000"/>
                <a:ext cx="15768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5706720" y="5029200"/>
                <a:ext cx="30276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4496400" y="54864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30520" y="5427720"/>
              <a:ext cx="434880" cy="4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56160" y="5499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0208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91080" y="2184120"/>
              <a:ext cx="433440" cy="42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91080" y="303840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1080" y="390528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6529320" y="1849320"/>
              <a:ext cx="104400" cy="315720"/>
              <a:chOff x="6529320" y="1849320"/>
              <a:chExt cx="104400" cy="315720"/>
            </a:xfrm>
          </p:grpSpPr>
          <p:sp>
            <p:nvSpPr>
              <p:cNvPr id="106" name=""/>
              <p:cNvSpPr/>
              <p:nvPr/>
            </p:nvSpPr>
            <p:spPr>
              <a:xfrm>
                <a:off x="6529320" y="19810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594840" y="1849320"/>
                <a:ext cx="180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6529320" y="2611440"/>
              <a:ext cx="104400" cy="407520"/>
              <a:chOff x="6529320" y="2611440"/>
              <a:chExt cx="104400" cy="407520"/>
            </a:xfrm>
          </p:grpSpPr>
          <p:sp>
            <p:nvSpPr>
              <p:cNvPr id="109" name=""/>
              <p:cNvSpPr/>
              <p:nvPr/>
            </p:nvSpPr>
            <p:spPr>
              <a:xfrm>
                <a:off x="6529320" y="283500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594840" y="2611440"/>
                <a:ext cx="1800" cy="23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6529320" y="3465360"/>
              <a:ext cx="104400" cy="420480"/>
              <a:chOff x="6529320" y="3465360"/>
              <a:chExt cx="104400" cy="420480"/>
            </a:xfrm>
          </p:grpSpPr>
          <p:sp>
            <p:nvSpPr>
              <p:cNvPr id="112" name=""/>
              <p:cNvSpPr/>
              <p:nvPr/>
            </p:nvSpPr>
            <p:spPr>
              <a:xfrm>
                <a:off x="6529320" y="37018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594840" y="3465360"/>
                <a:ext cx="1800" cy="24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6516360" y="2243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16360" y="3097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516360" y="3963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213240" y="4332240"/>
              <a:ext cx="379800" cy="382320"/>
              <a:chOff x="6213240" y="4332240"/>
              <a:chExt cx="379800" cy="382320"/>
            </a:xfrm>
          </p:grpSpPr>
          <p:sp>
            <p:nvSpPr>
              <p:cNvPr id="118" name=""/>
              <p:cNvSpPr/>
              <p:nvPr/>
            </p:nvSpPr>
            <p:spPr>
              <a:xfrm>
                <a:off x="6213240" y="4570560"/>
                <a:ext cx="144000" cy="14400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0" y="66"/>
                    </a:moveTo>
                    <a:lnTo>
                      <a:pt x="42" y="0"/>
                    </a:lnTo>
                    <a:lnTo>
                      <a:pt x="54" y="12"/>
                    </a:lnTo>
                    <a:lnTo>
                      <a:pt x="66" y="24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6330600" y="4332240"/>
                <a:ext cx="262440" cy="26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5943240" y="464796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67480" y="5522760"/>
              <a:ext cx="434880" cy="420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6594120" y="4332240"/>
              <a:ext cx="382320" cy="396360"/>
              <a:chOff x="6594120" y="4332240"/>
              <a:chExt cx="382320" cy="396360"/>
            </a:xfrm>
          </p:grpSpPr>
          <p:sp>
            <p:nvSpPr>
              <p:cNvPr id="123" name=""/>
              <p:cNvSpPr/>
              <p:nvPr/>
            </p:nvSpPr>
            <p:spPr>
              <a:xfrm>
                <a:off x="6818040" y="4571280"/>
                <a:ext cx="15840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72" y="72"/>
                    </a:moveTo>
                    <a:lnTo>
                      <a:pt x="0" y="30"/>
                    </a:lnTo>
                    <a:lnTo>
                      <a:pt x="18" y="12"/>
                    </a:lnTo>
                    <a:lnTo>
                      <a:pt x="30" y="0"/>
                    </a:lnTo>
                    <a:lnTo>
                      <a:pt x="7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594120" y="4332240"/>
                <a:ext cx="263520" cy="27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6891120" y="4708440"/>
              <a:ext cx="4190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7250040" y="5095800"/>
              <a:ext cx="407160" cy="420120"/>
              <a:chOff x="7250040" y="5095800"/>
              <a:chExt cx="407160" cy="420120"/>
            </a:xfrm>
          </p:grpSpPr>
          <p:sp>
            <p:nvSpPr>
              <p:cNvPr id="127" name=""/>
              <p:cNvSpPr/>
              <p:nvPr/>
            </p:nvSpPr>
            <p:spPr>
              <a:xfrm>
                <a:off x="7499880" y="5345280"/>
                <a:ext cx="157320" cy="170640"/>
              </a:xfrm>
              <a:custGeom>
                <a:avLst/>
                <a:gdLst/>
                <a:ahLst/>
                <a:rect l="l" t="t" r="r" b="b"/>
                <a:pathLst>
                  <a:path w="72" h="78">
                    <a:moveTo>
                      <a:pt x="72" y="78"/>
                    </a:moveTo>
                    <a:lnTo>
                      <a:pt x="0" y="30"/>
                    </a:lnTo>
                    <a:lnTo>
                      <a:pt x="12" y="18"/>
                    </a:lnTo>
                    <a:lnTo>
                      <a:pt x="30" y="0"/>
                    </a:lnTo>
                    <a:lnTo>
                      <a:pt x="72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250040" y="5095800"/>
                <a:ext cx="28908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7068960" y="4821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92760" y="55958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26920" y="559584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371600" y="1600200"/>
            <a:ext cx="3399120" cy="4647960"/>
            <a:chOff x="1371600" y="1600200"/>
            <a:chExt cx="3399120" cy="4647960"/>
          </a:xfrm>
        </p:grpSpPr>
        <p:sp>
          <p:nvSpPr>
            <p:cNvPr id="133" name=""/>
            <p:cNvSpPr/>
            <p:nvPr/>
          </p:nvSpPr>
          <p:spPr>
            <a:xfrm>
              <a:off x="3276720" y="5105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124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92440" y="2235240"/>
              <a:ext cx="503280" cy="45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92440" y="3160440"/>
              <a:ext cx="503280" cy="471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92440" y="4103640"/>
              <a:ext cx="503280" cy="47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3757680" y="1871640"/>
              <a:ext cx="124920" cy="340920"/>
              <a:chOff x="3757680" y="1871640"/>
              <a:chExt cx="124920" cy="340920"/>
            </a:xfrm>
          </p:grpSpPr>
          <p:sp>
            <p:nvSpPr>
              <p:cNvPr id="139" name=""/>
              <p:cNvSpPr/>
              <p:nvPr/>
            </p:nvSpPr>
            <p:spPr>
              <a:xfrm>
                <a:off x="3757680" y="2013840"/>
                <a:ext cx="124920" cy="1987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835800" y="1871640"/>
                <a:ext cx="2160" cy="15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3757680" y="2697120"/>
              <a:ext cx="124920" cy="442080"/>
              <a:chOff x="3757680" y="2697120"/>
              <a:chExt cx="124920" cy="442080"/>
            </a:xfrm>
          </p:grpSpPr>
          <p:sp>
            <p:nvSpPr>
              <p:cNvPr id="142" name=""/>
              <p:cNvSpPr/>
              <p:nvPr/>
            </p:nvSpPr>
            <p:spPr>
              <a:xfrm>
                <a:off x="3757680" y="2939760"/>
                <a:ext cx="124920" cy="19944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835800" y="2697120"/>
                <a:ext cx="2160" cy="25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3757680" y="3624120"/>
              <a:ext cx="124920" cy="458280"/>
              <a:chOff x="3757680" y="3624120"/>
              <a:chExt cx="124920" cy="458280"/>
            </a:xfrm>
          </p:grpSpPr>
          <p:sp>
            <p:nvSpPr>
              <p:cNvPr id="145" name=""/>
              <p:cNvSpPr/>
              <p:nvPr/>
            </p:nvSpPr>
            <p:spPr>
              <a:xfrm>
                <a:off x="3757680" y="3882600"/>
                <a:ext cx="124920" cy="19980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835800" y="3624120"/>
                <a:ext cx="2160" cy="27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3741840" y="2298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41840" y="3225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41840" y="4168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3429000" y="4566960"/>
              <a:ext cx="407520" cy="537480"/>
              <a:chOff x="3429000" y="4566960"/>
              <a:chExt cx="407520" cy="537480"/>
            </a:xfrm>
          </p:grpSpPr>
          <p:sp>
            <p:nvSpPr>
              <p:cNvPr id="151" name=""/>
              <p:cNvSpPr/>
              <p:nvPr/>
            </p:nvSpPr>
            <p:spPr>
              <a:xfrm>
                <a:off x="3429000" y="4896360"/>
                <a:ext cx="155520" cy="208080"/>
              </a:xfrm>
              <a:custGeom>
                <a:avLst/>
                <a:gdLst/>
                <a:ahLst/>
                <a:rect l="l" t="t" r="r" b="b"/>
                <a:pathLst>
                  <a:path w="78" h="72">
                    <a:moveTo>
                      <a:pt x="0" y="72"/>
                    </a:moveTo>
                    <a:lnTo>
                      <a:pt x="48" y="0"/>
                    </a:lnTo>
                    <a:lnTo>
                      <a:pt x="60" y="12"/>
                    </a:lnTo>
                    <a:lnTo>
                      <a:pt x="78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3560760" y="4566960"/>
                <a:ext cx="27576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3073320" y="5030640"/>
              <a:ext cx="519120" cy="46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71600" y="59436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2805120" y="5395680"/>
              <a:ext cx="323640" cy="304560"/>
              <a:chOff x="2805120" y="5395680"/>
              <a:chExt cx="323640" cy="304560"/>
            </a:xfrm>
          </p:grpSpPr>
          <p:sp>
            <p:nvSpPr>
              <p:cNvPr id="156" name=""/>
              <p:cNvSpPr/>
              <p:nvPr/>
            </p:nvSpPr>
            <p:spPr>
              <a:xfrm>
                <a:off x="2805120" y="5586120"/>
                <a:ext cx="114120" cy="1141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2909880" y="5395680"/>
                <a:ext cx="218880" cy="21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2438280" y="5715000"/>
              <a:ext cx="53352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66880" y="5867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43920" y="38098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4724280" y="3352680"/>
            <a:ext cx="685800" cy="533520"/>
          </a:xfrm>
          <a:custGeom>
            <a:avLst/>
            <a:gdLst>
              <a:gd name="textAreaLeft" fmla="*/ 106920 w 685800"/>
              <a:gd name="textAreaRight" fmla="*/ 600120 w 6858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828800" y="3352680"/>
            <a:ext cx="1682280" cy="2121120"/>
            <a:chOff x="1828800" y="3352680"/>
            <a:chExt cx="1682280" cy="2121120"/>
          </a:xfrm>
        </p:grpSpPr>
        <p:sp>
          <p:nvSpPr>
            <p:cNvPr id="163" name=""/>
            <p:cNvSpPr/>
            <p:nvPr/>
          </p:nvSpPr>
          <p:spPr>
            <a:xfrm>
              <a:off x="1828800" y="3352680"/>
              <a:ext cx="685800" cy="533520"/>
            </a:xfrm>
            <a:custGeom>
              <a:avLst/>
              <a:gdLst>
                <a:gd name="textAreaLeft" fmla="*/ 106920 w 685800"/>
                <a:gd name="textAreaRight" fmla="*/ 600120 w 685800"/>
                <a:gd name="textAreaTop" fmla="*/ 133200 h 533520"/>
                <a:gd name="textAreaBottom" fmla="*/ 40032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2b2b2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99320" y="510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731520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9152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54680" y="2362320"/>
            <a:ext cx="130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medi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18840" y="3352680"/>
            <a:ext cx="84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47A5-A7C9-45F3-97F2-1F66960F3B9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o bett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e definition of all family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what is common to all family members, delay decisions that differentiate among different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ill learn how to manage change in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253E-319B-48EA-91AE-C186CB6778E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ll-defined component of a softwar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art of a system that provides a set of services to other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s are computational elements that other modules may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5329-15BE-4FE6-9749-18D0C0CA688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 the structure of a modular syste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desirable properties of that structu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075B-6F24-444F-8F86-24136CFD7F2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s and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S be a set of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= {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. . .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inary relation r on S is a subset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x 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re in S, &lt;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 can be written a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089C-D5A8-4FE8-BF94-A76534F4079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ve closure 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f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S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e assume our relations to be irreflex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is a hierarchy iff there are no two element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FA2C-E937-4010-97C0-C8F3CF1553D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design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How can a system b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decompo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into modu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is 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module’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are the main relationships among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ominent software design techniqu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and i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nformation hi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he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UML collectio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f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no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of c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oncurr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and distribute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chitectural sty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 based softwar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188E-7684-4D48-A952-419965DA53C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represented as graph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hierarchy is a DAG (directed acyclic grap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90720" y="2687760"/>
          <a:ext cx="7315200" cy="41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687760"/>
                    <a:ext cx="7315200" cy="41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74960" y="346248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05200" y="396252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AC45-A745-4889-8468-AABCEF6FFDA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us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requires the correct operation 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an access the services exported by B through it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“statically”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pends on B to provide it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A calls a routine exported by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client of B; B is a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CB85-AC78-4BB8-B399-9DB1A51A7C2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rable proper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should be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erarchy makes software easier to underst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can proceed from leaf nodes (who do not use others) up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bui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B13F-345E-431F-8E94-A17DA626E34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es the modular structure through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levels of 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level defines 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bstract (virtual)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the next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eve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precis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0 if no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ists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k be the maximum level of all nodes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k+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2446-9119-4F67-B3D5-AF3D63D6934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_COMPONENT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scribe a higher level module as constituted by a number of lower level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IS_COMPONENT_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onsists of several modules, of which one is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OMPRISE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{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_COMPONENT_OF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say that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E307-8B75-410D-BDBB-0D87739A812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2019240" y="246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09840" y="1828800"/>
            <a:ext cx="7807320" cy="3559680"/>
            <a:chOff x="609840" y="1828800"/>
            <a:chExt cx="7807320" cy="3559680"/>
          </a:xfrm>
        </p:grpSpPr>
        <p:sp>
          <p:nvSpPr>
            <p:cNvPr id="196" name=""/>
            <p:cNvSpPr/>
            <p:nvPr/>
          </p:nvSpPr>
          <p:spPr>
            <a:xfrm>
              <a:off x="7029720" y="19476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25148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614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019000" y="320508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7112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3640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120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186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2332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0368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260920" y="33238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7200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918200" y="4271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12880" y="43192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590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432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506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1160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6323040" y="2445840"/>
              <a:ext cx="687240" cy="829080"/>
              <a:chOff x="6323040" y="2445840"/>
              <a:chExt cx="687240" cy="829080"/>
            </a:xfrm>
          </p:grpSpPr>
          <p:sp>
            <p:nvSpPr>
              <p:cNvPr id="215" name=""/>
              <p:cNvSpPr/>
              <p:nvPr/>
            </p:nvSpPr>
            <p:spPr>
              <a:xfrm>
                <a:off x="6323040" y="301464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6485040" y="2445840"/>
                <a:ext cx="525240" cy="615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7151760" y="2468160"/>
              <a:ext cx="120600" cy="830520"/>
              <a:chOff x="7151760" y="2468160"/>
              <a:chExt cx="120600" cy="830520"/>
            </a:xfrm>
          </p:grpSpPr>
          <p:sp>
            <p:nvSpPr>
              <p:cNvPr id="218" name=""/>
              <p:cNvSpPr/>
              <p:nvPr/>
            </p:nvSpPr>
            <p:spPr>
              <a:xfrm>
                <a:off x="7151760" y="301464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7211880" y="2468160"/>
                <a:ext cx="180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53360" y="2468520"/>
              <a:ext cx="584280" cy="736560"/>
              <a:chOff x="7353360" y="2468520"/>
              <a:chExt cx="584280" cy="736560"/>
            </a:xfrm>
          </p:grpSpPr>
          <p:sp>
            <p:nvSpPr>
              <p:cNvPr id="221" name=""/>
              <p:cNvSpPr/>
              <p:nvPr/>
            </p:nvSpPr>
            <p:spPr>
              <a:xfrm>
                <a:off x="7716960" y="2943000"/>
                <a:ext cx="220680" cy="262080"/>
              </a:xfrm>
              <a:custGeom>
                <a:avLst/>
                <a:gdLst/>
                <a:ahLst/>
                <a:rect l="l" t="t" r="r" b="b"/>
                <a:pathLst>
                  <a:path w="139" h="165">
                    <a:moveTo>
                      <a:pt x="139" y="165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39" y="1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353360" y="2468520"/>
                <a:ext cx="40320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5232240" y="3584520"/>
              <a:ext cx="849240" cy="544320"/>
              <a:chOff x="5232240" y="3584520"/>
              <a:chExt cx="849240" cy="544320"/>
            </a:xfrm>
          </p:grpSpPr>
          <p:sp>
            <p:nvSpPr>
              <p:cNvPr id="224" name=""/>
              <p:cNvSpPr/>
              <p:nvPr/>
            </p:nvSpPr>
            <p:spPr>
              <a:xfrm>
                <a:off x="5232240" y="3916080"/>
                <a:ext cx="222480" cy="212760"/>
              </a:xfrm>
              <a:custGeom>
                <a:avLst/>
                <a:gdLst/>
                <a:ahLst/>
                <a:rect l="l" t="t" r="r" b="b"/>
                <a:pathLst>
                  <a:path w="140" h="134">
                    <a:moveTo>
                      <a:pt x="0" y="134"/>
                    </a:moveTo>
                    <a:lnTo>
                      <a:pt x="115" y="0"/>
                    </a:lnTo>
                    <a:lnTo>
                      <a:pt x="128" y="45"/>
                    </a:lnTo>
                    <a:lnTo>
                      <a:pt x="140" y="75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5435280" y="3584520"/>
                <a:ext cx="64620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5859360" y="3584520"/>
              <a:ext cx="382680" cy="544320"/>
              <a:chOff x="5859360" y="3584520"/>
              <a:chExt cx="382680" cy="544320"/>
            </a:xfrm>
          </p:grpSpPr>
          <p:sp>
            <p:nvSpPr>
              <p:cNvPr id="227" name=""/>
              <p:cNvSpPr/>
              <p:nvPr/>
            </p:nvSpPr>
            <p:spPr>
              <a:xfrm>
                <a:off x="5859360" y="3844800"/>
                <a:ext cx="181080" cy="284040"/>
              </a:xfrm>
              <a:custGeom>
                <a:avLst/>
                <a:gdLst/>
                <a:ahLst/>
                <a:rect l="l" t="t" r="r" b="b"/>
                <a:pathLst>
                  <a:path w="114" h="179">
                    <a:moveTo>
                      <a:pt x="0" y="179"/>
                    </a:moveTo>
                    <a:lnTo>
                      <a:pt x="63" y="0"/>
                    </a:lnTo>
                    <a:lnTo>
                      <a:pt x="89" y="30"/>
                    </a:lnTo>
                    <a:lnTo>
                      <a:pt x="114" y="60"/>
                    </a:lnTo>
                    <a:lnTo>
                      <a:pt x="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6000840" y="3584520"/>
                <a:ext cx="241200" cy="307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262560" y="3608280"/>
              <a:ext cx="120600" cy="639720"/>
              <a:chOff x="6262560" y="3608280"/>
              <a:chExt cx="120600" cy="639720"/>
            </a:xfrm>
          </p:grpSpPr>
          <p:sp>
            <p:nvSpPr>
              <p:cNvPr id="230" name=""/>
              <p:cNvSpPr/>
              <p:nvPr/>
            </p:nvSpPr>
            <p:spPr>
              <a:xfrm>
                <a:off x="6262560" y="396396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323040" y="360828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7110360" y="3678120"/>
              <a:ext cx="120600" cy="546120"/>
              <a:chOff x="7110360" y="3678120"/>
              <a:chExt cx="120600" cy="546120"/>
            </a:xfrm>
          </p:grpSpPr>
          <p:sp>
            <p:nvSpPr>
              <p:cNvPr id="233" name=""/>
              <p:cNvSpPr/>
              <p:nvPr/>
            </p:nvSpPr>
            <p:spPr>
              <a:xfrm>
                <a:off x="7110360" y="3939840"/>
                <a:ext cx="120600" cy="28440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170840" y="3678120"/>
                <a:ext cx="1440" cy="261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7251840" y="3654360"/>
              <a:ext cx="504720" cy="546120"/>
              <a:chOff x="7251840" y="3654360"/>
              <a:chExt cx="504720" cy="546120"/>
            </a:xfrm>
          </p:grpSpPr>
          <p:sp>
            <p:nvSpPr>
              <p:cNvPr id="236" name=""/>
              <p:cNvSpPr/>
              <p:nvPr/>
            </p:nvSpPr>
            <p:spPr>
              <a:xfrm>
                <a:off x="7534080" y="3939840"/>
                <a:ext cx="222480" cy="26064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74"/>
                    </a:lnTo>
                    <a:lnTo>
                      <a:pt x="26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51840" y="3654360"/>
                <a:ext cx="323640" cy="333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1882800" y="3322440"/>
              <a:ext cx="685800" cy="830160"/>
              <a:chOff x="1882800" y="3322440"/>
              <a:chExt cx="685800" cy="830160"/>
            </a:xfrm>
          </p:grpSpPr>
          <p:sp>
            <p:nvSpPr>
              <p:cNvPr id="239" name=""/>
              <p:cNvSpPr/>
              <p:nvPr/>
            </p:nvSpPr>
            <p:spPr>
              <a:xfrm>
                <a:off x="2346120" y="3892320"/>
                <a:ext cx="222480" cy="26028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882800" y="3322440"/>
                <a:ext cx="503280" cy="6174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2709720" y="3298680"/>
              <a:ext cx="120600" cy="830160"/>
              <a:chOff x="2709720" y="3298680"/>
              <a:chExt cx="120600" cy="830160"/>
            </a:xfrm>
          </p:grpSpPr>
          <p:sp>
            <p:nvSpPr>
              <p:cNvPr id="242" name=""/>
              <p:cNvSpPr/>
              <p:nvPr/>
            </p:nvSpPr>
            <p:spPr>
              <a:xfrm>
                <a:off x="2709720" y="38448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770200" y="3298680"/>
                <a:ext cx="144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2911320" y="3394080"/>
              <a:ext cx="586080" cy="734760"/>
              <a:chOff x="2911320" y="3394080"/>
              <a:chExt cx="586080" cy="734760"/>
            </a:xfrm>
          </p:grpSpPr>
          <p:sp>
            <p:nvSpPr>
              <p:cNvPr id="245" name=""/>
              <p:cNvSpPr/>
              <p:nvPr/>
            </p:nvSpPr>
            <p:spPr>
              <a:xfrm>
                <a:off x="2911320" y="386856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3073320" y="3394080"/>
                <a:ext cx="42408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792000" y="2468520"/>
              <a:ext cx="847800" cy="546120"/>
              <a:chOff x="792000" y="2468520"/>
              <a:chExt cx="847800" cy="546120"/>
            </a:xfrm>
          </p:grpSpPr>
          <p:sp>
            <p:nvSpPr>
              <p:cNvPr id="248" name=""/>
              <p:cNvSpPr/>
              <p:nvPr/>
            </p:nvSpPr>
            <p:spPr>
              <a:xfrm>
                <a:off x="1396800" y="2801880"/>
                <a:ext cx="243000" cy="212760"/>
              </a:xfrm>
              <a:custGeom>
                <a:avLst/>
                <a:gdLst/>
                <a:ahLst/>
                <a:rect l="l" t="t" r="r" b="b"/>
                <a:pathLst>
                  <a:path w="153" h="134">
                    <a:moveTo>
                      <a:pt x="153" y="134"/>
                    </a:moveTo>
                    <a:lnTo>
                      <a:pt x="0" y="74"/>
                    </a:lnTo>
                    <a:lnTo>
                      <a:pt x="13" y="44"/>
                    </a:lnTo>
                    <a:lnTo>
                      <a:pt x="26" y="0"/>
                    </a:lnTo>
                    <a:lnTo>
                      <a:pt x="153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flipV="1">
                <a:off x="792000" y="2468520"/>
                <a:ext cx="62568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1417320" y="2468520"/>
              <a:ext cx="384480" cy="546120"/>
              <a:chOff x="1417320" y="2468520"/>
              <a:chExt cx="384480" cy="546120"/>
            </a:xfrm>
          </p:grpSpPr>
          <p:sp>
            <p:nvSpPr>
              <p:cNvPr id="251" name=""/>
              <p:cNvSpPr/>
              <p:nvPr/>
            </p:nvSpPr>
            <p:spPr>
              <a:xfrm>
                <a:off x="1600200" y="2730240"/>
                <a:ext cx="201600" cy="284400"/>
              </a:xfrm>
              <a:custGeom>
                <a:avLst/>
                <a:gdLst/>
                <a:ahLst/>
                <a:rect l="l" t="t" r="r" b="b"/>
                <a:pathLst>
                  <a:path w="127" h="179">
                    <a:moveTo>
                      <a:pt x="127" y="179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27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flipV="1">
                <a:off x="1417320" y="2468520"/>
                <a:ext cx="222120" cy="309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1820880" y="2350800"/>
              <a:ext cx="122040" cy="639720"/>
              <a:chOff x="1820880" y="2350800"/>
              <a:chExt cx="122040" cy="639720"/>
            </a:xfrm>
          </p:grpSpPr>
          <p:sp>
            <p:nvSpPr>
              <p:cNvPr id="254" name=""/>
              <p:cNvSpPr/>
              <p:nvPr/>
            </p:nvSpPr>
            <p:spPr>
              <a:xfrm>
                <a:off x="1820880" y="2706480"/>
                <a:ext cx="122040" cy="284040"/>
              </a:xfrm>
              <a:custGeom>
                <a:avLst/>
                <a:gdLst/>
                <a:ahLst/>
                <a:rect l="l" t="t" r="r" b="b"/>
                <a:pathLst>
                  <a:path w="77" h="179">
                    <a:moveTo>
                      <a:pt x="39" y="179"/>
                    </a:moveTo>
                    <a:lnTo>
                      <a:pt x="0" y="0"/>
                    </a:lnTo>
                    <a:lnTo>
                      <a:pt x="39" y="0"/>
                    </a:lnTo>
                    <a:lnTo>
                      <a:pt x="77" y="0"/>
                    </a:lnTo>
                    <a:lnTo>
                      <a:pt x="39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1882800" y="235080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2670120" y="2374560"/>
              <a:ext cx="120600" cy="544680"/>
              <a:chOff x="2670120" y="2374560"/>
              <a:chExt cx="120600" cy="544680"/>
            </a:xfrm>
          </p:grpSpPr>
          <p:sp>
            <p:nvSpPr>
              <p:cNvPr id="257" name=""/>
              <p:cNvSpPr/>
              <p:nvPr/>
            </p:nvSpPr>
            <p:spPr>
              <a:xfrm>
                <a:off x="2670120" y="26352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2730600" y="2374560"/>
                <a:ext cx="1440" cy="2606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2811600" y="2398320"/>
              <a:ext cx="502920" cy="544680"/>
              <a:chOff x="2811600" y="2398320"/>
              <a:chExt cx="502920" cy="544680"/>
            </a:xfrm>
          </p:grpSpPr>
          <p:sp>
            <p:nvSpPr>
              <p:cNvPr id="260" name=""/>
              <p:cNvSpPr/>
              <p:nvPr/>
            </p:nvSpPr>
            <p:spPr>
              <a:xfrm>
                <a:off x="2811600" y="268272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1" y="30"/>
                    </a:lnTo>
                    <a:lnTo>
                      <a:pt x="127" y="75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2971800" y="2398320"/>
                <a:ext cx="342720" cy="331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256896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3568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98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64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2116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6984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16040" y="2019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12520" y="20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587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429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80120" y="28731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22040" y="2990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8948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508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7716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6176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89480" y="41306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90360" y="4224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83680" y="4976640"/>
              <a:ext cx="295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IS_COMPONENT_OF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58080" y="5052960"/>
              <a:ext cx="1858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MPRISES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602800" y="5638680"/>
            <a:ext cx="38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y are a hier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5595-DC16-4E25-B715-04224B85244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eful recording of (hierarchical) USES relation and IS_COMPONENT_OF supports design of program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8E72-242F-462D-8E4D-D4F71D9CFB9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understand the nature of USES, we need to know what a used modul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rough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lien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resources that are exported by its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l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expor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dde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DC13-E2F7-4C52-B9F1-FB1218D0944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ear distinction between interface and implementation is a key design princi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care about resources exported from ser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s care abou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contract between a module and its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3CE9-D825-4B7E-B3B8-4D237620765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25448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09480" y="2705040"/>
            <a:ext cx="7285320" cy="3942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535400" y="2286000"/>
            <a:ext cx="54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is like the tip of the icebe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4EC2-9296-4926-BCEE-CB3387F6FBF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desig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structure to any artif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system into parts, assigns responsibilities, ensures that parts fit together to achieve a global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refers to both an activity and the result of the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93F6-EB2F-4161-AB15-77ADD409C2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s for design (i.e. module decomposi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ation secrets a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changed freely if the change does not affect the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lden design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FORMATION HI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ry to encapsulate changeable design decisions as implementation secrets within module implemen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6B4E-9A2B-4C27-B6A4-410ADAAAEC8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esign module interfac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esign of an interpreter for language MI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ntroduce a SYMBOL_TABL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perations t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an entry for a new variabl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 the value associated with a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T a new value for a given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ule hides the internal data structure of the symbol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ata structure may freely change without affecting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7663-5868-4C89-848F-321ACD14C2C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should not reveal what we expect may change la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should not reveal unnecessary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firewall preventing access to hidden p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61D9-53B4-40DA-9F93-FAF4483D30B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totyp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ce an interface is defined, implementation can be don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quickly but in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rogressively turned into the final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ial version acts as a prototype that evolves into the final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0815-3719-46D6-BEB5-054A8CD08B1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likely changes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olic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ay be separated from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echanis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ility to suspend and resume tasks in a concurrent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do we select the next task to resu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scheduling polici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may be hidden to cl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be encapsulated as module secr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FB75-F40A-47B7-BC3F-7668A294B09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s allow designs to be described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textual or grap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llustrate two sample notat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DN (Textu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DN (Graphic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the notations provided by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EDF2-18CE-4ABE-9A42-5D7868C9BB5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&amp; G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how a notation may help in documenting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what a generic notation may look li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representative of many proposed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DN inherits from modern languages, like Java, Ada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3BE3-D472-4A26-8459-4A3FAF6BE02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>
            <a:off x="20001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1809720"/>
            <a:ext cx="8591400" cy="456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0F5D-8F3F-4D36-8325-3E1915E776B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y be used to specify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be followed by the clients so that exported services are correctly provi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certain operation which does the initialization of the module should be called before any other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n insert operation cannot be called if the table is fu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3774-F27E-42C4-AE65-1D55AB273AC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>
            <a:off x="2152800" y="200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601040" cy="446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04E2-04B8-4220-80AD-68601622202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meanings of "design“ activity in our contex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acts as a bridge between requirements and the implementation of the softwar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gives a structure to the artifac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requirements specification document must b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given a structure that makes it easy to understand and evolv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BFA0-8E7A-47B9-8F44-2A733296D8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 helps describe a design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can be assessed for consist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ing defined module X, modules R and T must be defined eventu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complete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, T replace X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one or both must use Y, 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0B81-6FED-4155-99EB-7EE794F1A2A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35080" y="990720"/>
            <a:ext cx="8789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INI is called to compile the program stored in PR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 the object code in file CO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conventional compiler implement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R performs both lexical and syntactic analy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s an abstract tree, as well as entries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 table; CODE_GENERATOR generates co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rting from the abstract tree and information sto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symbol table. MAIN acts as a job coordinator.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s composed of ANALYZER, SYMBOL_TABL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, CODE_GENERATOR,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101A-0412-4A29-B99A-BAB327C6D5A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361440" y="762120"/>
            <a:ext cx="79545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AIN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ANALYZER, CODE_GENERATO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ANALYZ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ANALYZE (SOURCE: in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URCE is analyzed; an abstract tree is produc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y using the services provided by the tree handl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recognized entities, with their attributes,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d in the symbol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5AC1-3920-485F-A52A-011733D994B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499320" y="1752480"/>
            <a:ext cx="7373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CODE (OBJECT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bstract tree is traversed by using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 exported b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 and acces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formation stored in the symbol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order to generate code in the output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1B87-3B1E-47A1-B390-7E1C5172BB0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 of module 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6477120" cy="47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8F19-DFAF-4492-AAB3-AE96C1F01D6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's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89600" cy="495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04C2-7C65-44C4-92A8-0047896424E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form of modular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a procedural abstr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 a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rting module, fast Fourier transform module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A102-3845-4366-B98C-99618EBDD78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roup of related procedural abstr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mathematical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ed by routines of programming langu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pools of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hared by different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configuration const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MMON FORTRAN constru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1E2D-F69E-437B-9566-141C8913D7F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manipulated via interfac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tructu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data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instances of abstract objects may be gen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D829-15BB-411C-8E67-9976436F0595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object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alculator of expressions expressed in Polish postfix 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*(b+c)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bc+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mplements a stack where the values of operands are shifted until an operator is encountered in the exp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ssume only binary operato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D13B-A521-401E-8CAD-E0EDCB098C7A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w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 system decomposition into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es a Software Desig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system decomposition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e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archite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is produced prior to a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CE36-D19E-4008-B5EB-02EE27302B9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365760" y="3048120"/>
            <a:ext cx="827928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: in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: out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7200" y="2057400"/>
            <a:ext cx="64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of the abstract object 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FA17-2334-4339-911C-45DA7E87E57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es the design anticipate change in type of expressions to be evalu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it does not adapt to unary opera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1338-30BF-44F1-8824-6298404D4BD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data types (ADT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tack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"/>
          <p:cNvSpPr/>
          <p:nvPr/>
        </p:nvSpPr>
        <p:spPr>
          <a:xfrm>
            <a:off x="202392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-457200" y="2895480"/>
            <a:ext cx="9144000" cy="32943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 flipH="1">
            <a:off x="3657600" y="2895480"/>
            <a:ext cx="12952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54600" y="2209680"/>
            <a:ext cx="406224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that details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ucture are hid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D782-BF72-4413-9A5E-86967078078F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 to Java and C++ cl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pt may also be implemented by Ada private types and Modula-2 opaque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 notational details to specify if certain built-in operations are available by default on instance objects of the AD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ype A_TYPE: ? (:=, =) indicates that assignment and equality check are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6FEA-3939-499C-9865-39E94AD3F472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ulation of a gas s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551520" y="1752480"/>
            <a:ext cx="7631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QUEUE : ?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ENQUEUE (Q: in out QUEUE ; C: in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DEQUEUE (Q: in out QUEUE ; C: out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_EMPTY (Q: in QUEUE) : BOOLEA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Q: in QUEUE) : NATUR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MERGE (Q1, Q2 : in QUEUE ; Q : out QUE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is an abstract data-type module represen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of cars, handled in a strict FIFO way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are not assignable or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able for equality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ince “:=” and “=” are not expor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DA87-7D73-47A1-8FA1-9195E6034404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modules (template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parametric wrt a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737280" y="2895480"/>
            <a:ext cx="739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 : in T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 : out 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F191-C527-4331-83C0-A86DC8ACE097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stanti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ossible syntax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INTEGER_STACK_2 is GENERIC_STACK_2 (INTEGER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7C79-3D07-4132-9E4A-F5A8231F4E37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generic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>
            <a:off x="60948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specify that besides a type also an operation must be provided as a par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M (T) with OP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_A_TYPE is M(A_TYPE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(M_A_TYP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4055-EC19-4E73-8C97-9514B0E068DD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configuration const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ing constant values into symbolic constants is a common implementation prac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#define in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ahoma"/>
              </a:rPr>
              <a:t>#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fine 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600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9F05-2CC2-4813-925C-AB49BC924122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ditional compi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common to all version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ifdef hardware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1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ifdef hardware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2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compiler compilers (yacc, interface prototyping too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A936-E321-4613-BA0B-24E74B6D3B38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s gross structure and organization of the system to be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ts description includes description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in components of a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lationships among those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ationale for decomposition into it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ts that must be respected by any design of the component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uides the development of th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4065-EAA1-428B-8AF4-6B09B9B6C4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pwis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atic, iterative program design technique that unfortunately may lead to software that is hard to evolv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each step, problem P decompos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subproblems: P1; P2; …P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election: if (cond) then P1 else P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teration: while (cond) do_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BED9-09D6-48E3-A813-14A03F96A6FC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ation of selection s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650160" y="2057400"/>
            <a:ext cx="7881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the  smallest of ai .. .an, and ex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with the element at position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1A31-8B1B-4804-9CBD-41227C901442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57200" y="457200"/>
            <a:ext cx="777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change the elements 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sitions j and i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73E3-7189-4E0E-95BA-79629414D2BF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914400" y="609480"/>
            <a:ext cx="7467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(i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i) := a(j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j)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D7E0-2E3E-4A4C-BA7C-76C18D48329E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mposition tre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wise refinement process may be depicted by a decomposition tree (D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ot labeled by name of top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problem nodes labeled as children of parent node corresponding to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ildren from left to right represent sequential order of exec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nd while nodes denoted by suitable deco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A493-33FA-4B93-A722-90677F541563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533520"/>
            <a:ext cx="7696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problem to sol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P2; P3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decomposed into sequenc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  decomposed int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a loo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1 then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 decomposed into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25F8-B5DA-45BF-80B0-76E6D6B10725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sponding 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"/>
          <p:cNvSpPr/>
          <p:nvPr/>
        </p:nvSpPr>
        <p:spPr>
          <a:xfrm>
            <a:off x="381780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2308320" y="1523880"/>
            <a:ext cx="4344840" cy="461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8ED7-642D-4F4F-9E00-8D5C2C71C175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 with IS_COMPOSED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M, M1, M2, M3 be modules representing P, P1, P2, P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not wri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IS_COMPOSED_OF {M1,M2,M3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to add further module acting as glue to impose a sequential flow from M1 to M2 to M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F8D6-F480-408E-95CE-D7C4B175BFCD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epwise refinement is a programming technique, not a modularization techn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used to decompose system into modules, it tends to analyze problems in isolation, not recognizing common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does not stress information hi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BFE6-E6BC-4683-8992-DA76A569D661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attention is paid to data (it decomposes functionaliti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umes that a top function exi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hich one is it in the case of an operating system? or a word processo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forces premature commitment to control flow structures among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C700-02CB-4D1B-88F3-D8A50781EB2B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important goa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or change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rs tend to concentrate on current nee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effort needed to anticipate likely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families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k of the current system under design as a member of a program fami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6581-DBB9-4F6E-973D-B935F81E2CD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alyz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"/>
          <p:cNvSpPr/>
          <p:nvPr/>
        </p:nvSpPr>
        <p:spPr>
          <a:xfrm>
            <a:off x="990720" y="1828800"/>
            <a:ext cx="739116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cognize a program stored in a given file 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 f according to the language defini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program 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505F-4F50-47E4-B49C-8ECEA5A547D7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70000" y="228600"/>
            <a:ext cx="84546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lexical analysi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program as token sequence  in file f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nd symbol table in file fs, and set error_in_lexical_ph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lexical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syntactic analysis and set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olean vari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rror_in_syntactic_phase 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syntactic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9AC6-A1F1-4840-A8EE-C2DDACF0DC84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it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pa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 comes first on the entire program, producing two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we want to switch to a process driven by syntax analysis (it requests the lexical analyzer to provide a token when need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verything changes!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016B-DC56-42BC-AF86-7E8A09DEDE29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etter design based on 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R_HOL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physical representation of input fi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access source file on a character-by-character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CAN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etails of lexical structure of the langu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provide next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AR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ata structure used to perform syntactic analysis (abstract object PARS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8161-3A72-44D4-AF0D-7BFED10C7CAC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p-down vs. bottom-u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tion hiding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bottom-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erated application of IS_COMPOSED_OF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op-dow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pwise refinement is intrinsically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ch one is be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practice, people proceed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o-yo desig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ing documentation as a top-down flow may be useful for reading purposes, even if the process followed was not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5FB6-20D2-422B-816D-093BCA04308C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ndling anoma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ensiv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nomal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ail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provide the service as expected and as specified in its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cep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UST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aise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anomalous state is recogniz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3A3D-E5AF-4DDA-8BF1-4436BF45D87D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failures aris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M should fail and raise an exception 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f it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s does not satisfy the requir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 invoking one of M’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does not satisfy the required protocol when using one of its servers, and the server f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ardware generated exception (e.g., division by zer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8E3B-2699-411C-A16C-DDF21AE7B0D0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a module can do before fai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efore failing, modules may try to recover from the anomaly by executing som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ception handler (E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H is a local piece of code that may try to recover from anomaly (if successful, module does not fai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 may simply do some cleanup of the module’s state and then let the module fail, signaling an exception to its cl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A962-D82B-41CE-8087-3875ADCBDB18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2160720" y="24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8202600" cy="347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D6E4-6CB6-4857-A1DE-453C7DA3A5E6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exception propa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202392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8340840" cy="347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FA8D-0BA4-4CFD-9C98-F565C23A6E7E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orith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eplace inefficient sorting algorithm with a more efficient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 of data repres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from binary tree to a threaded tree (see examp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% of maintenance costs attributed to data representation changes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ientz and Swanson, 198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3E05-F05E-45D0-812F-6546554A54E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for the MIDI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nguage is block-structu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requires a symbol table module that can cope with block static n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here module SYMBOL_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1E98-09AB-44E0-B686-18238826D8B4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"/>
          <p:cNvSpPr/>
          <p:nvPr/>
        </p:nvSpPr>
        <p:spPr>
          <a:xfrm>
            <a:off x="196200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-228600" y="1905120"/>
            <a:ext cx="8953560" cy="392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4A6D-3CA7-4274-A660-353F65EC00F6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 1 is not robus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ensive design should be appl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ions must be raised in these cas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sertion cannot b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on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because identifier with same name  already exists in current sco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TRIEVE and LEV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dentifier with specified name not vi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TER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maximum nesting depth exc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IT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o matching block entry ex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CD78-9558-4FDE-8361-5F137BC62A73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"/>
          <p:cNvSpPr/>
          <p:nvPr/>
        </p:nvSpPr>
        <p:spPr>
          <a:xfrm>
            <a:off x="1986120" y="16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380880" y="1407960"/>
            <a:ext cx="7467840" cy="524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4287-14E3-4D6D-B21B-E56FCF47E983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uses a list management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"/>
          <p:cNvSpPr/>
          <p:nvPr/>
        </p:nvSpPr>
        <p:spPr>
          <a:xfrm>
            <a:off x="1962000" y="220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-228600" y="1981080"/>
            <a:ext cx="8610480" cy="429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3A0D-243C-438E-9C14-FD5F03D1013A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urrent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ase of a module defining shar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abstract objec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QUEUE_OF_CHAR is GENERIC_FIFO_QUEUE (CHAR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 : QUEUE_OF_CHAR.QUEU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op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UT: inserts a character i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T: extracts a character from BUFFER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FULL: returns true if BUFFER not full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EMPTY: returns true if BUFFER not empty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8E72-27EF-4DBC-AEC3-03C003E19FAC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control correct access to shared data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sufficient that clients check operation invocations, such 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umer_1 and Consumer_2 might do this concurrent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ly one slot is left, both may find the buffer not full, the first who writes fills it, and the other writes in a full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DCAD-9CBF-4C98-8081-E8C3758439BD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forcing synchro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on buffer are executed i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executed as logically non-interruptible u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64E9-D5B9-4BED-8FD7-1D9F44B395CB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 used in a concurrent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ailable in the Java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0532-C2CE-4E70-B584-ED12784DC1B4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"/>
          <p:cNvSpPr/>
          <p:nvPr/>
        </p:nvSpPr>
        <p:spPr>
          <a:xfrm>
            <a:off x="1967040" y="210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763120" cy="444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683A-6A57-44DF-A0D6-C54E83AA8E1D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2759040" y="225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724280" y="2286000"/>
            <a:ext cx="4114800" cy="3124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24200" y="226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3878280" cy="3200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H="1" rot="10904400">
            <a:off x="3656520" y="5257440"/>
            <a:ext cx="1905120" cy="914400"/>
          </a:xfrm>
          <a:custGeom>
            <a:avLst/>
            <a:gdLst>
              <a:gd name="textAreaLeft" fmla="*/ 360 w 1905120"/>
              <a:gd name="textAreaRight" fmla="*/ 1905840 w 1905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1981080"/>
            <a:ext cx="0" cy="365760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BC3E-C7B1-4ADA-AC44-D8C69E625CA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 operations are assumed to be executed in 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equi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lause may be associated with an op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automatically checked when operation is ca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result is false, the current process is suspended until it becomes true (at that stage it becomes eligible for resump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9CD7-9A67-4924-8CEC-128EED5E75AD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 type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"/>
          <p:cNvSpPr/>
          <p:nvPr/>
        </p:nvSpPr>
        <p:spPr>
          <a:xfrm>
            <a:off x="21002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-304920" y="1981080"/>
            <a:ext cx="8798040" cy="390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4E2D-A51A-4087-B9B1-F1CCA0A2321B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ardians and rendez-vo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da style of designing concurrent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da a shared object is active (whereas a monitor is pass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managed by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guardia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cess which can accept rendez-vous requests from tasks willing to access the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4981-E976-4A34-A0F7-40B2753DE4BE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uardian tas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"/>
          <p:cNvSpPr/>
          <p:nvPr/>
        </p:nvSpPr>
        <p:spPr>
          <a:xfrm>
            <a:off x="202716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564400" cy="44881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3260520" y="1219320"/>
            <a:ext cx="54187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 nondeterministic acceptanc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ndez-vous requ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FE8E-32B9-4CC5-BE3A-26B4BF781EE5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l-time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where processes interact with the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a put operation on a shared buffer is invoked by a plant sensor sending data to a control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t cannot be suspended if buffer full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must ensure that producer never finds the buffer fu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constrains the speed of  the consumer process in the control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12BF-1C6F-4B5B-925F-6C0A51C1DA57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2046240" y="243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621640" cy="340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B1B3-D3D3-4FD2-8732-E4532565BDF7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"/>
          <p:cNvSpPr/>
          <p:nvPr/>
        </p:nvSpPr>
        <p:spPr>
          <a:xfrm>
            <a:off x="305604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7925040" cy="187308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1139760" y="5334120"/>
            <a:ext cx="71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g-zag arrow indicates asynchronous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310A-9DCD-4FC6-AE5E-407735ED458F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ed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sues to consi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-machine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e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remote procedure call or message pa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to shared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quire replication for efficiency reas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D900-0FD7-4EB3-BB22-2FB1621D0CEA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ent-server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st popular distributed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modules provide services to client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s and servers may reside on different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FCA9-5AB4-4687-AEFF-4288A37EDE44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nding modules to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vs. dynamic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igr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-module 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L to define interface of remote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 and distrib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9F6B-167B-48BE-ADD8-CC3CB86D2DB9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47:01Z</dcterms:modified>
  <cp:revision>36</cp:revision>
  <dc:subject/>
  <dc:title>Software Engineering Principles</dc:title>
</cp:coreProperties>
</file>