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C514-A989-47E2-98EC-8F8DE93C8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F996-B404-4FD5-9BE3-1E8C14E35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921F-3BE3-455E-B7EF-738F69629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4668-B54D-426C-A9DB-697A3AEA5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C0F1-6B4F-44D3-B78C-223AB158C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CFB0-A301-42C7-8AC7-63EE2C63D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CB75-A620-4736-A9E9-54326AD06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AA86-5681-4937-8FF0-5A29CEC70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345E-CAFC-445D-9139-76DE21A92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9D85-6295-44CD-AAE5-44CDDAA3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3D77-4C29-4841-8197-3AC08299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BDA9-CF87-4849-8FBD-141FF389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ACAE5-4323-4FEC-84FD-D9520C81B6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-380880" y="1523880"/>
          <a:ext cx="11658600" cy="354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1523880"/>
                    <a:ext cx="11658600" cy="35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46Z</dcterms:modified>
  <cp:revision>2</cp:revision>
  <dc:subject/>
  <dc:title>PowerPoint Presentation</dc:title>
</cp:coreProperties>
</file>