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30D4-4941-462A-989A-60990192F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F6F1-2683-4A32-BB40-9B5F3136A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FC19-0521-4D66-BB4C-6DF410BAF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1160-F728-4A93-B6ED-1D5CA0E0C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E0B4-2FCF-43A0-ADDB-667534153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D1F8-67FB-48D4-82BE-F39E855F1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4D12-557D-40AC-99D2-7D961A669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CDE8-D669-40B0-9355-9931D91B0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EFB7-E98B-4613-B50A-422491CDF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4AFD-E5D1-484B-83DA-D69F61B12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DBF5-6EBD-4433-B50E-D63935E0F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AB3C-F09A-4040-8AD5-250286995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47A2A-06C8-4921-8BCA-EDB420D557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32484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5:09:16Z</dcterms:modified>
  <cp:revision>3</cp:revision>
  <dc:subject/>
  <dc:title>PowerPoint Presentation</dc:title>
</cp:coreProperties>
</file>