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19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31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39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54.xml.rels" ContentType="application/vnd.openxmlformats-package.relationships+xml"/>
  <Override PartName="/ppt/slides/_rels/slide52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1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29.xml.rels" ContentType="application/vnd.openxmlformats-package.relationships+xml"/>
  <Override PartName="/ppt/slides/_rels/slide132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40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55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139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53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50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A157-BE17-4AA4-AD93-4D655EFDC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B8C8-372B-4229-B417-F884B27C4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C215-D760-4852-AF2E-B3C979B00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E925-03EF-4987-8719-5217BDCDE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F993-113F-4C52-A960-CD24C2307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0FE1-425A-4EC5-ABB0-17CBC099B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9AAE-F630-40B5-BA41-78C04A18E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2484-4E82-421F-93C1-8913A9EF1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C476-05A2-41FA-BBB4-2E3829E44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90E2-ABD2-4070-9CA0-AD3713AFD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9CD2-4935-4EBB-9E2D-1F0E1D095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12AC-816C-493D-B2B6-2CE49510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4CB70-FC16-4BA0-B2D2-57326A157C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viewer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5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5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5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5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slideLayout" Target="../slideLayouts/slideLayout5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86F8-8CA8-4302-A7A2-52E88FC641A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ecise, unambiguous, clea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other example (from a real safety-critical syste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718920" y="2971800"/>
            <a:ext cx="7861680" cy="1922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message must be triplicated. The th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pies must be forwarded through thre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fferent physical channels. The recei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cepts the message on the basis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wo-out-of-three voting policy.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9000" y="5334120"/>
            <a:ext cx="830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n a message be accepted as soon as we receive 2 out of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dentical copies of message or do we need to wait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ceipt of the 3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9EBE-98E9-47E6-8AED-C869DAC94E1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-11520" y="1828800"/>
            <a:ext cx="9551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0: Reserving F from inside E, which is not standing at 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causes immediate update of L according to previous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312200" y="2971800"/>
            <a:ext cx="70412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request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not (standing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F = insert_in_order(L, F, 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00D3-9701-44E5-BF6C-569F61D7D120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635760" y="990720"/>
            <a:ext cx="598968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1: Effect of arrival of E at floor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779480" y="1523880"/>
            <a:ext cx="531468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 = first (L) and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= tail (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10640" y="3505320"/>
            <a:ext cx="42768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2: How list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323000" y="4038480"/>
            <a:ext cx="65376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not (new_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l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 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&l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EBF6-D187-4811-98E5-65C4057F43F7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ystem can be simulated by providing a state (set of facts) and using rules to make de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2, 3, 5, 7)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levator 2 at floor 3 at least from instant 5 to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(2, empty, 5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request(2, 8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(2, {8}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(excluding other eve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2, up, 7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 arrival (2, 8, 7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*(8-3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5165-F726-46B3-9B15-937C74B02F55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erties can be stated and proved via dedu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, T) and F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L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F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and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g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ll requests are served eventuall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32B8-8C8F-4F21-AC5E-9D5A0A2A1604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criptive spe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ystem and its properties are described in the same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ng properties, however, cannot be fully mechanized for most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89E5-1AF9-48F7-88D1-6D46A6B0F539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eterogeneou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lgebr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erogeneous = more than 1 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pecially useful to specify AD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DBC4-4A47-4E0D-BD56-C0DF03136828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strings, with operations f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reating new, empty strings (operation n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atenating strings (operation appe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ding a new character at the end of a string (operation ad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the length of a given string (operation leng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whether a string is empty (operation isEmpt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whether two strings are equal (operation equ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25C9-F552-42FF-9910-010C948B3DD2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: synta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"/>
          <p:cNvSpPr/>
          <p:nvPr/>
        </p:nvSpPr>
        <p:spPr>
          <a:xfrm>
            <a:off x="1398960" y="1676520"/>
            <a:ext cx="62492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gebra StringSpe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s String, Char, Nat,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w: ()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: String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: String, Char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: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: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: String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A7C5-7BEB-44C6-A4EF-B59DA44ACBEF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: proper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"/>
          <p:cNvSpPr/>
          <p:nvPr/>
        </p:nvSpPr>
        <p:spPr>
          <a:xfrm>
            <a:off x="380880" y="1289160"/>
            <a:ext cx="8251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ains new, append, add, length, isEmpty, equal so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[s, s1, s2: String; c: Char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 (new ())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 (add (s, c))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 (new ())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 (add (s, c)) = length (s)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 (s, new ()) = 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 (s1, add (s2,c)) = add (append (s1,s2),c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new (),new ())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new (), add (s, c))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add (s, c), new ()) = fals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add (s1, c), add (s2, c) = equal (s1,s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StringSp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A2C9-AFA9-447C-AC93-B0FAFDD510C6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edito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w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reates a new, empty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s whether a file is emp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d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ds a string of characters to the end of a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s a string at a given position of a fi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(t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e rest of the file will be rewritten just after the inserted str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ppen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atenates two file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D13D-7F7E-44E2-B9CF-9848C20371F8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sist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pecification fragment for a word-proces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"/>
          <p:cNvSpPr/>
          <p:nvPr/>
        </p:nvSpPr>
        <p:spPr>
          <a:xfrm>
            <a:off x="796680" y="2514600"/>
            <a:ext cx="7861680" cy="22885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whole text should be kept in l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f equal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ength. The length is specifi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y the user. Unless the user gives 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plicit hyphenation comman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 carriage return should occur on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 the end of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5280" y="5334120"/>
            <a:ext cx="81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hat if the length of a word exceeds the length of the li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B823-FAEF-486C-B1EE-1BC2953E98C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235080" y="228600"/>
            <a:ext cx="8679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gebra TextEdito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s Text, String, Char, Bool, 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wF: ()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F: Text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F: Text, Nat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: Text,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leteF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: Text,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FC: Text, Char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This is an auxiliary operation that will be need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 define addF and other operations on files.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2C32-52C4-422F-BA13-F51C9055C58E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670320" y="343080"/>
            <a:ext cx="75171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ains newF, isEmptyF, addF, appendF, insertF, delete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o th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extEditor generated by [newF, addFC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[f, f1,f2: Text; s: String; c: Char; cursor: Na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 (newF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 (addFC (f, c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 (f, newS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 (f, addS (s, c)) = addFC (addF (f, s), 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(newF ())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(addFC (f, c)) = lengthF (f) +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 (f, newF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 (f1, addFC (f2, c)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C (appendF (f1, f2), 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newF (),newF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newF (), addFC (f, c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addFC (f, c), new ()) = false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addFC (f1, c1), addFC (f2, c2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f1, f2) and equalC (c1, c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F (f, cursor, newS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(equalF (f, appendF (f1, f2)) and (lengthF (f1) = cursor - 1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insertF (f, cursor, s), appendF (addF (f1, s), f2)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d TextEdit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321F-8C5E-40B2-A10B-D8141F47AE6E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for a n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ility to support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separate functional specs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spec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-interface spe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 different vie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629F-1B0F-4FD0-8F9E-B2B1E698F775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of view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cument produ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"/>
          <p:cNvSpPr/>
          <p:nvPr/>
        </p:nvSpPr>
        <p:spPr>
          <a:xfrm>
            <a:off x="29955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724120" y="237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6705720" cy="381636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29955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08760" y="1676520"/>
            <a:ext cx="474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 flow view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6178-2DD4-4DD8-8A7F-3535EB66A9E8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rol flow view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5486400" cy="455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8D8A-A85D-450D-97EF-541443FF0655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no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static architecture in terms of classes and associ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evolution can be described via Statecharts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vity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sequential and parallel composition of method executions, and synchro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04F9-0861-4611-9BEB-316C109C58F2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ctivity diagra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"/>
          <p:cNvSpPr/>
          <p:nvPr/>
        </p:nvSpPr>
        <p:spPr>
          <a:xfrm>
            <a:off x="114300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380880" y="1447920"/>
          <a:ext cx="8229600" cy="521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47920"/>
                    <a:ext cx="8229600" cy="52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0ACE-90D7-4C1B-8C22-7B3A8114C282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ilding modular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ase of algebra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combine algebras taken from a lib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organize them in a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036A-DA19-44A9-94D7-A3EB709D81F2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s used by StringSpe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"/>
          <p:cNvSpPr/>
          <p:nvPr/>
        </p:nvSpPr>
        <p:spPr>
          <a:xfrm>
            <a:off x="537480" y="857160"/>
            <a:ext cx="579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BoolAl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rue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alse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: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nd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r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true, false, not, and, or, implies,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 generated by [true, false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a, b: Bool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(true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(false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 and b = not (not (a) or not (b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 implies b = not (a) or 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oolAlg.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7AC2-C8F3-4C20-9440-97AB90636027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s used by StringSpec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"/>
          <p:cNvSpPr/>
          <p:nvPr/>
        </p:nvSpPr>
        <p:spPr>
          <a:xfrm>
            <a:off x="1006920" y="1936800"/>
            <a:ext cx="3896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NatNum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Nat,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0: ()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: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+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-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=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0, Succ, +, -, =,...,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Numb generated by [0, Succ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NatNum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383800" y="2286000"/>
            <a:ext cx="336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CharAl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Char,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‘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’: ()® Ch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‘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’ : ()® Ch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harAl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7A3A-DE7A-4C32-83D3-6554291EB8E7}" type="slidenum">
              <a:t>1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nal complete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pecification must define any new concept or terminology that it 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lossary helpful for this purpos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pecification must document all the needed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: when should one stop?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C5B4-2BF3-433C-8787-F2AFFEC1797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ringSpec revisi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"/>
          <p:cNvSpPr/>
          <p:nvPr/>
        </p:nvSpPr>
        <p:spPr>
          <a:xfrm>
            <a:off x="1342440" y="1981080"/>
            <a:ext cx="6351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StringSpe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orts BoolAlg, NatNumb, CharAl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String, Char, Nat,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ew: ()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StringSpec.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A315-A49E-4D70-B198-A4DA1FB98209}" type="slidenum">
              <a:t>1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specification of an AD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want to target stacks, queues, s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art from "container" and then progressively specialize 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ntroduce another structuring cla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s inheritance relation among algebr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8526-86C1-42BE-AD75-CB113FA3B78A}" type="slidenum">
              <a:t>1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ainer algebr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"/>
          <p:cNvSpPr/>
          <p:nvPr/>
        </p:nvSpPr>
        <p:spPr>
          <a:xfrm>
            <a:off x="438840" y="1143000"/>
            <a:ext cx="79714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Contain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mports DataType, BoolAlg, NatNum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ew: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: Cont, Data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{Data is the sort of algebra DataType, to whic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lements to be stored in Cont belong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: Con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ize: Con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new, insert, isEmpty, size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 generated by [new, inser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: Data; c: Co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 (new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 (insert (c, d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(new ())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ntain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FFF2-C4E4-4485-8033-8A4D6908EB6D}" type="slidenum">
              <a:t>1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able specializes Contain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"/>
          <p:cNvSpPr/>
          <p:nvPr/>
        </p:nvSpPr>
        <p:spPr>
          <a:xfrm>
            <a:off x="478440" y="861840"/>
            <a:ext cx="622188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TableAl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Contain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: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: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: Table,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: Table, Data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last, rest, equalT, delete, isEmpty, new, insert so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, d1, d2: Data; t, t1, t2: Tabl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 (insert (t, d)) =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 (new (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 (insert (t, d)) = 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new (), new ()) =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insert (t, d), new (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new (), insert (t,d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t1,t2) = equalD(last (t1), last (t2))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rest (t1),rest (t2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new (), d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t,d),d) = delete (t, 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f not equalD(d1, d2)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t, d1), d2) = insert (delete (t, d2), d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nd TableAlg.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173E-29AD-471B-9D88-D62ABDCDBFFB}" type="slidenum">
              <a:t>1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ue specializes Contain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"/>
          <p:cNvSpPr/>
          <p:nvPr/>
        </p:nvSpPr>
        <p:spPr>
          <a:xfrm>
            <a:off x="672120" y="762120"/>
            <a:ext cx="682524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QueueAl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Contain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ort Que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: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: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: Queue ,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: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Queu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last, first, equalQ, delete, isEmpty, new, insert so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: Data; q, q1, q2: Queu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 (insert (q, d)) =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 (insert (new(), d) =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 (insert (q, d)) = if not isEmpty (q) then first (q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new (), new ()) =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insert (q, d), new (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new (), insert (q, d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insert (q1, d1), insert (q2, d2)) = equalD (d1, d2)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q1,q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new (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new (), d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f not equalQ (q, new ())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q,d)) = insert (delete (q), 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nd QueueAlg.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D6BF-F46C-4F2C-B2A4-31CDA0C40264}" type="slidenum">
              <a:t>1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"/>
          <p:cNvSpPr/>
          <p:nvPr/>
        </p:nvSpPr>
        <p:spPr>
          <a:xfrm>
            <a:off x="368460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2873880" y="1647720"/>
            <a:ext cx="3199680" cy="4366440"/>
            <a:chOff x="2873880" y="1647720"/>
            <a:chExt cx="3199680" cy="4366440"/>
          </a:xfrm>
        </p:grpSpPr>
        <p:sp>
          <p:nvSpPr>
            <p:cNvPr id="590" name=""/>
            <p:cNvSpPr/>
            <p:nvPr/>
          </p:nvSpPr>
          <p:spPr>
            <a:xfrm>
              <a:off x="3992400" y="2946240"/>
              <a:ext cx="843120" cy="8892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114720" y="1647720"/>
              <a:ext cx="753840" cy="8683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192640" y="1746360"/>
              <a:ext cx="754200" cy="809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952720" y="4341960"/>
              <a:ext cx="754200" cy="8301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992400" y="4341960"/>
              <a:ext cx="771840" cy="8506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084640" y="4381560"/>
              <a:ext cx="862200" cy="9097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6" name=""/>
            <p:cNvGrpSpPr/>
            <p:nvPr/>
          </p:nvGrpSpPr>
          <p:grpSpPr>
            <a:xfrm>
              <a:off x="3768840" y="2308320"/>
              <a:ext cx="573120" cy="630000"/>
              <a:chOff x="3768840" y="2308320"/>
              <a:chExt cx="573120" cy="630000"/>
            </a:xfrm>
          </p:grpSpPr>
          <p:sp>
            <p:nvSpPr>
              <p:cNvPr id="597" name=""/>
              <p:cNvSpPr/>
              <p:nvPr/>
            </p:nvSpPr>
            <p:spPr>
              <a:xfrm>
                <a:off x="4091040" y="2682720"/>
                <a:ext cx="250920" cy="255600"/>
              </a:xfrm>
              <a:custGeom>
                <a:avLst/>
                <a:gdLst/>
                <a:ahLst/>
                <a:rect l="l" t="t" r="r" b="b"/>
                <a:pathLst>
                  <a:path w="158" h="161">
                    <a:moveTo>
                      <a:pt x="158" y="161"/>
                    </a:moveTo>
                    <a:lnTo>
                      <a:pt x="0" y="49"/>
                    </a:lnTo>
                    <a:lnTo>
                      <a:pt x="34" y="24"/>
                    </a:lnTo>
                    <a:lnTo>
                      <a:pt x="79" y="0"/>
                    </a:lnTo>
                    <a:lnTo>
                      <a:pt x="158" y="1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3768840" y="2308320"/>
                <a:ext cx="376200" cy="412560"/>
              </a:xfrm>
              <a:prstGeom prst="line">
                <a:avLst/>
              </a:prstGeom>
              <a:ln w="88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4557600" y="2406600"/>
              <a:ext cx="627120" cy="550800"/>
              <a:chOff x="4557600" y="2406600"/>
              <a:chExt cx="627120" cy="550800"/>
            </a:xfrm>
          </p:grpSpPr>
          <p:sp>
            <p:nvSpPr>
              <p:cNvPr id="600" name=""/>
              <p:cNvSpPr/>
              <p:nvPr/>
            </p:nvSpPr>
            <p:spPr>
              <a:xfrm>
                <a:off x="4557600" y="2682720"/>
                <a:ext cx="322200" cy="274680"/>
              </a:xfrm>
              <a:custGeom>
                <a:avLst/>
                <a:gdLst/>
                <a:ahLst/>
                <a:rect l="l" t="t" r="r" b="b"/>
                <a:pathLst>
                  <a:path w="203" h="173">
                    <a:moveTo>
                      <a:pt x="0" y="173"/>
                    </a:moveTo>
                    <a:lnTo>
                      <a:pt x="101" y="0"/>
                    </a:lnTo>
                    <a:lnTo>
                      <a:pt x="146" y="24"/>
                    </a:lnTo>
                    <a:lnTo>
                      <a:pt x="203" y="62"/>
                    </a:lnTo>
                    <a:lnTo>
                      <a:pt x="0" y="1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>
                <a:off x="4789440" y="2406600"/>
                <a:ext cx="395280" cy="314280"/>
              </a:xfrm>
              <a:prstGeom prst="line">
                <a:avLst/>
              </a:prstGeom>
              <a:ln w="88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2" name=""/>
            <p:cNvSpPr/>
            <p:nvPr/>
          </p:nvSpPr>
          <p:spPr>
            <a:xfrm>
              <a:off x="5306040" y="1874880"/>
              <a:ext cx="50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757480" y="187488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290920" y="211140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196080" y="1816200"/>
              <a:ext cx="60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750840" y="181620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195360" y="205272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062520" y="4511520"/>
              <a:ext cx="40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o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428640" y="451152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051000" y="47480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026960" y="3173400"/>
              <a:ext cx="88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ntai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825440" y="317340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036680" y="340992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094640" y="4471920"/>
              <a:ext cx="31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377960" y="447192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090680" y="47084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137200" y="4629240"/>
              <a:ext cx="936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ataTyp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166360" y="486576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202000" y="486576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873880" y="5554800"/>
              <a:ext cx="733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egend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379760" y="5554800"/>
              <a:ext cx="74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mpor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935240" y="5554800"/>
              <a:ext cx="1005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latio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392000" y="5770440"/>
              <a:ext cx="86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ssu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131080" y="5770440"/>
              <a:ext cx="83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l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5" name=""/>
            <p:cNvGrpSpPr/>
            <p:nvPr/>
          </p:nvGrpSpPr>
          <p:grpSpPr>
            <a:xfrm>
              <a:off x="3714840" y="5810400"/>
              <a:ext cx="555480" cy="196560"/>
              <a:chOff x="3714840" y="5810400"/>
              <a:chExt cx="555480" cy="196560"/>
            </a:xfrm>
          </p:grpSpPr>
          <p:sp>
            <p:nvSpPr>
              <p:cNvPr id="626" name=""/>
              <p:cNvSpPr/>
              <p:nvPr/>
            </p:nvSpPr>
            <p:spPr>
              <a:xfrm>
                <a:off x="4037040" y="5810400"/>
                <a:ext cx="233280" cy="196560"/>
              </a:xfrm>
              <a:custGeom>
                <a:avLst/>
                <a:gdLst/>
                <a:ahLst/>
                <a:rect l="l" t="t" r="r" b="b"/>
                <a:pathLst>
                  <a:path w="147" h="124">
                    <a:moveTo>
                      <a:pt x="147" y="62"/>
                    </a:moveTo>
                    <a:lnTo>
                      <a:pt x="0" y="124"/>
                    </a:lnTo>
                    <a:lnTo>
                      <a:pt x="0" y="62"/>
                    </a:lnTo>
                    <a:lnTo>
                      <a:pt x="0" y="0"/>
                    </a:lnTo>
                    <a:lnTo>
                      <a:pt x="147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714840" y="5908680"/>
                <a:ext cx="322200" cy="1440"/>
              </a:xfrm>
              <a:prstGeom prst="line">
                <a:avLst/>
              </a:prstGeom>
              <a:ln w="71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4341960" y="3822840"/>
              <a:ext cx="107640" cy="511200"/>
              <a:chOff x="4341960" y="3822840"/>
              <a:chExt cx="107640" cy="511200"/>
            </a:xfrm>
          </p:grpSpPr>
          <p:sp>
            <p:nvSpPr>
              <p:cNvPr id="629" name=""/>
              <p:cNvSpPr/>
              <p:nvPr/>
            </p:nvSpPr>
            <p:spPr>
              <a:xfrm>
                <a:off x="4341960" y="4138560"/>
                <a:ext cx="107640" cy="195480"/>
              </a:xfrm>
              <a:custGeom>
                <a:avLst/>
                <a:gdLst/>
                <a:ahLst/>
                <a:rect l="l" t="t" r="r" b="b"/>
                <a:pathLst>
                  <a:path w="68" h="123">
                    <a:moveTo>
                      <a:pt x="34" y="123"/>
                    </a:moveTo>
                    <a:lnTo>
                      <a:pt x="0" y="0"/>
                    </a:lnTo>
                    <a:lnTo>
                      <a:pt x="34" y="37"/>
                    </a:lnTo>
                    <a:lnTo>
                      <a:pt x="68" y="0"/>
                    </a:lnTo>
                    <a:lnTo>
                      <a:pt x="34" y="1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395960" y="3822840"/>
                <a:ext cx="1440" cy="3744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3554280" y="3705120"/>
              <a:ext cx="555480" cy="708120"/>
              <a:chOff x="3554280" y="3705120"/>
              <a:chExt cx="555480" cy="708120"/>
            </a:xfrm>
          </p:grpSpPr>
          <p:sp>
            <p:nvSpPr>
              <p:cNvPr id="632" name=""/>
              <p:cNvSpPr/>
              <p:nvPr/>
            </p:nvSpPr>
            <p:spPr>
              <a:xfrm>
                <a:off x="3554280" y="4237200"/>
                <a:ext cx="160560" cy="176040"/>
              </a:xfrm>
              <a:custGeom>
                <a:avLst/>
                <a:gdLst/>
                <a:ahLst/>
                <a:rect l="l" t="t" r="r" b="b"/>
                <a:pathLst>
                  <a:path w="101" h="111">
                    <a:moveTo>
                      <a:pt x="0" y="111"/>
                    </a:moveTo>
                    <a:lnTo>
                      <a:pt x="45" y="0"/>
                    </a:lnTo>
                    <a:lnTo>
                      <a:pt x="45" y="49"/>
                    </a:lnTo>
                    <a:lnTo>
                      <a:pt x="101" y="37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>
                <a:off x="3625560" y="3705120"/>
                <a:ext cx="484200" cy="6098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4754520" y="3646440"/>
              <a:ext cx="536760" cy="766800"/>
              <a:chOff x="4754520" y="3646440"/>
              <a:chExt cx="536760" cy="766800"/>
            </a:xfrm>
          </p:grpSpPr>
          <p:sp>
            <p:nvSpPr>
              <p:cNvPr id="635" name=""/>
              <p:cNvSpPr/>
              <p:nvPr/>
            </p:nvSpPr>
            <p:spPr>
              <a:xfrm>
                <a:off x="5148360" y="4216320"/>
                <a:ext cx="142920" cy="196920"/>
              </a:xfrm>
              <a:custGeom>
                <a:avLst/>
                <a:gdLst/>
                <a:ahLst/>
                <a:rect l="l" t="t" r="r" b="b"/>
                <a:pathLst>
                  <a:path w="90" h="124">
                    <a:moveTo>
                      <a:pt x="90" y="124"/>
                    </a:moveTo>
                    <a:lnTo>
                      <a:pt x="0" y="50"/>
                    </a:lnTo>
                    <a:lnTo>
                      <a:pt x="45" y="62"/>
                    </a:lnTo>
                    <a:lnTo>
                      <a:pt x="45" y="0"/>
                    </a:lnTo>
                    <a:lnTo>
                      <a:pt x="90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4754520" y="3646440"/>
                <a:ext cx="465120" cy="66852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3714840" y="5613480"/>
              <a:ext cx="573120" cy="117360"/>
              <a:chOff x="3714840" y="5613480"/>
              <a:chExt cx="573120" cy="117360"/>
            </a:xfrm>
          </p:grpSpPr>
          <p:sp>
            <p:nvSpPr>
              <p:cNvPr id="638" name=""/>
              <p:cNvSpPr/>
              <p:nvPr/>
            </p:nvSpPr>
            <p:spPr>
              <a:xfrm>
                <a:off x="4110120" y="5613480"/>
                <a:ext cx="177840" cy="117360"/>
              </a:xfrm>
              <a:custGeom>
                <a:avLst/>
                <a:gdLst/>
                <a:ahLst/>
                <a:rect l="l" t="t" r="r" b="b"/>
                <a:pathLst>
                  <a:path w="112" h="74">
                    <a:moveTo>
                      <a:pt x="112" y="37"/>
                    </a:moveTo>
                    <a:lnTo>
                      <a:pt x="0" y="74"/>
                    </a:lnTo>
                    <a:lnTo>
                      <a:pt x="33" y="37"/>
                    </a:lnTo>
                    <a:lnTo>
                      <a:pt x="0" y="0"/>
                    </a:lnTo>
                    <a:lnTo>
                      <a:pt x="112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3714840" y="5672160"/>
                <a:ext cx="44748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6390-06FB-42AE-897B-B1E509E454CF}" type="slidenum">
              <a:t>1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icher hierarch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"/>
          <p:cNvSpPr/>
          <p:nvPr/>
        </p:nvSpPr>
        <p:spPr>
          <a:xfrm>
            <a:off x="321948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1"/>
          <a:stretch/>
        </p:blipFill>
        <p:spPr>
          <a:xfrm>
            <a:off x="2514600" y="1295280"/>
            <a:ext cx="3741840" cy="477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83AC-FE7D-494F-83B9-D804BF89ECC5}" type="slidenum">
              <a:t>1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specs to an implem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ebraic spec language described so far is based on the "Larch shared language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ral "interface languages" are available to help transitioning to an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ch/C++, Larch/Pas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935F-5A2A-47ED-A5EF-82E604ACA72D}" type="slidenum">
              <a:t>1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ing Larch/Pascal for StringSpe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"/>
          <p:cNvSpPr/>
          <p:nvPr/>
        </p:nvSpPr>
        <p:spPr>
          <a:xfrm>
            <a:off x="7920" y="1523880"/>
            <a:ext cx="9012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String exports isEmpty, add, append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ased on Boolean, integer, charac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isEmpty (s: String) : Bool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 ] {i.e., it has no side effects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add (var s : String; c : ch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modi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es only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tring parameter s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length (s: String) :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 ]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append (var s1, s2, s3: str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s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only s3, the result of the operation, is modified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StringSp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8EED-172D-4022-ABE7-0BA3389377D8}" type="slidenum">
              <a:t>1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zing finite state mach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charts do th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have been incorporated in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provide the notions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decompo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5AA5-A417-4782-9BCA-3CF8A6854FA7}" type="slidenum">
              <a:t>1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ring to the specification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from a sketchy document and progressively add detai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ring to the specificatio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document is structured and can be understood in increm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7063-6F21-4E82-9048-1D2FC897229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decomposi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-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hemical plant control example--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"/>
          <p:cNvSpPr/>
          <p:nvPr/>
        </p:nvSpPr>
        <p:spPr>
          <a:xfrm>
            <a:off x="201924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848720" cy="585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67AB-6D47-4560-910A-B48FC4B61DE6}" type="slidenum">
              <a:t>1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llel decompos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"/>
          <p:cNvSpPr/>
          <p:nvPr/>
        </p:nvSpPr>
        <p:spPr>
          <a:xfrm>
            <a:off x="171468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8382240" cy="558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E5EE-73A1-496E-B0BC-0938DB7FA7CF}" type="slidenum">
              <a:t>1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bject state diagram using State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"/>
          <p:cNvSpPr/>
          <p:nvPr/>
        </p:nvSpPr>
        <p:spPr>
          <a:xfrm>
            <a:off x="168768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-534960" y="1828800"/>
            <a:ext cx="9129600" cy="3087720"/>
            <a:chOff x="-534960" y="1828800"/>
            <a:chExt cx="9129600" cy="3087720"/>
          </a:xfrm>
        </p:grpSpPr>
        <p:sp>
          <p:nvSpPr>
            <p:cNvPr id="658" name=""/>
            <p:cNvSpPr/>
            <p:nvPr/>
          </p:nvSpPr>
          <p:spPr>
            <a:xfrm>
              <a:off x="-534960" y="18288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766880" y="3411360"/>
              <a:ext cx="955800" cy="447840"/>
            </a:xfrm>
            <a:custGeom>
              <a:avLst/>
              <a:gdLst/>
              <a:ahLst/>
              <a:rect l="l" t="t" r="r" b="b"/>
              <a:pathLst>
                <a:path w="602" h="282">
                  <a:moveTo>
                    <a:pt x="37" y="0"/>
                  </a:moveTo>
                  <a:lnTo>
                    <a:pt x="29" y="1"/>
                  </a:lnTo>
                  <a:lnTo>
                    <a:pt x="22" y="3"/>
                  </a:lnTo>
                  <a:lnTo>
                    <a:pt x="10" y="10"/>
                  </a:lnTo>
                  <a:lnTo>
                    <a:pt x="3" y="22"/>
                  </a:lnTo>
                  <a:lnTo>
                    <a:pt x="2" y="29"/>
                  </a:lnTo>
                  <a:lnTo>
                    <a:pt x="0" y="36"/>
                  </a:lnTo>
                  <a:lnTo>
                    <a:pt x="0" y="246"/>
                  </a:lnTo>
                  <a:lnTo>
                    <a:pt x="2" y="253"/>
                  </a:lnTo>
                  <a:lnTo>
                    <a:pt x="3" y="260"/>
                  </a:lnTo>
                  <a:lnTo>
                    <a:pt x="10" y="272"/>
                  </a:lnTo>
                  <a:lnTo>
                    <a:pt x="22" y="279"/>
                  </a:lnTo>
                  <a:lnTo>
                    <a:pt x="29" y="282"/>
                  </a:lnTo>
                  <a:lnTo>
                    <a:pt x="37" y="282"/>
                  </a:lnTo>
                  <a:lnTo>
                    <a:pt x="564" y="282"/>
                  </a:lnTo>
                  <a:lnTo>
                    <a:pt x="571" y="282"/>
                  </a:lnTo>
                  <a:lnTo>
                    <a:pt x="578" y="279"/>
                  </a:lnTo>
                  <a:lnTo>
                    <a:pt x="591" y="272"/>
                  </a:lnTo>
                  <a:lnTo>
                    <a:pt x="599" y="260"/>
                  </a:lnTo>
                  <a:lnTo>
                    <a:pt x="602" y="253"/>
                  </a:lnTo>
                  <a:lnTo>
                    <a:pt x="602" y="246"/>
                  </a:lnTo>
                  <a:lnTo>
                    <a:pt x="602" y="36"/>
                  </a:lnTo>
                  <a:lnTo>
                    <a:pt x="602" y="29"/>
                  </a:lnTo>
                  <a:lnTo>
                    <a:pt x="599" y="22"/>
                  </a:lnTo>
                  <a:lnTo>
                    <a:pt x="591" y="10"/>
                  </a:lnTo>
                  <a:lnTo>
                    <a:pt x="578" y="3"/>
                  </a:lnTo>
                  <a:lnTo>
                    <a:pt x="571" y="1"/>
                  </a:lnTo>
                  <a:lnTo>
                    <a:pt x="564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018880" y="3502080"/>
              <a:ext cx="57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598840" y="35020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090440" y="3546360"/>
              <a:ext cx="138240" cy="13824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3" name=""/>
            <p:cNvGrpSpPr/>
            <p:nvPr/>
          </p:nvGrpSpPr>
          <p:grpSpPr>
            <a:xfrm>
              <a:off x="1212840" y="3559320"/>
              <a:ext cx="565200" cy="141120"/>
              <a:chOff x="1212840" y="3559320"/>
              <a:chExt cx="565200" cy="141120"/>
            </a:xfrm>
          </p:grpSpPr>
          <p:sp>
            <p:nvSpPr>
              <p:cNvPr id="664" name=""/>
              <p:cNvSpPr/>
              <p:nvPr/>
            </p:nvSpPr>
            <p:spPr>
              <a:xfrm>
                <a:off x="1212840" y="3629160"/>
                <a:ext cx="56520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1627200" y="3559320"/>
                <a:ext cx="150840" cy="141120"/>
              </a:xfrm>
              <a:custGeom>
                <a:avLst/>
                <a:gdLst/>
                <a:ahLst/>
                <a:rect l="l" t="t" r="r" b="b"/>
                <a:pathLst>
                  <a:path w="95" h="89">
                    <a:moveTo>
                      <a:pt x="0" y="89"/>
                    </a:moveTo>
                    <a:lnTo>
                      <a:pt x="95" y="44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6" name=""/>
            <p:cNvSpPr/>
            <p:nvPr/>
          </p:nvSpPr>
          <p:spPr>
            <a:xfrm>
              <a:off x="4808520" y="3411360"/>
              <a:ext cx="1203480" cy="447840"/>
            </a:xfrm>
            <a:custGeom>
              <a:avLst/>
              <a:gdLst/>
              <a:ahLst/>
              <a:rect l="l" t="t" r="r" b="b"/>
              <a:pathLst>
                <a:path w="758" h="282">
                  <a:moveTo>
                    <a:pt x="38" y="0"/>
                  </a:moveTo>
                  <a:lnTo>
                    <a:pt x="31" y="1"/>
                  </a:lnTo>
                  <a:lnTo>
                    <a:pt x="23" y="3"/>
                  </a:lnTo>
                  <a:lnTo>
                    <a:pt x="12" y="10"/>
                  </a:lnTo>
                  <a:lnTo>
                    <a:pt x="3" y="22"/>
                  </a:lnTo>
                  <a:lnTo>
                    <a:pt x="1" y="29"/>
                  </a:lnTo>
                  <a:lnTo>
                    <a:pt x="0" y="36"/>
                  </a:lnTo>
                  <a:lnTo>
                    <a:pt x="0" y="246"/>
                  </a:lnTo>
                  <a:lnTo>
                    <a:pt x="1" y="253"/>
                  </a:lnTo>
                  <a:lnTo>
                    <a:pt x="3" y="260"/>
                  </a:lnTo>
                  <a:lnTo>
                    <a:pt x="12" y="272"/>
                  </a:lnTo>
                  <a:lnTo>
                    <a:pt x="23" y="279"/>
                  </a:lnTo>
                  <a:lnTo>
                    <a:pt x="31" y="282"/>
                  </a:lnTo>
                  <a:lnTo>
                    <a:pt x="38" y="282"/>
                  </a:lnTo>
                  <a:lnTo>
                    <a:pt x="720" y="282"/>
                  </a:lnTo>
                  <a:lnTo>
                    <a:pt x="727" y="282"/>
                  </a:lnTo>
                  <a:lnTo>
                    <a:pt x="734" y="279"/>
                  </a:lnTo>
                  <a:lnTo>
                    <a:pt x="746" y="272"/>
                  </a:lnTo>
                  <a:lnTo>
                    <a:pt x="755" y="260"/>
                  </a:lnTo>
                  <a:lnTo>
                    <a:pt x="756" y="253"/>
                  </a:lnTo>
                  <a:lnTo>
                    <a:pt x="758" y="246"/>
                  </a:lnTo>
                  <a:lnTo>
                    <a:pt x="758" y="36"/>
                  </a:lnTo>
                  <a:lnTo>
                    <a:pt x="756" y="29"/>
                  </a:lnTo>
                  <a:lnTo>
                    <a:pt x="755" y="22"/>
                  </a:lnTo>
                  <a:lnTo>
                    <a:pt x="746" y="10"/>
                  </a:lnTo>
                  <a:lnTo>
                    <a:pt x="734" y="3"/>
                  </a:lnTo>
                  <a:lnTo>
                    <a:pt x="727" y="1"/>
                  </a:lnTo>
                  <a:lnTo>
                    <a:pt x="720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984200" y="3495600"/>
              <a:ext cx="901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NotEmpt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409360" y="374652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514840" y="37465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0" name=""/>
            <p:cNvGrpSpPr/>
            <p:nvPr/>
          </p:nvGrpSpPr>
          <p:grpSpPr>
            <a:xfrm>
              <a:off x="2719440" y="3476520"/>
              <a:ext cx="2085840" cy="141480"/>
              <a:chOff x="2719440" y="3476520"/>
              <a:chExt cx="2085840" cy="141480"/>
            </a:xfrm>
          </p:grpSpPr>
          <p:sp>
            <p:nvSpPr>
              <p:cNvPr id="671" name=""/>
              <p:cNvSpPr/>
              <p:nvPr/>
            </p:nvSpPr>
            <p:spPr>
              <a:xfrm>
                <a:off x="2719440" y="3546360"/>
                <a:ext cx="208584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4656240" y="3476520"/>
                <a:ext cx="149040" cy="141480"/>
              </a:xfrm>
              <a:custGeom>
                <a:avLst/>
                <a:gdLst/>
                <a:ahLst/>
                <a:rect l="l" t="t" r="r" b="b"/>
                <a:pathLst>
                  <a:path w="94" h="89">
                    <a:moveTo>
                      <a:pt x="0" y="89"/>
                    </a:moveTo>
                    <a:lnTo>
                      <a:pt x="94" y="44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3" name=""/>
            <p:cNvGrpSpPr/>
            <p:nvPr/>
          </p:nvGrpSpPr>
          <p:grpSpPr>
            <a:xfrm>
              <a:off x="2719440" y="3625920"/>
              <a:ext cx="2085840" cy="141120"/>
              <a:chOff x="2719440" y="3625920"/>
              <a:chExt cx="2085840" cy="141120"/>
            </a:xfrm>
          </p:grpSpPr>
          <p:sp>
            <p:nvSpPr>
              <p:cNvPr id="674" name=""/>
              <p:cNvSpPr/>
              <p:nvPr/>
            </p:nvSpPr>
            <p:spPr>
              <a:xfrm flipH="1">
                <a:off x="2719440" y="3695760"/>
                <a:ext cx="208584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719440" y="3625920"/>
                <a:ext cx="154080" cy="141120"/>
              </a:xfrm>
              <a:custGeom>
                <a:avLst/>
                <a:gdLst/>
                <a:ahLst/>
                <a:rect l="l" t="t" r="r" b="b"/>
                <a:pathLst>
                  <a:path w="97" h="89">
                    <a:moveTo>
                      <a:pt x="97" y="0"/>
                    </a:moveTo>
                    <a:lnTo>
                      <a:pt x="0" y="46"/>
                    </a:lnTo>
                    <a:lnTo>
                      <a:pt x="97" y="89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6" name=""/>
            <p:cNvSpPr/>
            <p:nvPr/>
          </p:nvSpPr>
          <p:spPr>
            <a:xfrm>
              <a:off x="5437080" y="2685960"/>
              <a:ext cx="145116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646600" y="2751120"/>
              <a:ext cx="349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Top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999040" y="27511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159600" y="3881520"/>
              <a:ext cx="145080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409080" y="3946680"/>
              <a:ext cx="947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ush(item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367400" y="39466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6440" y="4559400"/>
              <a:ext cx="46782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308480" y="4624560"/>
              <a:ext cx="3224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op[stack contains more than 1 item]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564320" y="462456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278160" y="3216240"/>
              <a:ext cx="145116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527640" y="3281400"/>
              <a:ext cx="947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ush(item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486320" y="32814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597040" y="3743280"/>
              <a:ext cx="358164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930400" y="3809880"/>
              <a:ext cx="229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op[stack contains 1 item]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256000" y="38098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1" name=""/>
            <p:cNvGrpSpPr/>
            <p:nvPr/>
          </p:nvGrpSpPr>
          <p:grpSpPr>
            <a:xfrm>
              <a:off x="4970520" y="2836800"/>
              <a:ext cx="619200" cy="574560"/>
              <a:chOff x="4970520" y="2836800"/>
              <a:chExt cx="619200" cy="574560"/>
            </a:xfrm>
          </p:grpSpPr>
          <p:sp>
            <p:nvSpPr>
              <p:cNvPr id="692" name=""/>
              <p:cNvSpPr/>
              <p:nvPr/>
            </p:nvSpPr>
            <p:spPr>
              <a:xfrm>
                <a:off x="4970520" y="2836800"/>
                <a:ext cx="619200" cy="574560"/>
              </a:xfrm>
              <a:custGeom>
                <a:avLst/>
                <a:gdLst/>
                <a:ahLst/>
                <a:rect l="l" t="t" r="r" b="b"/>
                <a:pathLst>
                  <a:path w="390" h="362">
                    <a:moveTo>
                      <a:pt x="206" y="362"/>
                    </a:moveTo>
                    <a:lnTo>
                      <a:pt x="151" y="347"/>
                    </a:lnTo>
                    <a:lnTo>
                      <a:pt x="124" y="339"/>
                    </a:lnTo>
                    <a:lnTo>
                      <a:pt x="99" y="329"/>
                    </a:lnTo>
                    <a:lnTo>
                      <a:pt x="76" y="319"/>
                    </a:lnTo>
                    <a:lnTo>
                      <a:pt x="56" y="307"/>
                    </a:lnTo>
                    <a:lnTo>
                      <a:pt x="38" y="292"/>
                    </a:lnTo>
                    <a:lnTo>
                      <a:pt x="24" y="276"/>
                    </a:lnTo>
                    <a:lnTo>
                      <a:pt x="13" y="255"/>
                    </a:lnTo>
                    <a:lnTo>
                      <a:pt x="6" y="232"/>
                    </a:lnTo>
                    <a:lnTo>
                      <a:pt x="2" y="206"/>
                    </a:lnTo>
                    <a:lnTo>
                      <a:pt x="0" y="177"/>
                    </a:lnTo>
                    <a:lnTo>
                      <a:pt x="0" y="150"/>
                    </a:lnTo>
                    <a:lnTo>
                      <a:pt x="3" y="124"/>
                    </a:lnTo>
                    <a:lnTo>
                      <a:pt x="7" y="99"/>
                    </a:lnTo>
                    <a:lnTo>
                      <a:pt x="10" y="89"/>
                    </a:lnTo>
                    <a:lnTo>
                      <a:pt x="15" y="80"/>
                    </a:lnTo>
                    <a:lnTo>
                      <a:pt x="25" y="63"/>
                    </a:lnTo>
                    <a:lnTo>
                      <a:pt x="38" y="48"/>
                    </a:lnTo>
                    <a:lnTo>
                      <a:pt x="54" y="36"/>
                    </a:lnTo>
                    <a:lnTo>
                      <a:pt x="72" y="26"/>
                    </a:lnTo>
                    <a:lnTo>
                      <a:pt x="91" y="17"/>
                    </a:lnTo>
                    <a:lnTo>
                      <a:pt x="111" y="10"/>
                    </a:lnTo>
                    <a:lnTo>
                      <a:pt x="132" y="6"/>
                    </a:lnTo>
                    <a:lnTo>
                      <a:pt x="152" y="2"/>
                    </a:lnTo>
                    <a:lnTo>
                      <a:pt x="174" y="0"/>
                    </a:lnTo>
                    <a:lnTo>
                      <a:pt x="197" y="2"/>
                    </a:lnTo>
                    <a:lnTo>
                      <a:pt x="222" y="5"/>
                    </a:lnTo>
                    <a:lnTo>
                      <a:pt x="248" y="10"/>
                    </a:lnTo>
                    <a:lnTo>
                      <a:pt x="273" y="17"/>
                    </a:lnTo>
                    <a:lnTo>
                      <a:pt x="297" y="25"/>
                    </a:lnTo>
                    <a:lnTo>
                      <a:pt x="317" y="35"/>
                    </a:lnTo>
                    <a:lnTo>
                      <a:pt x="335" y="46"/>
                    </a:lnTo>
                    <a:lnTo>
                      <a:pt x="349" y="59"/>
                    </a:lnTo>
                    <a:lnTo>
                      <a:pt x="361" y="74"/>
                    </a:lnTo>
                    <a:lnTo>
                      <a:pt x="371" y="92"/>
                    </a:lnTo>
                    <a:lnTo>
                      <a:pt x="380" y="110"/>
                    </a:lnTo>
                    <a:lnTo>
                      <a:pt x="386" y="130"/>
                    </a:lnTo>
                    <a:lnTo>
                      <a:pt x="389" y="151"/>
                    </a:lnTo>
                    <a:lnTo>
                      <a:pt x="390" y="172"/>
                    </a:lnTo>
                    <a:lnTo>
                      <a:pt x="389" y="191"/>
                    </a:lnTo>
                    <a:lnTo>
                      <a:pt x="384" y="211"/>
                    </a:lnTo>
                    <a:lnTo>
                      <a:pt x="377" y="232"/>
                    </a:lnTo>
                    <a:lnTo>
                      <a:pt x="365" y="252"/>
                    </a:lnTo>
                    <a:lnTo>
                      <a:pt x="354" y="274"/>
                    </a:lnTo>
                    <a:lnTo>
                      <a:pt x="339" y="296"/>
                    </a:lnTo>
                    <a:lnTo>
                      <a:pt x="323" y="318"/>
                    </a:lnTo>
                    <a:lnTo>
                      <a:pt x="289" y="36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432400" y="3254400"/>
                <a:ext cx="147600" cy="156960"/>
              </a:xfrm>
              <a:custGeom>
                <a:avLst/>
                <a:gdLst/>
                <a:ahLst/>
                <a:rect l="l" t="t" r="r" b="b"/>
                <a:pathLst>
                  <a:path w="93" h="99">
                    <a:moveTo>
                      <a:pt x="14" y="0"/>
                    </a:moveTo>
                    <a:lnTo>
                      <a:pt x="0" y="99"/>
                    </a:lnTo>
                    <a:lnTo>
                      <a:pt x="93" y="5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4" name=""/>
            <p:cNvGrpSpPr/>
            <p:nvPr/>
          </p:nvGrpSpPr>
          <p:grpSpPr>
            <a:xfrm>
              <a:off x="6008760" y="3295800"/>
              <a:ext cx="598320" cy="604800"/>
              <a:chOff x="6008760" y="3295800"/>
              <a:chExt cx="598320" cy="604800"/>
            </a:xfrm>
          </p:grpSpPr>
          <p:sp>
            <p:nvSpPr>
              <p:cNvPr id="695" name=""/>
              <p:cNvSpPr/>
              <p:nvPr/>
            </p:nvSpPr>
            <p:spPr>
              <a:xfrm>
                <a:off x="6008760" y="3295800"/>
                <a:ext cx="598320" cy="604800"/>
              </a:xfrm>
              <a:custGeom>
                <a:avLst/>
                <a:gdLst/>
                <a:ahLst/>
                <a:rect l="l" t="t" r="r" b="b"/>
                <a:pathLst>
                  <a:path w="377" h="381">
                    <a:moveTo>
                      <a:pt x="0" y="150"/>
                    </a:moveTo>
                    <a:lnTo>
                      <a:pt x="41" y="102"/>
                    </a:lnTo>
                    <a:lnTo>
                      <a:pt x="62" y="80"/>
                    </a:lnTo>
                    <a:lnTo>
                      <a:pt x="82" y="59"/>
                    </a:lnTo>
                    <a:lnTo>
                      <a:pt x="103" y="40"/>
                    </a:lnTo>
                    <a:lnTo>
                      <a:pt x="123" y="25"/>
                    </a:lnTo>
                    <a:lnTo>
                      <a:pt x="143" y="13"/>
                    </a:lnTo>
                    <a:lnTo>
                      <a:pt x="164" y="4"/>
                    </a:lnTo>
                    <a:lnTo>
                      <a:pt x="186" y="0"/>
                    </a:lnTo>
                    <a:lnTo>
                      <a:pt x="209" y="2"/>
                    </a:lnTo>
                    <a:lnTo>
                      <a:pt x="234" y="4"/>
                    </a:lnTo>
                    <a:lnTo>
                      <a:pt x="259" y="11"/>
                    </a:lnTo>
                    <a:lnTo>
                      <a:pt x="282" y="20"/>
                    </a:lnTo>
                    <a:lnTo>
                      <a:pt x="304" y="30"/>
                    </a:lnTo>
                    <a:lnTo>
                      <a:pt x="323" y="43"/>
                    </a:lnTo>
                    <a:lnTo>
                      <a:pt x="338" y="55"/>
                    </a:lnTo>
                    <a:lnTo>
                      <a:pt x="349" y="70"/>
                    </a:lnTo>
                    <a:lnTo>
                      <a:pt x="360" y="87"/>
                    </a:lnTo>
                    <a:lnTo>
                      <a:pt x="367" y="106"/>
                    </a:lnTo>
                    <a:lnTo>
                      <a:pt x="373" y="126"/>
                    </a:lnTo>
                    <a:lnTo>
                      <a:pt x="376" y="147"/>
                    </a:lnTo>
                    <a:lnTo>
                      <a:pt x="377" y="169"/>
                    </a:lnTo>
                    <a:lnTo>
                      <a:pt x="377" y="189"/>
                    </a:lnTo>
                    <a:lnTo>
                      <a:pt x="374" y="210"/>
                    </a:lnTo>
                    <a:lnTo>
                      <a:pt x="370" y="230"/>
                    </a:lnTo>
                    <a:lnTo>
                      <a:pt x="363" y="254"/>
                    </a:lnTo>
                    <a:lnTo>
                      <a:pt x="352" y="278"/>
                    </a:lnTo>
                    <a:lnTo>
                      <a:pt x="342" y="302"/>
                    </a:lnTo>
                    <a:lnTo>
                      <a:pt x="329" y="325"/>
                    </a:lnTo>
                    <a:lnTo>
                      <a:pt x="314" y="345"/>
                    </a:lnTo>
                    <a:lnTo>
                      <a:pt x="298" y="362"/>
                    </a:lnTo>
                    <a:lnTo>
                      <a:pt x="291" y="367"/>
                    </a:lnTo>
                    <a:lnTo>
                      <a:pt x="282" y="373"/>
                    </a:lnTo>
                    <a:lnTo>
                      <a:pt x="265" y="378"/>
                    </a:lnTo>
                    <a:lnTo>
                      <a:pt x="243" y="381"/>
                    </a:lnTo>
                    <a:lnTo>
                      <a:pt x="221" y="380"/>
                    </a:lnTo>
                    <a:lnTo>
                      <a:pt x="198" y="376"/>
                    </a:lnTo>
                    <a:lnTo>
                      <a:pt x="174" y="369"/>
                    </a:lnTo>
                    <a:lnTo>
                      <a:pt x="151" y="362"/>
                    </a:lnTo>
                    <a:lnTo>
                      <a:pt x="129" y="355"/>
                    </a:lnTo>
                    <a:lnTo>
                      <a:pt x="110" y="347"/>
                    </a:lnTo>
                    <a:lnTo>
                      <a:pt x="92" y="339"/>
                    </a:lnTo>
                    <a:lnTo>
                      <a:pt x="76" y="329"/>
                    </a:lnTo>
                    <a:lnTo>
                      <a:pt x="49" y="306"/>
                    </a:lnTo>
                    <a:lnTo>
                      <a:pt x="24" y="280"/>
                    </a:lnTo>
                    <a:lnTo>
                      <a:pt x="0" y="25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012000" y="3699000"/>
                <a:ext cx="155520" cy="152280"/>
              </a:xfrm>
              <a:custGeom>
                <a:avLst/>
                <a:gdLst/>
                <a:ahLst/>
                <a:rect l="l" t="t" r="r" b="b"/>
                <a:pathLst>
                  <a:path w="98" h="96">
                    <a:moveTo>
                      <a:pt x="98" y="37"/>
                    </a:moveTo>
                    <a:lnTo>
                      <a:pt x="0" y="0"/>
                    </a:lnTo>
                    <a:lnTo>
                      <a:pt x="26" y="96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7" name=""/>
            <p:cNvGrpSpPr/>
            <p:nvPr/>
          </p:nvGrpSpPr>
          <p:grpSpPr>
            <a:xfrm>
              <a:off x="4910040" y="3857760"/>
              <a:ext cx="790560" cy="733320"/>
              <a:chOff x="4910040" y="3857760"/>
              <a:chExt cx="790560" cy="733320"/>
            </a:xfrm>
          </p:grpSpPr>
          <p:sp>
            <p:nvSpPr>
              <p:cNvPr id="698" name=""/>
              <p:cNvSpPr/>
              <p:nvPr/>
            </p:nvSpPr>
            <p:spPr>
              <a:xfrm>
                <a:off x="4910040" y="3859200"/>
                <a:ext cx="790560" cy="731880"/>
              </a:xfrm>
              <a:custGeom>
                <a:avLst/>
                <a:gdLst/>
                <a:ahLst/>
                <a:rect l="l" t="t" r="r" b="b"/>
                <a:pathLst>
                  <a:path w="498" h="461">
                    <a:moveTo>
                      <a:pt x="181" y="0"/>
                    </a:moveTo>
                    <a:lnTo>
                      <a:pt x="124" y="37"/>
                    </a:lnTo>
                    <a:lnTo>
                      <a:pt x="98" y="55"/>
                    </a:lnTo>
                    <a:lnTo>
                      <a:pt x="73" y="74"/>
                    </a:lnTo>
                    <a:lnTo>
                      <a:pt x="50" y="94"/>
                    </a:lnTo>
                    <a:lnTo>
                      <a:pt x="32" y="116"/>
                    </a:lnTo>
                    <a:lnTo>
                      <a:pt x="18" y="138"/>
                    </a:lnTo>
                    <a:lnTo>
                      <a:pt x="8" y="163"/>
                    </a:lnTo>
                    <a:lnTo>
                      <a:pt x="2" y="190"/>
                    </a:lnTo>
                    <a:lnTo>
                      <a:pt x="0" y="222"/>
                    </a:lnTo>
                    <a:lnTo>
                      <a:pt x="2" y="255"/>
                    </a:lnTo>
                    <a:lnTo>
                      <a:pt x="8" y="289"/>
                    </a:lnTo>
                    <a:lnTo>
                      <a:pt x="16" y="323"/>
                    </a:lnTo>
                    <a:lnTo>
                      <a:pt x="29" y="353"/>
                    </a:lnTo>
                    <a:lnTo>
                      <a:pt x="44" y="381"/>
                    </a:lnTo>
                    <a:lnTo>
                      <a:pt x="53" y="393"/>
                    </a:lnTo>
                    <a:lnTo>
                      <a:pt x="62" y="403"/>
                    </a:lnTo>
                    <a:lnTo>
                      <a:pt x="72" y="411"/>
                    </a:lnTo>
                    <a:lnTo>
                      <a:pt x="85" y="419"/>
                    </a:lnTo>
                    <a:lnTo>
                      <a:pt x="114" y="434"/>
                    </a:lnTo>
                    <a:lnTo>
                      <a:pt x="146" y="445"/>
                    </a:lnTo>
                    <a:lnTo>
                      <a:pt x="183" y="455"/>
                    </a:lnTo>
                    <a:lnTo>
                      <a:pt x="219" y="460"/>
                    </a:lnTo>
                    <a:lnTo>
                      <a:pt x="254" y="461"/>
                    </a:lnTo>
                    <a:lnTo>
                      <a:pt x="288" y="459"/>
                    </a:lnTo>
                    <a:lnTo>
                      <a:pt x="317" y="453"/>
                    </a:lnTo>
                    <a:lnTo>
                      <a:pt x="330" y="449"/>
                    </a:lnTo>
                    <a:lnTo>
                      <a:pt x="345" y="442"/>
                    </a:lnTo>
                    <a:lnTo>
                      <a:pt x="358" y="434"/>
                    </a:lnTo>
                    <a:lnTo>
                      <a:pt x="371" y="425"/>
                    </a:lnTo>
                    <a:lnTo>
                      <a:pt x="397" y="404"/>
                    </a:lnTo>
                    <a:lnTo>
                      <a:pt x="422" y="378"/>
                    </a:lnTo>
                    <a:lnTo>
                      <a:pt x="446" y="352"/>
                    </a:lnTo>
                    <a:lnTo>
                      <a:pt x="465" y="325"/>
                    </a:lnTo>
                    <a:lnTo>
                      <a:pt x="481" y="299"/>
                    </a:lnTo>
                    <a:lnTo>
                      <a:pt x="491" y="274"/>
                    </a:lnTo>
                    <a:lnTo>
                      <a:pt x="497" y="251"/>
                    </a:lnTo>
                    <a:lnTo>
                      <a:pt x="498" y="227"/>
                    </a:lnTo>
                    <a:lnTo>
                      <a:pt x="495" y="203"/>
                    </a:lnTo>
                    <a:lnTo>
                      <a:pt x="489" y="178"/>
                    </a:lnTo>
                    <a:lnTo>
                      <a:pt x="481" y="155"/>
                    </a:lnTo>
                    <a:lnTo>
                      <a:pt x="470" y="133"/>
                    </a:lnTo>
                    <a:lnTo>
                      <a:pt x="459" y="112"/>
                    </a:lnTo>
                    <a:lnTo>
                      <a:pt x="446" y="94"/>
                    </a:lnTo>
                    <a:lnTo>
                      <a:pt x="432" y="78"/>
                    </a:lnTo>
                    <a:lnTo>
                      <a:pt x="416" y="64"/>
                    </a:lnTo>
                    <a:lnTo>
                      <a:pt x="397" y="51"/>
                    </a:lnTo>
                    <a:lnTo>
                      <a:pt x="378" y="40"/>
                    </a:lnTo>
                    <a:lnTo>
                      <a:pt x="336" y="19"/>
                    </a:lnTo>
                    <a:lnTo>
                      <a:pt x="291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372280" y="3857760"/>
                <a:ext cx="171360" cy="129960"/>
              </a:xfrm>
              <a:custGeom>
                <a:avLst/>
                <a:gdLst/>
                <a:ahLst/>
                <a:rect l="l" t="t" r="r" b="b"/>
                <a:pathLst>
                  <a:path w="108" h="82">
                    <a:moveTo>
                      <a:pt x="108" y="0"/>
                    </a:moveTo>
                    <a:lnTo>
                      <a:pt x="0" y="1"/>
                    </a:lnTo>
                    <a:lnTo>
                      <a:pt x="66" y="8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DEDE-0504-4007-A3F8-5B659389ACDC}" type="slidenum">
              <a:t>1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zing logic specifications: Z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specified by describing state space, using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Z shem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erties of state space described by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varia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edic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dicates written in first-order log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s define state transform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A33C-5BCF-43C9-A08F-F9D2E5AA8C67}" type="slidenum">
              <a:t>1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elevator example in Z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3" name="" descr=""/>
          <p:cNvPicPr/>
          <p:nvPr/>
        </p:nvPicPr>
        <p:blipFill>
          <a:blip r:embed="rId1"/>
          <a:stretch/>
        </p:blipFill>
        <p:spPr>
          <a:xfrm>
            <a:off x="1600200" y="762120"/>
            <a:ext cx="535608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E804-8F93-4471-83F5-F45B0D769BEF}" type="slidenum">
              <a:t>1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tempt #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533520" y="2590920"/>
            <a:ext cx="7308720" cy="192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BF39-D6C0-4E81-A197-C728E2D48B8C}" type="slidenum">
              <a:t>1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tempt #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7" name="" descr=""/>
          <p:cNvPicPr/>
          <p:nvPr/>
        </p:nvPicPr>
        <p:blipFill>
          <a:blip r:embed="rId1"/>
          <a:stretch/>
        </p:blipFill>
        <p:spPr>
          <a:xfrm>
            <a:off x="533520" y="2017800"/>
            <a:ext cx="7619760" cy="447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9E94-2333-46BC-B6A7-2AC2F6D080DA}" type="slidenum">
              <a:t>1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1"/>
          <a:stretch/>
        </p:blipFill>
        <p:spPr>
          <a:xfrm>
            <a:off x="1143000" y="1389240"/>
            <a:ext cx="6705720" cy="482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B10B-27D5-4A57-898C-BC745D99DD74}" type="slidenum">
              <a:t>1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438480" y="2658960"/>
            <a:ext cx="232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2819520" y="152280"/>
            <a:ext cx="4419360" cy="6486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49BF-A7A7-489F-962F-87A8C58F4992}" type="slidenum">
              <a:t>1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2411280" y="111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z5(2)" descr=""/>
          <p:cNvPicPr/>
          <p:nvPr/>
        </p:nvPicPr>
        <p:blipFill>
          <a:blip r:embed="rId1"/>
          <a:stretch/>
        </p:blipFill>
        <p:spPr>
          <a:xfrm>
            <a:off x="3200400" y="228600"/>
            <a:ext cx="5481720" cy="586728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438480" y="2658960"/>
            <a:ext cx="232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6171-2581-41DF-A99B-78B7E92BD040}" type="slidenum">
              <a:t>1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ification of specification sty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l, semi-formal, form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havior specification in terms of some abstract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p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havior described in terms of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FE27-4400-40E9-B511-1568205299E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s for the    end-us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s should be used as common reference for producer and 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help removing ambiguity, incompleteness,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they be understood by end-use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be the starting point for a proto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support some form of animation (e.g., see Petri ne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FCFF-5C82-413C-AD5F-691AF9C03E92}" type="slidenum">
              <a:t>1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lusion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ations describ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the users need from a system (requirements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design of a software system (design and architecture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eatures offered by a system (functional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erformance characteristics of a system (performance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xternal behavior of a module (module interface specificatio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internal structure of a module (internal structural specification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5515-D5B1-4685-8F20-180ADC8A30C0}" type="slidenum">
              <a:t>1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lusion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ptions are given via suitable no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“ideal” no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ust be 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support communication and interaction between designers and us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2821-EA9C-48D0-B634-7CD6614A8DDE}" type="slidenum">
              <a:t>1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ication of a geometric figure 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"/>
          <p:cNvSpPr/>
          <p:nvPr/>
        </p:nvSpPr>
        <p:spPr>
          <a:xfrm>
            <a:off x="1050840" y="2438280"/>
            <a:ext cx="7102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 can be drawn as follo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lect two points P1 and P2 on a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 string of a certain length and fix its ends to P1 and 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sition a pencil as shown 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xt fig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ve the pen clockwise, keeping the string tightly stretched, until you reach the point where you started dra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36800" y="5562720"/>
            <a:ext cx="481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his is an operational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F841-F91D-4B73-9F80-AEED196CB36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13200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003720" cy="3416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3CD6-3DBD-44EF-9CCD-0B23DC646D1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descriptive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Geometric figure E is describe by the following eq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x2 + by2 + c = 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ere a, b, and c are suitable constant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E0A2-C36D-4E13-B1E7-F11463B4C1B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et a be an array of n elements. The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sult of its sorting is an array b of n elements such that the first element of b is the minimum of a (if several elements of a have the same value, any one of them is acceptable); the second element of b is the minimum of the array of n-1 elements obtained from a by removing its minimum element; and so on until all n elements of a have been removed.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5181480"/>
            <a:ext cx="7467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result of sorting array a is an array b which is a permutation of a and is sorted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20574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52578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7640" y="236232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4760" y="55198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16E0-3410-4B53-880E-0A755415A57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verify a specificatio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e” dynamic behavior of specified system (simulation, prototyping, “testing” spec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ze properties of the specified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ogy with traditional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model of a 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thematical model of a 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8B69-84EE-4F00-8B39-5847F256B3F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of the term "specification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specif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a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Data Flow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(Some)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UML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Finite State Mach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tri Nets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Entity Relationship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ogic-based no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ic no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guages for modular specification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cha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FCD8-5F96-4388-808E-D6AEA711CE1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 Flow Diagrams (DFD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A semi-formal operational spec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System viewed as collection of data manipulated by “functions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ata can be per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y are stored in 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</a:rPr>
              <a:t>data reposito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ata can flow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y are represented by 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</a:rPr>
              <a:t>data fl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FDs have a graphical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74C7-9CD2-4EB1-9A56-42AE19D92EC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ical n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bubbl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arc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data flo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open box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persistent st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closed box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I/O inte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261468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14400" y="4191120"/>
            <a:ext cx="7574040" cy="175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C85D-B829-4082-BC36-B16FDEEAE03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262908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762120" y="1066680"/>
            <a:ext cx="6096240" cy="5378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002920" y="2819520"/>
            <a:ext cx="336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ies evaluat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a + b) * (c + a * d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EEA7-E486-482C-B650-0241C42C8CC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struction “method”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447920" y="3048120"/>
          <a:ext cx="6345000" cy="23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048120"/>
                    <a:ext cx="634500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1444320" y="1817640"/>
            <a:ext cx="686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Start from the “context” dia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85C6-4353-4D1B-9168-0E81394E0D5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struction “method”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752480" y="2133720"/>
          <a:ext cx="5867640" cy="449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133720"/>
                    <a:ext cx="586764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685800" y="9144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0960" indent="-480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Proceed by refinements until you reach        “elementary” functions (preserve balanc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BD16-7667-4A53-A4E8-28620778D5A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library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371600" y="1027080"/>
          <a:ext cx="6248520" cy="551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027080"/>
                    <a:ext cx="6248520" cy="551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4A80-AF14-46B0-BCAE-48BDB2210C3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finement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“Get a book”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066680" y="1371600"/>
          <a:ext cx="7239240" cy="4751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371600"/>
                    <a:ext cx="723924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D0D8-AB16-40CD-BD6B-F54DDE984E7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tient monitoring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527400" y="1219320"/>
            <a:ext cx="8344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urpose is to monitor the patients’ vital factors--bloo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sure, temperature, …--reading them at specified frequ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rom analog devices and storing readings in a DB. If readings f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tside the range specified for patient or device fails an ala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 be sent to a nurse. The system also provides repor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523880" y="3352680"/>
          <a:ext cx="6324840" cy="305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352680"/>
                    <a:ext cx="6324840" cy="30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31DD-C1EB-4E3E-945F-731D6C612FA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85800" y="914400"/>
          <a:ext cx="8039160" cy="513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14400"/>
                    <a:ext cx="8039160" cy="51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09FF-8E56-4327-8CAE-8F6B933A89E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85800" y="1371600"/>
          <a:ext cx="8001000" cy="468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8001000" cy="46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CF84-B880-4B98-978B-95CC94B1287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road term that mean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d at different stages of software development for different purpo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ly, a statement of agreement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ntrac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betwe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r and consumer of 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r and u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 desirable qualities must be spec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4772-03C0-4703-9AED-ACEB992141C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valuation of DFD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read, but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 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to define leaf funct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herent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09480" y="3200400"/>
          <a:ext cx="3936960" cy="261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200400"/>
                    <a:ext cx="3936960" cy="26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4503960" y="3962520"/>
            <a:ext cx="50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s from A, B, C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eed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s for E and F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d at the same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9359-E7D3-4F1C-81B0-7F5793058EF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valuation of DFD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information is abs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819520" y="2743200"/>
          <a:ext cx="2895480" cy="676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2743200"/>
                    <a:ext cx="289548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542880" y="3538440"/>
            <a:ext cx="7959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interpret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roduces datum, waits until B consumes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can read the datum many times with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in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ipe is inserted between A and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BC97-9164-4365-9D1C-BB6CA474849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malization/exten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have been attempts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ormaliz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F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have been attempts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ten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FDs (e.g., for real-time system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370044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133720" y="3809880"/>
            <a:ext cx="2976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088A-297F-448A-9FCC-8BF81F3FE78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use-case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functions on basis of actors and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217188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339560" y="2103480"/>
            <a:ext cx="6051960" cy="3882960"/>
            <a:chOff x="1339560" y="2103480"/>
            <a:chExt cx="6051960" cy="3882960"/>
          </a:xfrm>
        </p:grpSpPr>
        <p:sp>
          <p:nvSpPr>
            <p:cNvPr id="145" name=""/>
            <p:cNvSpPr/>
            <p:nvPr/>
          </p:nvSpPr>
          <p:spPr>
            <a:xfrm>
              <a:off x="1339560" y="21034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484360" y="4040280"/>
              <a:ext cx="187560" cy="198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81200" y="4230720"/>
              <a:ext cx="180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51240" y="4381560"/>
              <a:ext cx="258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36840" y="4545000"/>
              <a:ext cx="266760" cy="200160"/>
            </a:xfrm>
            <a:custGeom>
              <a:avLst/>
              <a:gdLst/>
              <a:ahLst/>
              <a:rect l="l" t="t" r="r" b="b"/>
              <a:pathLst>
                <a:path w="168" h="126">
                  <a:moveTo>
                    <a:pt x="168" y="126"/>
                  </a:moveTo>
                  <a:lnTo>
                    <a:pt x="91" y="0"/>
                  </a:lnTo>
                  <a:lnTo>
                    <a:pt x="0" y="1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56120" y="4051440"/>
              <a:ext cx="187560" cy="20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52960" y="4245120"/>
              <a:ext cx="180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23000" y="4395960"/>
              <a:ext cx="258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08600" y="4559400"/>
              <a:ext cx="266760" cy="199800"/>
            </a:xfrm>
            <a:custGeom>
              <a:avLst/>
              <a:gdLst/>
              <a:ahLst/>
              <a:rect l="l" t="t" r="r" b="b"/>
              <a:pathLst>
                <a:path w="168" h="126">
                  <a:moveTo>
                    <a:pt x="168" y="126"/>
                  </a:moveTo>
                  <a:lnTo>
                    <a:pt x="91" y="0"/>
                  </a:lnTo>
                  <a:lnTo>
                    <a:pt x="0" y="1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038400" y="2765520"/>
              <a:ext cx="2428920" cy="3220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73360" y="2921040"/>
              <a:ext cx="1224000" cy="804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952080" y="3087720"/>
              <a:ext cx="637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rrow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34880" y="3324240"/>
              <a:ext cx="40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433760" y="3324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81280" y="3978360"/>
              <a:ext cx="1222560" cy="803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008960" y="4148280"/>
              <a:ext cx="535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tur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042800" y="4387680"/>
              <a:ext cx="40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43120" y="43876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602160" y="4976640"/>
              <a:ext cx="1222200" cy="803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001760" y="5143680"/>
              <a:ext cx="59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brar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001760" y="5380200"/>
              <a:ext cx="54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pd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30600" y="53802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2792520" y="3505320"/>
              <a:ext cx="836640" cy="74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00440" y="4416480"/>
              <a:ext cx="772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flipV="1">
              <a:off x="4745160" y="3470400"/>
              <a:ext cx="1008000" cy="82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4779720" y="4441680"/>
              <a:ext cx="911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4807080" y="4676760"/>
              <a:ext cx="898560" cy="58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7800" y="4383000"/>
              <a:ext cx="1233720" cy="123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347880" y="4451400"/>
              <a:ext cx="68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brari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021440" y="44514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805040" y="4745160"/>
              <a:ext cx="1233360" cy="123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996200" y="4813200"/>
              <a:ext cx="74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usto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725560" y="48132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55C7-7592-49D8-AC53-DF1A890E2FB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sequence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scribe how objects interact by exchanging mess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dynamic vi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1828800" y="132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8229600" cy="6319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C8EF-30E4-4319-805B-90DA84AAAAF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collaboration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ive object interactions and their or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ivalent to sequence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182880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-838080" y="2895480"/>
            <a:ext cx="11353680" cy="373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1C53-0142-4D70-BEAF-617B30BD9B3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ite state machines (FSM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6964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specify control flow asp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384480" y="2971800"/>
            <a:ext cx="619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finite set of states, Q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finite set of inputs,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transition function d : Q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 can be a partial fun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1488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181480" y="3747960"/>
            <a:ext cx="3048120" cy="253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07B8-B4ED-4E63-82F7-F7204A0C32D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a lam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/>
          <p:nvPr/>
        </p:nvSpPr>
        <p:spPr>
          <a:xfrm>
            <a:off x="34862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828800" y="1932120"/>
            <a:ext cx="5181480" cy="31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A3A5-727D-4812-AD6A-104055A3EA4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other exampl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lant control syst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600200" y="2133720"/>
          <a:ext cx="5410080" cy="42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133720"/>
                    <a:ext cx="541008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299A-4623-4C07-819F-FE2E2A03276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295280" y="1371600"/>
          <a:ext cx="6629400" cy="427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371600"/>
                    <a:ext cx="6629400" cy="42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7D5F-7B10-4982-BAEA-2556B4481C4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ment of user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jor failures occur because of misunderstandings between the producer and the user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The hardest single part of building a softwa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system is deciding precisely what to buil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 (F. Brook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2F42-43A4-4D53-9828-EBE6D8B29A9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es of FS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terministic/nondeterminist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SMs a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e final st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SMs as transduc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e set of outp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5D4D-9A32-48A7-AC04-2E55E11E6C76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SMs as recogni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252252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7155000" cy="27795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2978640" y="5334120"/>
            <a:ext cx="237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is a final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DC63-8F3C-451E-91F7-5F635F03D3B0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SMs as recogni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"/>
          <p:cNvSpPr/>
          <p:nvPr/>
        </p:nvSpPr>
        <p:spPr>
          <a:xfrm>
            <a:off x="284652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943600" cy="511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6CBF-D0C0-4981-8F93-E2E8293B6BE5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i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ite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 explo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a number of FSMs with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…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s, their composition is a FSM with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*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*… *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rowth is exponential with the number of FSMs, not linear (we would like it to be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… +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5213-FB99-4938-9797-9F6B7A4391D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 explosion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057400" y="1371600"/>
          <a:ext cx="4875120" cy="51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371600"/>
                    <a:ext cx="4875120" cy="51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E56F-2729-46C5-84B9-EA43818BEAFE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sulting FS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"/>
          <p:cNvSpPr/>
          <p:nvPr/>
        </p:nvSpPr>
        <p:spPr>
          <a:xfrm>
            <a:off x="2789280" y="21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295280" y="1143000"/>
            <a:ext cx="6629400" cy="494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5812-1C33-4820-A17F-201516A509E9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A quadruple (P,T,F,W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: places  T: transitions (P, T are finite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F: flow relation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{P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}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{T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}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                                    W: weight function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W: F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N – {0}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roperties: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1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 = Ø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2) 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Ø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3)F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(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)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(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4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W: F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N-{0}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ault value of W is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defined by marking: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: P </a:t>
            </a:r>
            <a:r>
              <a:rPr b="0" lang="it-IT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7CAA-B03F-4F2D-BDB4-4D243FCEC977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1143000" y="914400"/>
          <a:ext cx="6172200" cy="471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914400"/>
                    <a:ext cx="6172200" cy="47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1" name=""/>
          <p:cNvGrpSpPr/>
          <p:nvPr/>
        </p:nvGrpSpPr>
        <p:grpSpPr>
          <a:xfrm>
            <a:off x="1219320" y="1981080"/>
            <a:ext cx="6400800" cy="4533840"/>
            <a:chOff x="1219320" y="1981080"/>
            <a:chExt cx="6400800" cy="4533840"/>
          </a:xfrm>
        </p:grpSpPr>
        <p:sp>
          <p:nvSpPr>
            <p:cNvPr id="222" name=""/>
            <p:cNvSpPr/>
            <p:nvPr/>
          </p:nvSpPr>
          <p:spPr>
            <a:xfrm>
              <a:off x="2670120" y="2379600"/>
              <a:ext cx="459000" cy="41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32320" y="3143160"/>
              <a:ext cx="5857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321000" y="4491000"/>
              <a:ext cx="687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3090960" y="3986280"/>
              <a:ext cx="536400" cy="458640"/>
              <a:chOff x="3090960" y="3986280"/>
              <a:chExt cx="536400" cy="458640"/>
            </a:xfrm>
          </p:grpSpPr>
          <p:sp>
            <p:nvSpPr>
              <p:cNvPr id="226" name=""/>
              <p:cNvSpPr/>
              <p:nvPr/>
            </p:nvSpPr>
            <p:spPr>
              <a:xfrm>
                <a:off x="3474360" y="4307400"/>
                <a:ext cx="153000" cy="13752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120" y="120"/>
                    </a:moveTo>
                    <a:lnTo>
                      <a:pt x="0" y="60"/>
                    </a:lnTo>
                    <a:lnTo>
                      <a:pt x="20" y="40"/>
                    </a:lnTo>
                    <a:lnTo>
                      <a:pt x="40" y="0"/>
                    </a:lnTo>
                    <a:lnTo>
                      <a:pt x="12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090960" y="3986280"/>
                <a:ext cx="408960" cy="36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3807000" y="3943440"/>
              <a:ext cx="508680" cy="501120"/>
              <a:chOff x="3807000" y="3943440"/>
              <a:chExt cx="508680" cy="501120"/>
            </a:xfrm>
          </p:grpSpPr>
          <p:sp>
            <p:nvSpPr>
              <p:cNvPr id="229" name=""/>
              <p:cNvSpPr/>
              <p:nvPr/>
            </p:nvSpPr>
            <p:spPr>
              <a:xfrm>
                <a:off x="3807000" y="4353480"/>
                <a:ext cx="101520" cy="91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0" y="8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80" y="2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3857400" y="3943440"/>
                <a:ext cx="458280" cy="41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3065760" y="4467240"/>
              <a:ext cx="434520" cy="410760"/>
              <a:chOff x="3065760" y="4467240"/>
              <a:chExt cx="434520" cy="410760"/>
            </a:xfrm>
          </p:grpSpPr>
          <p:sp>
            <p:nvSpPr>
              <p:cNvPr id="232" name=""/>
              <p:cNvSpPr/>
              <p:nvPr/>
            </p:nvSpPr>
            <p:spPr>
              <a:xfrm>
                <a:off x="3065760" y="4763880"/>
                <a:ext cx="76320" cy="114120"/>
              </a:xfrm>
              <a:custGeom>
                <a:avLst/>
                <a:gdLst/>
                <a:ahLst/>
                <a:rect l="l" t="t" r="r" b="b"/>
                <a:pathLst>
                  <a:path w="60" h="100">
                    <a:moveTo>
                      <a:pt x="0" y="100"/>
                    </a:moveTo>
                    <a:lnTo>
                      <a:pt x="40" y="0"/>
                    </a:lnTo>
                    <a:lnTo>
                      <a:pt x="40" y="40"/>
                    </a:lnTo>
                    <a:lnTo>
                      <a:pt x="60" y="60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3116520" y="4467240"/>
                <a:ext cx="38376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3143520" y="5106960"/>
              <a:ext cx="431280" cy="568080"/>
              <a:chOff x="3143520" y="5106960"/>
              <a:chExt cx="431280" cy="568080"/>
            </a:xfrm>
          </p:grpSpPr>
          <p:sp>
            <p:nvSpPr>
              <p:cNvPr id="235" name=""/>
              <p:cNvSpPr/>
              <p:nvPr/>
            </p:nvSpPr>
            <p:spPr>
              <a:xfrm>
                <a:off x="3448080" y="5538600"/>
                <a:ext cx="126720" cy="136440"/>
              </a:xfrm>
              <a:custGeom>
                <a:avLst/>
                <a:gdLst/>
                <a:ahLst/>
                <a:rect l="l" t="t" r="r" b="b"/>
                <a:pathLst>
                  <a:path w="100" h="120">
                    <a:moveTo>
                      <a:pt x="100" y="120"/>
                    </a:moveTo>
                    <a:lnTo>
                      <a:pt x="0" y="40"/>
                    </a:lnTo>
                    <a:lnTo>
                      <a:pt x="20" y="20"/>
                    </a:lnTo>
                    <a:lnTo>
                      <a:pt x="40" y="0"/>
                    </a:lnTo>
                    <a:lnTo>
                      <a:pt x="10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143520" y="5106960"/>
                <a:ext cx="329760" cy="45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2963520" y="19810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339800" y="30747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192120" y="35989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143160" y="2666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728880" y="4491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350440" y="47401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628080" y="5148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217680" y="2822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830760" y="4605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117960" y="2095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492440" y="3235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320640" y="3805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479320" y="4924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728880" y="5286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95680" y="3633840"/>
              <a:ext cx="458640" cy="40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354560" y="3611520"/>
              <a:ext cx="459000" cy="409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748240" y="4911840"/>
              <a:ext cx="458640" cy="407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345120" y="5697360"/>
              <a:ext cx="68868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507480" y="2308320"/>
              <a:ext cx="1024560" cy="3925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4"/>
                  </a:moveTo>
                  <a:arcTo wR="10800" hR="10800" stAng="-17791" swAng="549282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4"/>
                  </a:moveTo>
                  <a:arcTo wR="10800" hR="10800" stAng="-17791" swAng="5492822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792600" y="5100120"/>
              <a:ext cx="510840" cy="113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63" y="21599"/>
                  </a:moveTo>
                  <a:arcTo wR="10800" hR="10800" stAng="5443603" swAng="537340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63" y="21599"/>
                  </a:moveTo>
                  <a:arcTo wR="10800" hR="10800" stAng="5443603" swAng="5373408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054760" y="4467240"/>
              <a:ext cx="689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4749840" y="4010040"/>
              <a:ext cx="534600" cy="456840"/>
              <a:chOff x="4749840" y="4010040"/>
              <a:chExt cx="534600" cy="456840"/>
            </a:xfrm>
          </p:grpSpPr>
          <p:sp>
            <p:nvSpPr>
              <p:cNvPr id="259" name=""/>
              <p:cNvSpPr/>
              <p:nvPr/>
            </p:nvSpPr>
            <p:spPr>
              <a:xfrm>
                <a:off x="5131800" y="4330800"/>
                <a:ext cx="152640" cy="136080"/>
              </a:xfrm>
              <a:custGeom>
                <a:avLst/>
                <a:gdLst/>
                <a:ahLst/>
                <a:rect l="l" t="t" r="r" b="b"/>
                <a:pathLst>
                  <a:path w="120" h="119">
                    <a:moveTo>
                      <a:pt x="120" y="119"/>
                    </a:moveTo>
                    <a:lnTo>
                      <a:pt x="0" y="60"/>
                    </a:lnTo>
                    <a:lnTo>
                      <a:pt x="20" y="40"/>
                    </a:lnTo>
                    <a:lnTo>
                      <a:pt x="40" y="0"/>
                    </a:lnTo>
                    <a:lnTo>
                      <a:pt x="120" y="1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749840" y="4010040"/>
                <a:ext cx="407520" cy="36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5411880" y="3943440"/>
              <a:ext cx="510840" cy="501120"/>
              <a:chOff x="5411880" y="3943440"/>
              <a:chExt cx="510840" cy="501120"/>
            </a:xfrm>
          </p:grpSpPr>
          <p:sp>
            <p:nvSpPr>
              <p:cNvPr id="262" name=""/>
              <p:cNvSpPr/>
              <p:nvPr/>
            </p:nvSpPr>
            <p:spPr>
              <a:xfrm>
                <a:off x="5411880" y="4353480"/>
                <a:ext cx="102240" cy="91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0" y="8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80" y="2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5462640" y="3943440"/>
                <a:ext cx="460080" cy="41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5438880" y="4467240"/>
              <a:ext cx="431280" cy="570960"/>
              <a:chOff x="5438880" y="4467240"/>
              <a:chExt cx="431280" cy="570960"/>
            </a:xfrm>
          </p:grpSpPr>
          <p:sp>
            <p:nvSpPr>
              <p:cNvPr id="265" name=""/>
              <p:cNvSpPr/>
              <p:nvPr/>
            </p:nvSpPr>
            <p:spPr>
              <a:xfrm>
                <a:off x="5743440" y="4901400"/>
                <a:ext cx="126720" cy="136800"/>
              </a:xfrm>
              <a:custGeom>
                <a:avLst/>
                <a:gdLst/>
                <a:ahLst/>
                <a:rect l="l" t="t" r="r" b="b"/>
                <a:pathLst>
                  <a:path w="100" h="120">
                    <a:moveTo>
                      <a:pt x="100" y="120"/>
                    </a:moveTo>
                    <a:lnTo>
                      <a:pt x="0" y="20"/>
                    </a:lnTo>
                    <a:lnTo>
                      <a:pt x="20" y="20"/>
                    </a:lnTo>
                    <a:lnTo>
                      <a:pt x="40" y="0"/>
                    </a:lnTo>
                    <a:lnTo>
                      <a:pt x="10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438880" y="4467240"/>
                <a:ext cx="329760" cy="45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5807160" y="4935600"/>
              <a:ext cx="459000" cy="407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079960" y="5697360"/>
              <a:ext cx="68904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884920" y="2379600"/>
              <a:ext cx="459000" cy="41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845320" y="3143160"/>
              <a:ext cx="5875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908680" y="3633840"/>
              <a:ext cx="460440" cy="40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5513400" y="5262480"/>
              <a:ext cx="306000" cy="388800"/>
              <a:chOff x="5513400" y="5262480"/>
              <a:chExt cx="306000" cy="388800"/>
            </a:xfrm>
          </p:grpSpPr>
          <p:sp>
            <p:nvSpPr>
              <p:cNvPr id="273" name=""/>
              <p:cNvSpPr/>
              <p:nvPr/>
            </p:nvSpPr>
            <p:spPr>
              <a:xfrm>
                <a:off x="5513400" y="5445360"/>
                <a:ext cx="178560" cy="205920"/>
              </a:xfrm>
              <a:custGeom>
                <a:avLst/>
                <a:gdLst/>
                <a:ahLst/>
                <a:rect l="l" t="t" r="r" b="b"/>
                <a:pathLst>
                  <a:path w="140" h="180">
                    <a:moveTo>
                      <a:pt x="0" y="180"/>
                    </a:moveTo>
                    <a:lnTo>
                      <a:pt x="60" y="0"/>
                    </a:lnTo>
                    <a:lnTo>
                      <a:pt x="60" y="80"/>
                    </a:lnTo>
                    <a:lnTo>
                      <a:pt x="140" y="6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>
                <a:off x="5589720" y="5262480"/>
                <a:ext cx="229680" cy="27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2786040" y="2757600"/>
              <a:ext cx="127080" cy="339120"/>
              <a:chOff x="2786040" y="2757600"/>
              <a:chExt cx="127080" cy="339120"/>
            </a:xfrm>
          </p:grpSpPr>
          <p:sp>
            <p:nvSpPr>
              <p:cNvPr id="276" name=""/>
              <p:cNvSpPr/>
              <p:nvPr/>
            </p:nvSpPr>
            <p:spPr>
              <a:xfrm>
                <a:off x="2786040" y="2893680"/>
                <a:ext cx="127080" cy="203040"/>
              </a:xfrm>
              <a:custGeom>
                <a:avLst/>
                <a:gdLst/>
                <a:ahLst/>
                <a:rect l="l" t="t" r="r" b="b"/>
                <a:pathLst>
                  <a:path w="100" h="179">
                    <a:moveTo>
                      <a:pt x="60" y="179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862000" y="2757600"/>
                <a:ext cx="1440" cy="20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2786040" y="3097080"/>
              <a:ext cx="127080" cy="479520"/>
              <a:chOff x="2786040" y="3097080"/>
              <a:chExt cx="127080" cy="479520"/>
            </a:xfrm>
          </p:grpSpPr>
          <p:sp>
            <p:nvSpPr>
              <p:cNvPr id="279" name=""/>
              <p:cNvSpPr/>
              <p:nvPr/>
            </p:nvSpPr>
            <p:spPr>
              <a:xfrm>
                <a:off x="2786040" y="3371040"/>
                <a:ext cx="127080" cy="205560"/>
              </a:xfrm>
              <a:custGeom>
                <a:avLst/>
                <a:gdLst/>
                <a:ahLst/>
                <a:rect l="l" t="t" r="r" b="b"/>
                <a:pathLst>
                  <a:path w="100" h="180">
                    <a:moveTo>
                      <a:pt x="60" y="180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862000" y="3097080"/>
                <a:ext cx="144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6050160" y="2781360"/>
              <a:ext cx="127080" cy="361440"/>
              <a:chOff x="6050160" y="2781360"/>
              <a:chExt cx="127080" cy="361440"/>
            </a:xfrm>
          </p:grpSpPr>
          <p:sp>
            <p:nvSpPr>
              <p:cNvPr id="282" name=""/>
              <p:cNvSpPr/>
              <p:nvPr/>
            </p:nvSpPr>
            <p:spPr>
              <a:xfrm>
                <a:off x="6050160" y="2940120"/>
                <a:ext cx="127080" cy="202680"/>
              </a:xfrm>
              <a:custGeom>
                <a:avLst/>
                <a:gdLst/>
                <a:ahLst/>
                <a:rect l="l" t="t" r="r" b="b"/>
                <a:pathLst>
                  <a:path w="100" h="179">
                    <a:moveTo>
                      <a:pt x="60" y="179"/>
                    </a:moveTo>
                    <a:lnTo>
                      <a:pt x="0" y="0"/>
                    </a:lnTo>
                    <a:lnTo>
                      <a:pt x="60" y="59"/>
                    </a:lnTo>
                    <a:lnTo>
                      <a:pt x="100" y="0"/>
                    </a:lnTo>
                    <a:lnTo>
                      <a:pt x="6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126120" y="2781360"/>
                <a:ext cx="1440" cy="22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6050160" y="3143160"/>
              <a:ext cx="127080" cy="479520"/>
              <a:chOff x="6050160" y="3143160"/>
              <a:chExt cx="127080" cy="479520"/>
            </a:xfrm>
          </p:grpSpPr>
          <p:sp>
            <p:nvSpPr>
              <p:cNvPr id="285" name=""/>
              <p:cNvSpPr/>
              <p:nvPr/>
            </p:nvSpPr>
            <p:spPr>
              <a:xfrm>
                <a:off x="6050160" y="3417120"/>
                <a:ext cx="127080" cy="205560"/>
              </a:xfrm>
              <a:custGeom>
                <a:avLst/>
                <a:gdLst/>
                <a:ahLst/>
                <a:rect l="l" t="t" r="r" b="b"/>
                <a:pathLst>
                  <a:path w="100" h="180">
                    <a:moveTo>
                      <a:pt x="60" y="180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126120" y="3143160"/>
                <a:ext cx="144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4443480" y="3965400"/>
              <a:ext cx="127080" cy="364680"/>
              <a:chOff x="4443480" y="3965400"/>
              <a:chExt cx="127080" cy="364680"/>
            </a:xfrm>
          </p:grpSpPr>
          <p:sp>
            <p:nvSpPr>
              <p:cNvPr id="288" name=""/>
              <p:cNvSpPr/>
              <p:nvPr/>
            </p:nvSpPr>
            <p:spPr>
              <a:xfrm>
                <a:off x="4443480" y="3965400"/>
                <a:ext cx="127080" cy="228240"/>
              </a:xfrm>
              <a:custGeom>
                <a:avLst/>
                <a:gdLst/>
                <a:ahLst/>
                <a:rect l="l" t="t" r="r" b="b"/>
                <a:pathLst>
                  <a:path w="100" h="200">
                    <a:moveTo>
                      <a:pt x="60" y="0"/>
                    </a:moveTo>
                    <a:lnTo>
                      <a:pt x="100" y="200"/>
                    </a:lnTo>
                    <a:lnTo>
                      <a:pt x="60" y="140"/>
                    </a:lnTo>
                    <a:lnTo>
                      <a:pt x="0" y="20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V="1">
                <a:off x="4519800" y="4124520"/>
                <a:ext cx="1080" cy="20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 flipH="1">
              <a:off x="6300360" y="2011320"/>
              <a:ext cx="122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507360" y="37368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354360" y="48783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6324120" y="2171520"/>
              <a:ext cx="91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579720" y="38973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427080" y="50594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508440" y="2982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44960" y="4284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844960" y="5492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30480" y="31208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966640" y="4421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966640" y="560700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459400" y="2573280"/>
              <a:ext cx="2160720" cy="3941640"/>
            </a:xfrm>
            <a:custGeom>
              <a:avLst/>
              <a:gdLst/>
              <a:ahLst/>
              <a:rect l="l" t="t" r="r" b="b"/>
              <a:pathLst>
                <a:path w="1088" h="2144">
                  <a:moveTo>
                    <a:pt x="8" y="1680"/>
                  </a:moveTo>
                  <a:cubicBezTo>
                    <a:pt x="4" y="1764"/>
                    <a:pt x="0" y="1848"/>
                    <a:pt x="56" y="1920"/>
                  </a:cubicBezTo>
                  <a:cubicBezTo>
                    <a:pt x="112" y="1992"/>
                    <a:pt x="208" y="2144"/>
                    <a:pt x="344" y="2112"/>
                  </a:cubicBezTo>
                  <a:cubicBezTo>
                    <a:pt x="480" y="2080"/>
                    <a:pt x="760" y="2032"/>
                    <a:pt x="872" y="1728"/>
                  </a:cubicBezTo>
                  <a:cubicBezTo>
                    <a:pt x="984" y="1424"/>
                    <a:pt x="1088" y="576"/>
                    <a:pt x="1016" y="288"/>
                  </a:cubicBezTo>
                  <a:cubicBezTo>
                    <a:pt x="944" y="0"/>
                    <a:pt x="692" y="0"/>
                    <a:pt x="44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618080" y="3984480"/>
              <a:ext cx="666720" cy="2354400"/>
            </a:xfrm>
            <a:custGeom>
              <a:avLst/>
              <a:gdLst/>
              <a:ahLst/>
              <a:rect l="l" t="t" r="r" b="b"/>
              <a:pathLst>
                <a:path w="336" h="1280">
                  <a:moveTo>
                    <a:pt x="336" y="912"/>
                  </a:moveTo>
                  <a:cubicBezTo>
                    <a:pt x="332" y="1064"/>
                    <a:pt x="328" y="1216"/>
                    <a:pt x="288" y="1248"/>
                  </a:cubicBezTo>
                  <a:cubicBezTo>
                    <a:pt x="248" y="1280"/>
                    <a:pt x="136" y="1208"/>
                    <a:pt x="96" y="1104"/>
                  </a:cubicBezTo>
                  <a:cubicBezTo>
                    <a:pt x="56" y="1000"/>
                    <a:pt x="64" y="808"/>
                    <a:pt x="48" y="624"/>
                  </a:cubicBezTo>
                  <a:cubicBezTo>
                    <a:pt x="32" y="440"/>
                    <a:pt x="16" y="220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219320" y="2573280"/>
              <a:ext cx="2351160" cy="3927600"/>
            </a:xfrm>
            <a:custGeom>
              <a:avLst/>
              <a:gdLst/>
              <a:ahLst/>
              <a:rect l="l" t="t" r="r" b="b"/>
              <a:pathLst>
                <a:path w="1184" h="2136">
                  <a:moveTo>
                    <a:pt x="1136" y="1680"/>
                  </a:moveTo>
                  <a:cubicBezTo>
                    <a:pt x="1160" y="1816"/>
                    <a:pt x="1184" y="1952"/>
                    <a:pt x="1088" y="2016"/>
                  </a:cubicBezTo>
                  <a:cubicBezTo>
                    <a:pt x="992" y="2080"/>
                    <a:pt x="704" y="2136"/>
                    <a:pt x="560" y="2064"/>
                  </a:cubicBezTo>
                  <a:cubicBezTo>
                    <a:pt x="416" y="1992"/>
                    <a:pt x="304" y="1856"/>
                    <a:pt x="224" y="1584"/>
                  </a:cubicBezTo>
                  <a:cubicBezTo>
                    <a:pt x="144" y="1312"/>
                    <a:pt x="0" y="696"/>
                    <a:pt x="80" y="432"/>
                  </a:cubicBezTo>
                  <a:cubicBezTo>
                    <a:pt x="160" y="168"/>
                    <a:pt x="432" y="84"/>
                    <a:pt x="70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2292480" y="228600"/>
            <a:ext cx="37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ical re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882F-6CC8-436E-A921-AAB535DA2662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mantics: dynamic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t is enabled if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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's input places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M(p)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W(&lt;p,t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 fires: produces a new marking M’ in places that are either t's input or output places or bo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an input place: M'(p) = M(p) - W(&lt;p,t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an output place: M'(p) = M(p) + W(&lt;t,p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both an input and an output place:        M'(p) = M(p) - W(&lt;p,t&gt;) + W(&lt;t,p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91D5-CF4B-47B6-872D-52978B98C9AA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ndeterminis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 of the enabled transitions may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l does not specify which fires, nor when it fi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A00B-078D-4D5C-A504-BCED38BABEC4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ment of the interface between the machine and the controlled environmen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rious undesirable effects can result due to misunderstandings between software engineers and domain experts about the phenomena affecting the control function to be implemented by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33BE-FBF2-4607-ACC9-E0B41C6AAA3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ing with 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ces represent distributed s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ons represent actions or events that may occur when system is in a certain st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occur as certain conditions hold on the s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28C6-E2D9-4A07-8578-0F194350FFE5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2" name=""/>
          <p:cNvGraphicFramePr/>
          <p:nvPr/>
        </p:nvGraphicFramePr>
        <p:xfrm>
          <a:off x="762120" y="609480"/>
          <a:ext cx="7983360" cy="662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609480"/>
                    <a:ext cx="7983360" cy="662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1267200" y="152280"/>
            <a:ext cx="69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(a) either (b) or (c) may occur, and then 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2048-2C18-4112-B2EF-65A10C278778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on c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transitions are enabled to fire in a given state, and the firing of one does nor prevent the other from fi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case (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li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transitions are enabled to fire in a given state, but the firing of one prevents the other from f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case (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odels a  shared resource between two proces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icy exists to resolve conflicts (known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nfai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hedu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rocess may never get a resource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ta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43C7-4F2F-4FDC-9840-BDF75200D6BA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avoid starv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2519280" y="168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5559480" cy="472284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6056640" y="2666880"/>
            <a:ext cx="30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es alter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FF1F-3D7D-4C23-A9A0-D8280EC45C24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flict-free ne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3124080" y="174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1523880" y="1066680"/>
            <a:ext cx="4730760" cy="548964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6571440" y="2014560"/>
            <a:ext cx="184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net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dloc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07664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6629400" y="3048120"/>
            <a:ext cx="1676520" cy="41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68FB-E430-4DB2-A567-4E40ED5F22D7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deadlock-free ne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"/>
          <p:cNvSpPr/>
          <p:nvPr/>
        </p:nvSpPr>
        <p:spPr>
          <a:xfrm>
            <a:off x="312912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2209680" y="1143000"/>
            <a:ext cx="4525920" cy="541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A8B8-4AC5-461B-BD27-AEE7252A2E2A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 of partial starv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"/>
          <p:cNvSpPr/>
          <p:nvPr/>
        </p:nvSpPr>
        <p:spPr>
          <a:xfrm>
            <a:off x="3330720" y="246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6195960" cy="480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A261-B970-4086-B115-BF827230A47F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er-consumer example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2286000" y="1066680"/>
          <a:ext cx="6019920" cy="537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066680"/>
                    <a:ext cx="6019920" cy="53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"/>
          <p:cNvSpPr/>
          <p:nvPr/>
        </p:nvSpPr>
        <p:spPr>
          <a:xfrm>
            <a:off x="216000" y="3657600"/>
            <a:ext cx="29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n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sub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DAB0-96F1-449A-B0AE-362A2F8429FC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er-consumer example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3581280" y="762120"/>
          <a:ext cx="5050080" cy="584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762120"/>
                    <a:ext cx="5050080" cy="58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0" name=""/>
          <p:cNvSpPr/>
          <p:nvPr/>
        </p:nvSpPr>
        <p:spPr>
          <a:xfrm>
            <a:off x="624960" y="2971800"/>
            <a:ext cx="23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net for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E13E-0AF5-4466-93D6-C94884940EA6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itations and exten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"/>
          <p:cNvSpPr/>
          <p:nvPr/>
        </p:nvSpPr>
        <p:spPr>
          <a:xfrm>
            <a:off x="3703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5440320" cy="22413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1106280" y="4495680"/>
            <a:ext cx="7336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ken represents a mess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You wish to say that the delivery channel dep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n cont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etri nets cannot specify selection polic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C0E7-A4E2-46E4-ABB3-40F105A32C77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ment of requirements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 process is a chain of specification (i.e., definition)–implementation–verification step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ments specification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fers to definition of external behavi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sign specification must be verified against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esign specific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refers to definition of the software archite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must be verified against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BDD9-C875-4047-B5C9-4E832A90A21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signing values to toke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ons have associated predicates and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dicate refers to values of tokens in input places selected for fi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define values of tokens produced in output pl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4F65-D87F-4C1A-A8A7-A5F5226B39D1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"/>
          <p:cNvSpPr/>
          <p:nvPr/>
        </p:nvSpPr>
        <p:spPr>
          <a:xfrm>
            <a:off x="317808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5434200" cy="356220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6051240" y="1523880"/>
            <a:ext cx="2832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ate P2 &gt; P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fun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4 := P2 + P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d with 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ate P3 = P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func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4 := P3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P2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5 := P2 + P3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d with t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72160" y="5334120"/>
            <a:ext cx="729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iring of t1 by using &lt;3,7&gt; would produc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alue 10 in P4.  t2 can then fire using &lt;4, 4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D597-7105-419B-B82E-0A5D151462FC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rior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priority function pri from transitions to natural number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i: T </a:t>
            </a:r>
            <a:r>
              <a:rPr b="0" lang="it-IT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en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several transitions are enabled, only the ones with maximum priority are allowed to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mong them, the one to fire is chosen nondeterminis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D51D-FCA8-4939-AEFD-74FE5409589E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d 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pair of constants &lt;tmin, tmax&gt; is associated with each transition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ce a transition is enabled, it must wait for at least tmin to elapse before it can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 enabled, it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us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fire before tmax has elapsed, unless it is disabled by the firing of another transition before tma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DBC3-2BC4-4D0F-9C62-E76B70F19087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bining priorities and tim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"/>
          <p:cNvSpPr/>
          <p:nvPr/>
        </p:nvSpPr>
        <p:spPr>
          <a:xfrm>
            <a:off x="301464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990720" y="2895480"/>
            <a:ext cx="6359400" cy="240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525F-4B00-4377-8822-EB038B995B3C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251136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6104160" cy="602460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5451480" y="388620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se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message tripl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2973-42BB-4AF5-981E-03539077F881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2709720" y="12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376200" y="304920"/>
            <a:ext cx="5310360" cy="612612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4842000" y="380988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se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message tripl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C595-584D-4595-9966-59958A0B1952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n n elevator system to be installed in a building with m flo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atural language specs contain several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Formal specification using PNs removes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pecification will be provided in a stepwise fash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Will use modules, each encapsulating fragments of PNs which describe certain system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C2E6-EF41-4101-B2F9-13E4784D48CA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476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informal specs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61800" y="1276200"/>
            <a:ext cx="8515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 illumination is cancelled when the elevator visits the floor and is either moving in the desired direction, or ...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2 different interpretations (case of up ca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witch off as the elevator arrives at the floor from below (obvious restrictions for 1st and last flo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witch off after the elevators starts movin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in practice you may observe the two case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9F87-746F-4DDC-8508-4B14C6EF2125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analysis of informal spe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The algorithm to decide which to service first should minimize the waiting time for both requests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what does this mea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no other way can you satisfy either request in a short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minimizing for one may require longer for the oth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um of both is minim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y the sum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17C6-9F82-4C1C-903D-CA3BD561BF61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ference point during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ctive maintenance only changes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and perfective maintenance occur because of requirements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ments specification must change according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0C79-9E66-4993-B6C6-CAACBDA2FA4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itial sketch of mov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275904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853240" cy="430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9203-785B-43AA-A5D5-C7B63DB81705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tton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1771560" y="1790640"/>
          <a:ext cx="5829480" cy="550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1560" y="1790640"/>
                    <a:ext cx="582948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06E1-42A0-4F18-83A9-648617A573C5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vator position (sketch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828800" y="838080"/>
          <a:ext cx="5297400" cy="545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838080"/>
                    <a:ext cx="5297400" cy="545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BA36-E25C-466A-A3FA-576AFAB8EE0F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6037920" y="5578560"/>
            <a:ext cx="27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e j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313000" y="15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228600" y="784080"/>
            <a:ext cx="6907320" cy="563724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70200" y="228600"/>
            <a:ext cx="659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ecise description of elevator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87AF-2C49-4144-9B33-D29A35B39DA3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witch internal button of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685800" y="1657440"/>
          <a:ext cx="7467480" cy="634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57440"/>
                    <a:ext cx="7467480" cy="63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C04A-7825-4C22-A27F-69F8EC720ECF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6816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witch external button off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990720" y="1295280"/>
            <a:ext cx="6573240" cy="4344840"/>
            <a:chOff x="990720" y="1295280"/>
            <a:chExt cx="6573240" cy="4344840"/>
          </a:xfrm>
        </p:grpSpPr>
        <p:sp>
          <p:nvSpPr>
            <p:cNvPr id="389" name=""/>
            <p:cNvSpPr/>
            <p:nvPr/>
          </p:nvSpPr>
          <p:spPr>
            <a:xfrm>
              <a:off x="1398240" y="1557360"/>
              <a:ext cx="679320" cy="6570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398240" y="3520800"/>
              <a:ext cx="67932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109760" y="3520800"/>
              <a:ext cx="68076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822720" y="3520800"/>
              <a:ext cx="67932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87440" y="2840040"/>
              <a:ext cx="677520" cy="39600"/>
            </a:xfrm>
            <a:custGeom>
              <a:avLst/>
              <a:gdLst/>
              <a:ahLst/>
              <a:rect l="l" t="t" r="r" b="b"/>
              <a:pathLst>
                <a:path w="427" h="25">
                  <a:moveTo>
                    <a:pt x="0" y="0"/>
                  </a:moveTo>
                  <a:lnTo>
                    <a:pt x="0" y="23"/>
                  </a:lnTo>
                  <a:lnTo>
                    <a:pt x="427" y="25"/>
                  </a:lnTo>
                  <a:lnTo>
                    <a:pt x="427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776560" y="2530440"/>
              <a:ext cx="39600" cy="655560"/>
            </a:xfrm>
            <a:custGeom>
              <a:avLst/>
              <a:gdLst/>
              <a:ahLst/>
              <a:rect l="l" t="t" r="r" b="b"/>
              <a:pathLst>
                <a:path w="25" h="413">
                  <a:moveTo>
                    <a:pt x="24" y="0"/>
                  </a:moveTo>
                  <a:lnTo>
                    <a:pt x="0" y="0"/>
                  </a:lnTo>
                  <a:lnTo>
                    <a:pt x="1" y="413"/>
                  </a:lnTo>
                  <a:lnTo>
                    <a:pt x="25" y="4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776560" y="4494240"/>
              <a:ext cx="39600" cy="655560"/>
            </a:xfrm>
            <a:custGeom>
              <a:avLst/>
              <a:gdLst/>
              <a:ahLst/>
              <a:rect l="l" t="t" r="r" b="b"/>
              <a:pathLst>
                <a:path w="25" h="413">
                  <a:moveTo>
                    <a:pt x="24" y="0"/>
                  </a:moveTo>
                  <a:lnTo>
                    <a:pt x="0" y="0"/>
                  </a:lnTo>
                  <a:lnTo>
                    <a:pt x="1" y="413"/>
                  </a:lnTo>
                  <a:lnTo>
                    <a:pt x="25" y="4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650960" y="2857320"/>
              <a:ext cx="131400" cy="255600"/>
            </a:xfrm>
            <a:custGeom>
              <a:avLst/>
              <a:gdLst/>
              <a:ahLst/>
              <a:rect l="l" t="t" r="r" b="b"/>
              <a:pathLst>
                <a:path w="83" h="161">
                  <a:moveTo>
                    <a:pt x="47" y="0"/>
                  </a:moveTo>
                  <a:lnTo>
                    <a:pt x="83" y="161"/>
                  </a:lnTo>
                  <a:lnTo>
                    <a:pt x="47" y="161"/>
                  </a:lnTo>
                  <a:lnTo>
                    <a:pt x="0" y="161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1725480" y="3112560"/>
              <a:ext cx="2880" cy="3999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650960" y="2205000"/>
              <a:ext cx="131400" cy="253800"/>
            </a:xfrm>
            <a:custGeom>
              <a:avLst/>
              <a:gdLst/>
              <a:ahLst/>
              <a:rect l="l" t="t" r="r" b="b"/>
              <a:pathLst>
                <a:path w="83" h="160">
                  <a:moveTo>
                    <a:pt x="47" y="0"/>
                  </a:moveTo>
                  <a:lnTo>
                    <a:pt x="83" y="160"/>
                  </a:lnTo>
                  <a:lnTo>
                    <a:pt x="47" y="160"/>
                  </a:lnTo>
                  <a:lnTo>
                    <a:pt x="0" y="16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1725480" y="2458440"/>
              <a:ext cx="2880" cy="398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984640" y="2403360"/>
              <a:ext cx="374400" cy="25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02280" y="2366640"/>
              <a:ext cx="43596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02280" y="2369880"/>
              <a:ext cx="32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568840" y="5259240"/>
              <a:ext cx="620280" cy="2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389560" y="5208480"/>
              <a:ext cx="179172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388840" y="521316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500440" y="5213160"/>
              <a:ext cx="227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..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740920" y="5213160"/>
              <a:ext cx="744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Res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990720" y="2639880"/>
              <a:ext cx="190080" cy="254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011240" y="2603520"/>
              <a:ext cx="2455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010520" y="260820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123560" y="2608200"/>
              <a:ext cx="41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160280" y="4186080"/>
              <a:ext cx="20772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180800" y="4149720"/>
              <a:ext cx="28404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179360" y="4154400"/>
              <a:ext cx="182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j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238040" y="1330200"/>
              <a:ext cx="26172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255680" y="1295280"/>
              <a:ext cx="32328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254240" y="1298520"/>
              <a:ext cx="22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j'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289400" y="4295520"/>
              <a:ext cx="33768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306680" y="4259160"/>
              <a:ext cx="3981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306680" y="4262400"/>
              <a:ext cx="28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000560" y="4295520"/>
              <a:ext cx="33948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019640" y="4259160"/>
              <a:ext cx="379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020360" y="4262400"/>
              <a:ext cx="287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776480" y="3477960"/>
              <a:ext cx="245880" cy="198720"/>
            </a:xfrm>
            <a:custGeom>
              <a:avLst/>
              <a:gdLst/>
              <a:ahLst/>
              <a:rect l="l" t="t" r="r" b="b"/>
              <a:pathLst>
                <a:path w="155" h="125">
                  <a:moveTo>
                    <a:pt x="0" y="125"/>
                  </a:moveTo>
                  <a:lnTo>
                    <a:pt x="120" y="0"/>
                  </a:lnTo>
                  <a:lnTo>
                    <a:pt x="131" y="33"/>
                  </a:lnTo>
                  <a:lnTo>
                    <a:pt x="155" y="67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4984560" y="3020760"/>
              <a:ext cx="809280" cy="509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794200" y="2857320"/>
              <a:ext cx="264600" cy="181080"/>
            </a:xfrm>
            <a:custGeom>
              <a:avLst/>
              <a:gdLst/>
              <a:ahLst/>
              <a:rect l="l" t="t" r="r" b="b"/>
              <a:pathLst>
                <a:path w="167" h="114">
                  <a:moveTo>
                    <a:pt x="0" y="0"/>
                  </a:moveTo>
                  <a:lnTo>
                    <a:pt x="167" y="34"/>
                  </a:lnTo>
                  <a:lnTo>
                    <a:pt x="142" y="69"/>
                  </a:lnTo>
                  <a:lnTo>
                    <a:pt x="12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 flipV="1">
              <a:off x="6019200" y="2966400"/>
              <a:ext cx="960120" cy="546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567480" y="4003560"/>
              <a:ext cx="244080" cy="218880"/>
            </a:xfrm>
            <a:custGeom>
              <a:avLst/>
              <a:gdLst/>
              <a:ahLst/>
              <a:rect l="l" t="t" r="r" b="b"/>
              <a:pathLst>
                <a:path w="154" h="138">
                  <a:moveTo>
                    <a:pt x="154" y="0"/>
                  </a:moveTo>
                  <a:lnTo>
                    <a:pt x="60" y="138"/>
                  </a:lnTo>
                  <a:lnTo>
                    <a:pt x="35" y="103"/>
                  </a:lnTo>
                  <a:lnTo>
                    <a:pt x="0" y="81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5793840" y="4167000"/>
              <a:ext cx="828360" cy="820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532120" y="4624200"/>
              <a:ext cx="261720" cy="198360"/>
            </a:xfrm>
            <a:custGeom>
              <a:avLst/>
              <a:gdLst/>
              <a:ahLst/>
              <a:rect l="l" t="t" r="r" b="b"/>
              <a:pathLst>
                <a:path w="165" h="125">
                  <a:moveTo>
                    <a:pt x="165" y="125"/>
                  </a:moveTo>
                  <a:lnTo>
                    <a:pt x="0" y="80"/>
                  </a:lnTo>
                  <a:lnTo>
                    <a:pt x="23" y="45"/>
                  </a:lnTo>
                  <a:lnTo>
                    <a:pt x="35" y="0"/>
                  </a:lnTo>
                  <a:lnTo>
                    <a:pt x="165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 flipV="1">
              <a:off x="4606560" y="4166640"/>
              <a:ext cx="961560" cy="528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1895400" y="2695320"/>
              <a:ext cx="1080" cy="1620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1895400" y="2205000"/>
              <a:ext cx="507600" cy="490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03360" y="2205000"/>
              <a:ext cx="423828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642000" y="2205000"/>
              <a:ext cx="507600" cy="490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075440" y="3240000"/>
              <a:ext cx="131400" cy="272880"/>
            </a:xfrm>
            <a:custGeom>
              <a:avLst/>
              <a:gdLst/>
              <a:ahLst/>
              <a:rect l="l" t="t" r="r" b="b"/>
              <a:pathLst>
                <a:path w="83" h="172">
                  <a:moveTo>
                    <a:pt x="47" y="172"/>
                  </a:moveTo>
                  <a:lnTo>
                    <a:pt x="0" y="0"/>
                  </a:lnTo>
                  <a:lnTo>
                    <a:pt x="47" y="0"/>
                  </a:lnTo>
                  <a:lnTo>
                    <a:pt x="83" y="0"/>
                  </a:lnTo>
                  <a:lnTo>
                    <a:pt x="47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149960" y="2695320"/>
              <a:ext cx="2880" cy="544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895400" y="4167000"/>
              <a:ext cx="263160" cy="182520"/>
            </a:xfrm>
            <a:custGeom>
              <a:avLst/>
              <a:gdLst/>
              <a:ahLst/>
              <a:rect l="l" t="t" r="r" b="b"/>
              <a:pathLst>
                <a:path w="166" h="115">
                  <a:moveTo>
                    <a:pt x="0" y="0"/>
                  </a:moveTo>
                  <a:lnTo>
                    <a:pt x="166" y="46"/>
                  </a:lnTo>
                  <a:lnTo>
                    <a:pt x="142" y="81"/>
                  </a:lnTo>
                  <a:lnTo>
                    <a:pt x="120" y="1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120760" y="4295520"/>
              <a:ext cx="1130040" cy="692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532120" y="4913280"/>
              <a:ext cx="261720" cy="128520"/>
            </a:xfrm>
            <a:custGeom>
              <a:avLst/>
              <a:gdLst/>
              <a:ahLst/>
              <a:rect l="l" t="t" r="r" b="b"/>
              <a:pathLst>
                <a:path w="165" h="81">
                  <a:moveTo>
                    <a:pt x="165" y="47"/>
                  </a:moveTo>
                  <a:lnTo>
                    <a:pt x="0" y="81"/>
                  </a:lnTo>
                  <a:lnTo>
                    <a:pt x="0" y="47"/>
                  </a:lnTo>
                  <a:lnTo>
                    <a:pt x="0" y="0"/>
                  </a:lnTo>
                  <a:lnTo>
                    <a:pt x="16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251160" y="4987800"/>
              <a:ext cx="22806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2403360" y="3841560"/>
              <a:ext cx="169488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1800000" y="1457280"/>
              <a:ext cx="5763960" cy="4182840"/>
              <a:chOff x="1800000" y="1457280"/>
              <a:chExt cx="5763960" cy="4182840"/>
            </a:xfrm>
          </p:grpSpPr>
          <p:sp>
            <p:nvSpPr>
              <p:cNvPr id="444" name=""/>
              <p:cNvSpPr/>
              <p:nvPr/>
            </p:nvSpPr>
            <p:spPr>
              <a:xfrm>
                <a:off x="1800000" y="2857320"/>
                <a:ext cx="169920" cy="255600"/>
              </a:xfrm>
              <a:custGeom>
                <a:avLst/>
                <a:gdLst/>
                <a:ahLst/>
                <a:rect l="l" t="t" r="r" b="b"/>
                <a:pathLst>
                  <a:path w="107" h="161">
                    <a:moveTo>
                      <a:pt x="0" y="0"/>
                    </a:moveTo>
                    <a:lnTo>
                      <a:pt x="107" y="127"/>
                    </a:lnTo>
                    <a:lnTo>
                      <a:pt x="71" y="138"/>
                    </a:lnTo>
                    <a:lnTo>
                      <a:pt x="36" y="16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 flipV="1">
                <a:off x="1912680" y="3076200"/>
                <a:ext cx="395280" cy="7650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665160" y="1549080"/>
                <a:ext cx="338040" cy="3764160"/>
              </a:xfrm>
              <a:custGeom>
                <a:avLst/>
                <a:gdLst/>
                <a:ahLst/>
                <a:rect l="l" t="t" r="r" b="b"/>
                <a:pathLst>
                  <a:path w="213" h="2371">
                    <a:moveTo>
                      <a:pt x="213" y="0"/>
                    </a:moveTo>
                    <a:lnTo>
                      <a:pt x="0" y="205"/>
                    </a:lnTo>
                    <a:lnTo>
                      <a:pt x="0" y="2371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665160" y="1549080"/>
                <a:ext cx="3898800" cy="4091040"/>
              </a:xfrm>
              <a:custGeom>
                <a:avLst/>
                <a:gdLst/>
                <a:ahLst/>
                <a:rect l="l" t="t" r="r" b="b"/>
                <a:pathLst>
                  <a:path w="2456" h="2577">
                    <a:moveTo>
                      <a:pt x="0" y="2371"/>
                    </a:moveTo>
                    <a:lnTo>
                      <a:pt x="213" y="2577"/>
                    </a:lnTo>
                    <a:lnTo>
                      <a:pt x="2242" y="2577"/>
                    </a:lnTo>
                    <a:lnTo>
                      <a:pt x="2349" y="2475"/>
                    </a:lnTo>
                    <a:lnTo>
                      <a:pt x="2456" y="2371"/>
                    </a:lnTo>
                    <a:lnTo>
                      <a:pt x="2456" y="205"/>
                    </a:lnTo>
                    <a:lnTo>
                      <a:pt x="2242" y="0"/>
                    </a:lnTo>
                    <a:lnTo>
                      <a:pt x="213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268440" y="1493640"/>
                <a:ext cx="396720" cy="254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288960" y="1457280"/>
                <a:ext cx="47304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287160" y="1460520"/>
                <a:ext cx="3513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Arial"/>
                  </a:rPr>
                  <a:t>UPj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1" name=""/>
          <p:cNvSpPr/>
          <p:nvPr/>
        </p:nvSpPr>
        <p:spPr>
          <a:xfrm>
            <a:off x="173880" y="5486400"/>
            <a:ext cx="52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time need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erson to enter + pushing but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AACD-30C3-40E9-83EC-40580A885715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66720" y="95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olic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1150920" y="3135240"/>
          <a:ext cx="6896160" cy="664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0920" y="3135240"/>
                    <a:ext cx="6896160" cy="66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5" name=""/>
          <p:cNvSpPr/>
          <p:nvPr/>
        </p:nvSpPr>
        <p:spPr>
          <a:xfrm>
            <a:off x="461160" y="1219320"/>
            <a:ext cx="798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“fair” 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eep the direction unchanged as long as there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lls that require elevator to go in that di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09840" y="334008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0,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726680" y="315612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0,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325760" y="263844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x,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354560" y="515304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x,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395720" y="5762520"/>
            <a:ext cx="67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7, t8, t9 have higher priority than t10, t11, t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CAD8-9450-4B30-8805-C8B3D40D8303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eneral schedu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3730680" y="288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2514600" y="1371600"/>
            <a:ext cx="3814920" cy="246708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457200" y="403848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h transition has predicate OK(Schedul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k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 in SCHEDULER stores information about the state of the system that is useful fo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cheduling transition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o fi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oken is “permanent”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alw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produc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the firing of any trans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D668-A101-4B29-9BCD-DBEAC9D49261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larative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diagrams: semiformal spe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g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ebra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1FCA-9BAD-4B52-8283-92928CE0B345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R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 used as a complement to DFD to describe conceptual data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on entities, relationships, attribu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are the ancestors of class diagrams in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A2B9-0F56-4EB1-AD03-DE8F6F7D65CD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cise, clear, unambiguo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le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complet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complet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751C-7ED6-4F90-BBD1-B53CD0A0229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3200400" y="1981080"/>
          <a:ext cx="2400480" cy="375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981080"/>
                    <a:ext cx="2400480" cy="375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3192-20F4-4750-8499-F08B9D5C24C4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ons can be part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annotated to def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o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o m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o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o m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3886200" y="3200400"/>
          <a:ext cx="4572000" cy="294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3200400"/>
                    <a:ext cx="4572000" cy="29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77AC-5B0A-413A-9DCE-1260CC54F791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n binary 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762120" y="2057400"/>
          <a:ext cx="742932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57400"/>
                    <a:ext cx="742932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D9A1-059C-40EE-BA91-BB6DB1F28005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g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amples of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-order theory (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formul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&gt; y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&gt; z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gt; 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= y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y =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, y, z (x &gt; y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&gt; z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gt; 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+ 1 &lt; x –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(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ist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(y = x + z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&gt; 3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lt; -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C1EC-C5B8-48FF-AD24-DA33693CEEA4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complete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perty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, or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ment, 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or P is specified as a formula of the 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"/>
          <p:cNvSpPr/>
          <p:nvPr/>
        </p:nvSpPr>
        <p:spPr>
          <a:xfrm>
            <a:off x="1610640" y="3048120"/>
            <a:ext cx="6246360" cy="22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{Pre (i1, i2,..., in) 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{Post (o1, o2,..., om, i1, i2,..., in)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66000" y="5181480"/>
            <a:ext cx="294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: pre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t: post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2514-08F3-41A2-A97F-7CAF6634DCAC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 to compute greatest common divi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"/>
          <p:cNvSpPr/>
          <p:nvPr/>
        </p:nvSpPr>
        <p:spPr>
          <a:xfrm>
            <a:off x="1062000" y="3125880"/>
            <a:ext cx="7331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i1 &gt; 0 and i2 &gt;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(exists z1, z2 (i1 = o *  z1 and i2 = o * z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not (exists 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exists z1, z2 (i1 = h * z1 and i2 = h * z2) and h &gt; o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0546-9838-4DA3-95BA-B5A6BC3C2721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roced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"/>
          <p:cNvSpPr/>
          <p:nvPr/>
        </p:nvSpPr>
        <p:spPr>
          <a:xfrm>
            <a:off x="917640" y="2057400"/>
            <a:ext cx="7535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n &gt; 0} -- n is a constant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dure search (table: in integer_array; n: in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ement: in integer; found: out Boolea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found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exists i (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 and table (i) = element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915120" y="4114800"/>
            <a:ext cx="77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n &gt; 0 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dure reverse (a: in out integer_array; n: in intege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for all i (1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) implies (a (i) =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ld–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(n - i +1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FD6C-31FA-4825-BFCA-0FB121C1FD62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clas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ariant predicates and pre/post conditions for each meth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of invariant specifying an array implementing ADT 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"/>
          <p:cNvSpPr/>
          <p:nvPr/>
        </p:nvSpPr>
        <p:spPr>
          <a:xfrm>
            <a:off x="862920" y="4191120"/>
            <a:ext cx="751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i, j (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length and 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j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length and i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 IMPL[i]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[j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no duplicates are stor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0957-655D-494A-AB0F-311E3FA09640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non-terminating behavi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ducer+consumer+buf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ariant specifies that whatever has been produced is the concatenation of what has been taken from the buffer and what is kept in the buf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"/>
          <p:cNvSpPr/>
          <p:nvPr/>
        </p:nvSpPr>
        <p:spPr>
          <a:xfrm>
            <a:off x="969840" y="4648320"/>
            <a:ext cx="660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put_sequence = append (output_sequenc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ents(CHAR_BUFFER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3518-1C95-456D-A381-586DFEF59229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-study using log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outline the elevator 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mentary pred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t (E, F, T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E is at floor F at time 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tart (E, F, T, up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E left floor F at time T moving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(at (E, F, T) and on (EB, F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, T) and F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&gt; F) implies start (E, F, T,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2758-A371-48C2-BB98-3FE11EBB1507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ear, unambiguous, understandab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pecification fragment for a word-proces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"/>
          <p:cNvSpPr/>
          <p:nvPr/>
        </p:nvSpPr>
        <p:spPr>
          <a:xfrm>
            <a:off x="1100160" y="2819520"/>
            <a:ext cx="7495920" cy="26542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ing is the process of designa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s of the document that you want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ork on. Most editing and format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tions require two steps: first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 what you want to work o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ch as text or graphics; then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itiate the appropriate action.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9520" y="5715000"/>
            <a:ext cx="36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n an area be scatter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1CFF-B74F-4AFC-8B05-721E9FD8E93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s and ev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mentary predicates are partitioned i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s, having non-null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nding(E, F, T1, T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95444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sumption: closed at left, open at righ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ntaneous (caused state change occurs at same tim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resented by predicates that hold only at a particular time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rived (E, F, 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simplicity, we as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zero decis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imultaneous ev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E5BF-0B3B-49D8-85D5-29567A4053D4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ent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arrival (E, F, T)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m]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, (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initial tim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does not say if it will stop or will proceed, nor where it comes fr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departure(E, F, D, T)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m], D in {up, down}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stop (E, F, T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 m]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specifies stop to serve an internal or external re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9935-93C2-4361-84CA-F2E78676DE7A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ent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new_list (E, L, T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E in [1..n], L in [1.. m]</a:t>
            </a:r>
            <a:r>
              <a:rPr b="0" lang="en-AU" sz="28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, 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Tahoma"/>
              </a:rPr>
              <a:t>0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 is the list of floors to visit associated with elevator (scheduling is performed by the control component of the syst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call(F, D, T)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external call  (with restriction for 1, 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request(E, F, T)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internal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7CA9-BEC5-451C-9B09-13AF7C5649F7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ng (E, F, D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ing (E, F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st (E, L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implicitly assume that state predicates hold for any sub- interval (i.e., the rules that describe this are assumed to be automatically add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hing prevents that it holds for larger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D35B-DDA2-45D0-BE9E-9CBE73CC44C5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ules relating events and st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"/>
          <p:cNvSpPr/>
          <p:nvPr/>
        </p:nvSpPr>
        <p:spPr>
          <a:xfrm>
            <a:off x="-74880" y="1744560"/>
            <a:ext cx="9522360" cy="1607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:When E arrives at floor F, it continues to move if ther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o request for service from F and the list is emp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the floor to serve is higher, it moves upward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otherwise it moves downw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432080" y="3462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613960" y="3387600"/>
            <a:ext cx="3169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15600" y="5638680"/>
            <a:ext cx="68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milar rule describes downward m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5176-2AFC-423E-AF21-8519780AB437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217440" y="452520"/>
            <a:ext cx="857592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2: Upon arrival at F, E stops if F must be serviced (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ppears as first of the li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739160" y="1440000"/>
            <a:ext cx="280332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=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85480" y="3657600"/>
            <a:ext cx="79938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3: E stops at F if it gets there with an empty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752480" y="4343400"/>
            <a:ext cx="57308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empty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8837-8DA7-419A-9885-F5C02413F33A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-258480" y="297000"/>
            <a:ext cx="9933840" cy="1191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4: Assume that elevators have a fixed time to service a flo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the list is not empty at the end of such interva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he elevator leaves the floor immediate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643040" y="1523880"/>
            <a:ext cx="37926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-235440" y="3657600"/>
            <a:ext cx="942480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5: If the elevator has no floors to service, it stops until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ist becomes nonemp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887840" y="4495680"/>
            <a:ext cx="6355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g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and list (E, empty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0D2E-579F-4C95-A261-BD54DAFF602D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-82800" y="1058760"/>
            <a:ext cx="951804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6: Assume that the time to move from on floor to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ext is known and fixed. The rule describes m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748880" y="2049480"/>
            <a:ext cx="323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 + 1, T + 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-111960" y="3809880"/>
            <a:ext cx="961236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7: The event of stopping initiates standing for at least D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674000" y="4495680"/>
            <a:ext cx="34178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E, F, T, T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55F9-AD6D-4874-80C9-3EC8CA70A6DF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-114480" y="677880"/>
            <a:ext cx="955728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8: At the end of the minimum stop interval Dts, E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tanding if there are no floors to ser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599480" y="1557360"/>
            <a:ext cx="33858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empty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04840" y="3657600"/>
            <a:ext cx="54486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9: Departure causes mo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691280" y="4259160"/>
            <a:ext cx="352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D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moving (E, F, D, T, T + 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A669-FEF4-4034-B38E-E039BE67BAC4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rol r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"/>
          <p:cNvSpPr/>
          <p:nvPr/>
        </p:nvSpPr>
        <p:spPr>
          <a:xfrm>
            <a:off x="387000" y="1744560"/>
            <a:ext cx="8494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ress the scheduling strategy (by describing “new_list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 and “list” st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quests are inserted in the list from curr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or to top if the elevator is moving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alls are inserted in the list of the closest elev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t is moving in the correct direction, or in a stand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v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60D8-002C-4321-9CFA-1AD408665C51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1:06:23Z</dcterms:created>
  <dc:creator>Carlo Ghezzi</dc:creator>
  <dc:description/>
  <dc:language>en-US</dc:language>
  <cp:lastModifiedBy>jazayeri</cp:lastModifiedBy>
  <dcterms:modified xsi:type="dcterms:W3CDTF">2002-02-20T10:06:32Z</dcterms:modified>
  <cp:revision>18</cp:revision>
  <dc:subject/>
  <dc:title>Specification</dc:title>
</cp:coreProperties>
</file>