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8208-2841-41F9-8AE5-7559F124D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1742-4E9F-4EC1-A81D-2F3C46410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23D3-882E-488B-8B94-4C2B18A1B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4995-8D2E-418D-8220-57245E563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A6C8-03DA-432D-8DBF-54EF1F98E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AF83-7CE0-484B-B377-2F4238811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01DE-00CA-4F6C-A100-673DCAC6F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735A-EA19-4B93-A0E3-29A068B2E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4230-D760-408E-859B-87C4CB8A2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4FDC-3DE0-4992-85FF-AB451CD74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F726-F9C2-4E05-B7A7-DA0B8CF69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168B-D5E7-46F6-A95A-C2000FEB8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782C7-73DF-4F32-859A-B357583DB8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980480" cy="31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8:11Z</dcterms:modified>
  <cp:revision>5</cp:revision>
  <dc:subject/>
  <dc:title>PowerPoint Presentation</dc:title>
</cp:coreProperties>
</file>