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E6E1-9268-4BE0-8254-14CC192DA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2F93-FC31-44AB-9B49-81FCAFA30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25C4-00C7-4A74-AEFE-2E20A1FDC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432C-8C48-4194-AFDF-FAEA1357A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5A25-1CEF-4454-A86F-60BDA9A30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5B4F-3380-4535-AE6C-0EF155B4D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C4EA-C197-426C-97E8-96778AF3A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CECB-4A15-42AB-92C9-CF97CD860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4F63-EB52-4136-A46B-528C10C70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5735-7911-4957-A004-D2C762D1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01D9-B714-4757-A4E7-1D3A8565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4BB8-4A46-41D7-8A78-4ED5999F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0A46C-35A4-4DEB-9076-12A943961E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690560" y="2889360"/>
          <a:ext cx="2256120" cy="1038240"/>
        </p:xfrm>
        <a:graphic>
          <a:graphicData uri="http://schemas.openxmlformats.org/drawingml/2006/table">
            <a:tbl>
              <a:tblPr/>
              <a:tblGrid>
                <a:gridCol w="752760"/>
                <a:gridCol w="750600"/>
                <a:gridCol w="7527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19Z</dcterms:modified>
  <cp:revision>1</cp:revision>
  <dc:subject/>
  <dc:title>PowerPoint Presentation</dc:title>
</cp:coreProperties>
</file>