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8145-D929-409F-8AFC-38E456260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F57E-4BEA-4AAA-B44F-97C997A24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EDB4-EA8C-4573-B422-E20A1390B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4613-E046-4523-9430-49CFEF14B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453F-BB7B-4700-8FA3-5577979CE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C819-55A0-461B-9DB9-0CECFC81F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2470-8F54-443D-A984-54CAB3E29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7DD9-5E15-42D2-8D1D-255E03EFF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36AF-4F72-44A4-9C63-57E624A01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3088-0D98-4483-B2E2-6753B3A1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0E54-E13F-40EC-ACA2-3FA7959B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A653-BD4B-4EFD-BBB2-5355855A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6AD11-35CA-47D1-81CA-A42ED65C74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280" y="1430280"/>
            <a:ext cx="3602160" cy="1079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22400" y="3274920"/>
            <a:ext cx="3720960" cy="1065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42920" y="5183280"/>
            <a:ext cx="4451400" cy="1226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775040" y="1338120"/>
            <a:ext cx="4232520" cy="3127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957920" y="5102280"/>
            <a:ext cx="4049640" cy="1165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60" y="111276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9080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b900"/>
                </a:solidFill>
                <a:latin typeface="Times New Roman"/>
              </a:rPr>
              <a:t>Inve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0" y="47102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39080" y="11224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65040" y="466884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5c00"/>
                </a:solidFill>
                <a:latin typeface="Times New Roman"/>
              </a:rPr>
              <a:t>Generalized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934760" y="108432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965000" y="481176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0600" y="63882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94680" y="28224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179520" y="6329160"/>
            <a:ext cx="112680" cy="21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2997000" y="2539800"/>
            <a:ext cx="161640" cy="35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260880" y="3057480"/>
            <a:ext cx="204480" cy="2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7862760" y="1252440"/>
            <a:ext cx="12384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7873560" y="5010120"/>
            <a:ext cx="13356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108080"/>
            <a:ext cx="4308480" cy="1736640"/>
          </a:xfrm>
          <a:prstGeom prst="rect">
            <a:avLst/>
          </a:prstGeom>
          <a:solidFill>
            <a:srgbClr val="bbe0e3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865600"/>
            <a:ext cx="4308480" cy="1747800"/>
          </a:xfrm>
          <a:prstGeom prst="rect">
            <a:avLst/>
          </a:prstGeom>
          <a:solidFill>
            <a:srgbClr val="3333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622760"/>
            <a:ext cx="4794120" cy="1979640"/>
          </a:xfrm>
          <a:prstGeom prst="rect">
            <a:avLst/>
          </a:prstGeom>
          <a:solidFill>
            <a:srgbClr val="cdffc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5280" y="4632480"/>
            <a:ext cx="4338720" cy="1962000"/>
          </a:xfrm>
          <a:prstGeom prst="rect">
            <a:avLst/>
          </a:prstGeom>
          <a:solidFill>
            <a:srgbClr val="b4b9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08480" y="1087560"/>
            <a:ext cx="4835520" cy="3535200"/>
          </a:xfrm>
          <a:prstGeom prst="rect">
            <a:avLst/>
          </a:prstGeom>
          <a:solidFill>
            <a:srgbClr val="0099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17320" y="6287760"/>
            <a:ext cx="2786040" cy="297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8:55Z</dcterms:modified>
  <cp:revision>3</cp:revision>
  <dc:subject/>
  <dc:title>PowerPoint Presentation</dc:title>
</cp:coreProperties>
</file>