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E3D6-02CC-488A-B047-8EB317E0C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7109-ED81-453B-9513-CF4070842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C346-D0B6-4D9D-B3E6-69BA449A0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4B12-1166-4AB3-9795-387FCB35A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8770-3846-4D50-B4DE-ED38C3216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D7DD-C19B-4CA1-9B26-7499C7642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3520-3CEC-458A-81BA-0DF9246CD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28E5-FE12-4909-99D4-279BE1BB9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3CDE-3D86-45A7-AFA9-DDBB39A25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BF3E-82B2-4D76-8E27-9195EE04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16F1-DC58-4A1E-AA80-7E30C360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5136-2771-4C5D-A02D-4A1B097E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BAAC5-23FE-4616-ABBD-4BEC255CC4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-380880" y="1523880"/>
          <a:ext cx="11658600" cy="354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1523880"/>
                    <a:ext cx="11658600" cy="35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46Z</dcterms:modified>
  <cp:revision>2</cp:revision>
  <dc:subject/>
  <dc:title>PowerPoint Presentation</dc:title>
</cp:coreProperties>
</file>