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992E-DA09-4B26-8C38-FB117CC4F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1234-9C9F-489C-92E4-448829FC1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5E95-FAEF-421D-9D03-4DCDE6915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BB6C-D78A-44D2-A642-938E8E82D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06A8-868D-4092-8EF7-3E976018A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DF16-29FB-4A5B-ABE3-5908264FB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B118-8C54-43BD-9D1A-9F5A9993F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79E2-9193-4223-88DD-1519ECE8C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99E0-A45E-402A-9BCF-0CE797582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7F32-4A5A-41ED-A913-378B5CDC6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901C-D6E3-42B0-8876-FB72270D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493E-35BA-4375-93FC-5514BC75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6DF66-71B7-4F5B-8573-DFCDD794675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s Nature and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A0BB-DEF1-4F71-AF32-29547A72BEF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ficient use of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, processing time,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lexity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evaluation (on a model, via simul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formance can affect scal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olution that works on a small local network may not work on a large intr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EF51-0190-49CC-93A5-327E3AEFB01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cted users find the system easy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term: user-friend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ther subjective, difficult to evalu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ffected mostly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visual vs. text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0F14-F4BD-4540-85F5-474F8CB2E3C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easy it is to verify proper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an inter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external as well (e.g., security critical applic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1531-D0CE-4469-BB19-81AF45635CC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ability: ease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: changes after relea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intenance costs exceed 60% of total cost of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ree main categories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removing residual error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ap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adjusting to environment change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f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quality improvements (&gt;5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6AC3-38C7-47CC-BC84-D6A0F14F9EF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ecompos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air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correct defects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adapt sw to environment changes and to improve it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D0D6-51AC-49DA-8161-A4083B2CFDA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ing product (or components) used (with minor modifications) to build another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imilar to evolvabilit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pplies to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use of standard parts measure of maturity of the fie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8EEB-019A-4AA6-8A00-E9D80EA83EF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rt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can run on different hw platforms or sw environ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ains relevant as new platforms and environments are introduced (e.g. digital assista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evant when downloading software in a heterogeneous network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336B-46C6-49A9-9BF9-9EC55E2DE45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derstand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se of understanding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modification requires program understa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265A-4D01-4B04-8733-4F48E7E3466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oper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of a system to coexist and cooperate with other system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word processor and spreadshe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DF62-64A7-493B-A4D1-4C3FBED1CD5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process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otes its efficiency an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to deliver a product 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 of its steps and current status are documented clearly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852F-9033-4424-B5F8-427E28447C5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n intellectual activity and thus human-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is built to meet a certain functional goal and satisfy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es also must meet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qualities are sometimes referred to as “ilities”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9F45-9D29-4F6A-B22F-017A0223E7F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the development process does not follow the evolution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ismatch occurs between user requirements and status of th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D9A5-045F-4EC7-B688-8F90C2C652C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a visual description of the mismatc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"/>
          <p:cNvSpPr/>
          <p:nvPr/>
        </p:nvSpPr>
        <p:spPr>
          <a:xfrm>
            <a:off x="2408400" y="212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7650000" cy="460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3239-1605-4BE9-A411-2CC3C6A5A79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-specific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information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ransaction performance.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E1D0-91AA-4513-AC3E-321AF7C4F46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ality measur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qualities are su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standard metrics defined for most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61E0-BCEF-4DB5-9A84-D5E8CC516E2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from traditional types of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ang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describe and evalu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lle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man 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lves only trivial “manufacturing”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F119-2DD0-4D38-8830-AD54F2BD85F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w qualiti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"ilities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vs. exter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isible to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cern develop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vs.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goal is to develop software produ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cess is how we do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qualities affect external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quality affects product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073A-3CFA-492F-9A8F-CB2DF2E646A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07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is correct if it satisfies the functional requirements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that specification exist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specifications are formal, since programs are formal objects, correctness can be defined form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be proven as a theorem or disproved by counterexamples (tes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8C76-5DE3-4F3D-B0E3-84B8B863C42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limits of 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an absolute (yes/no) qu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“degree of correctnes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severity of dev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specifications are wro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.g., they derive from incorrect requirements or errors in domain knowledg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73A7-083E-419C-A398-E9D3BF3E0D5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ly, user can rely on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mathematically as “probability of absence of failures for a certain time perio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pecs are correct, all correct software is reliable, but not vice-versa (in practice, however, specs can be incorrect 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E9E1-A06A-4C31-BEB7-01D897D4D7E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dealized situ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are corr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362320" y="2514600"/>
          <a:ext cx="4952880" cy="40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514600"/>
                    <a:ext cx="4952880" cy="40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1A30-757A-4DAC-B04F-59587C106F5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bus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6858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behaves “reasonably” even in unforeseen circumstances (e.g., incorrect input, hardware failu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"/>
          <p:cNvSpPr/>
          <p:nvPr/>
        </p:nvSpPr>
        <p:spPr>
          <a:xfrm>
            <a:off x="40435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910A-10AC-41E8-9A30-6EF6410FBB0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jazayeri</cp:lastModifiedBy>
  <cp:lastPrinted>1999-03-04T17:52:08Z</cp:lastPrinted>
  <dcterms:modified xsi:type="dcterms:W3CDTF">2002-02-19T18:24:53Z</dcterms:modified>
  <cp:revision>36</cp:revision>
  <dc:subject/>
  <dc:title>Software Engineering</dc:title>
</cp:coreProperties>
</file>