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9AA6-E963-4986-B6FC-866516F29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5AD0-8438-4C64-9439-A2FE8546F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3808-9087-4837-B7DE-EEBD38309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9C84-4C39-49D8-B238-978DD58B1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71FC-6D18-4EB8-BF60-FEB8915FE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969C-09AB-40DA-852A-1C604BA3F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03A8-F730-46A1-B20C-63211DCA4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BFB6-1505-40AA-AB6F-671D175F4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B40C-C99F-49AC-8CD9-44A43D208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7DF3-C165-4688-A51D-A917F0BC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A363-96D5-47AF-877D-87735AA5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D829-CFBD-4639-95D0-103809D6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30F83-E8BF-488F-86B4-91D24F6D48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280" y="1430280"/>
            <a:ext cx="3602160" cy="1079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22400" y="3274920"/>
            <a:ext cx="3720960" cy="1065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42920" y="5183280"/>
            <a:ext cx="4451400" cy="1226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775040" y="1338120"/>
            <a:ext cx="4232520" cy="3127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957920" y="5102280"/>
            <a:ext cx="4049640" cy="1165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60" y="111276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9080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b900"/>
                </a:solidFill>
                <a:latin typeface="Times New Roman"/>
              </a:rPr>
              <a:t>Inve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0" y="47102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39080" y="11224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65040" y="466884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5c00"/>
                </a:solidFill>
                <a:latin typeface="Times New Roman"/>
              </a:rPr>
              <a:t>Generalized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934760" y="108432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965000" y="481176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0600" y="63882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94680" y="28224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179520" y="6329160"/>
            <a:ext cx="112680" cy="21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2997000" y="2539800"/>
            <a:ext cx="161640" cy="35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260880" y="3057480"/>
            <a:ext cx="204480" cy="2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7862760" y="1252440"/>
            <a:ext cx="12384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7873560" y="5010120"/>
            <a:ext cx="13356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108080"/>
            <a:ext cx="4308480" cy="1736640"/>
          </a:xfrm>
          <a:prstGeom prst="rect">
            <a:avLst/>
          </a:prstGeom>
          <a:solidFill>
            <a:srgbClr val="bbe0e3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865600"/>
            <a:ext cx="4308480" cy="1747800"/>
          </a:xfrm>
          <a:prstGeom prst="rect">
            <a:avLst/>
          </a:prstGeom>
          <a:solidFill>
            <a:srgbClr val="3333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622760"/>
            <a:ext cx="4794120" cy="1979640"/>
          </a:xfrm>
          <a:prstGeom prst="rect">
            <a:avLst/>
          </a:prstGeom>
          <a:solidFill>
            <a:srgbClr val="cdffc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5280" y="4632480"/>
            <a:ext cx="4338720" cy="1962000"/>
          </a:xfrm>
          <a:prstGeom prst="rect">
            <a:avLst/>
          </a:prstGeom>
          <a:solidFill>
            <a:srgbClr val="b4b9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08480" y="1087560"/>
            <a:ext cx="4835520" cy="3535200"/>
          </a:xfrm>
          <a:prstGeom prst="rect">
            <a:avLst/>
          </a:prstGeom>
          <a:solidFill>
            <a:srgbClr val="0099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17320" y="6287760"/>
            <a:ext cx="2786040" cy="297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8:55Z</dcterms:modified>
  <cp:revision>3</cp:revision>
  <dc:subject/>
  <dc:title>PowerPoint Presentation</dc:title>
</cp:coreProperties>
</file>