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57E6B-7039-4222-89C8-A5E8A24F3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5C7C6-3119-4B1A-AA11-3D3F5DED6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FE975-6A2B-4C9F-BF90-B508BD955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26114-BCF3-45B5-AC1F-4CC80701E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9B73F-3CFF-42EC-A4C6-E1090D5B6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96C0E-90C1-4735-ABD8-48E3C90E9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CCFBE-3358-4737-9F92-FFA26DD10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19B73-63B4-4E36-BAD0-B9B827A4B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2D922-5DA3-4186-89DD-DA92EA3A5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9EA74-B857-460E-8BDE-3ED0AFA9E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BE95D-41BB-45D1-8ED6-113193745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B15DA-F5BA-4BAC-842B-9D8C9EFD6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0C038-FC85-462C-A3F5-3A5C0864B4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Engineering 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767FC-8369-4B64-81A4-F28EB280275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: proc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o through phases one after the other (as in waterfall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separation of concerns by separating activities with respect to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17EC5-2FF1-449D-BF00-992F011F9FD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: produc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eep product requirements separ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interface and us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0CF51-4ED9-4369-B7E6-48F27643301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ar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 complex system may be divided into simpler pieces called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 system that is composed of modules is called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a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upports application of separation of concer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ealing with a module we can ignore details of other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29AAC-F6A3-49C2-9B9B-5DA65F6443A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hesion and coupl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ach module should b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highly cohesiv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understandable as a meaningful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nents of a module are closely related to one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ules should exhibit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 low coupl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s have low interactions with oth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standable sepa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01921-45D9-40C7-9D50-0AFF58C8C84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visual represent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"/>
          <p:cNvSpPr/>
          <p:nvPr/>
        </p:nvSpPr>
        <p:spPr>
          <a:xfrm>
            <a:off x="1962000" y="248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990720" y="2362320"/>
            <a:ext cx="7562880" cy="32004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815040" y="55958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coup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568120" y="5638680"/>
            <a:ext cx="200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up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A35EB-A5A2-4338-B2F4-B9711636321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bstrac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dentify the important aspects of a phenomenon and ignore its detai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pecial case of separation of concer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 type of abstraction to apply depends on purpo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Example : the user interface of a watch (its buttons) abstracts from the watch's internals for the purpose of setting time; other abstractions needed to support repair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2F8F8-FFFF-46F1-AD86-CAD2CBD56F7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bstraction ignores detail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quations describing complex circuit (e.g., amplifier) allows designer to reason about signal amplifi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quations may approximate description, ignoring details that yield negligible effects (e.g., connectors assumed to be ideal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22A3C-6ECA-40BF-A68D-A6ABC729417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bstraction yields model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r example, when requirements are analyzed we produce a model of the proposed appli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model can be a formal or semiformal descrip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is then possible to reason about the system by reasoning about the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CBFD0-8C1D-4F36-914E-DF6EC4D3B9F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gramming language semantics described through an abstract machine that ignores details of the real machines used for imple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traction ignores details such as precision of number representation or addressing mechanis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1874E-CCDD-40B4-9C17-43AD1A08ABD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bstraction in proc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n we do cost estimation we only take some key factors into accou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pply similarity with previous systems, ignoring detail differen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B3CC2-11C6-46C4-8EB6-88D8A9830CD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Arial"/>
              </a:rPr>
              <a:t>Principles form the basis of methods, techniques, methodologies and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S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Arial"/>
              </a:rPr>
              <a:t>even important principles that may be used in all phases of software develop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arity is the cornerstone principle supporting software desig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se studies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52ED7-5072-4666-BE56-8A0E4E70847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ticipation of chang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bility to support software evolution  requires anticipating potential future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is the basis for software evolvabi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et up a configuration management environment for the project (as we will discus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50B96-07CC-44F3-B675-0A7707E3604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enera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solving a problem, try to discover if it is an instance of a more general problem whose solution can be reused in other ca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arefully balance generality against performance and co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ometimes a general problem is easier to solve than a special case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DEFB4-FD53-4359-95B3-363950CBA42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crementa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ss proceeds in a stepwise fashion 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ncrement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 (proces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 subsets of a system early to get early feedback from expected users, then add new features increment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first with functionality, then turn to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 a first prototype and then incrementally add effort to turn prototype into produ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3464E-86F0-41EB-9FEE-20EFC8174F2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: compil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construction is an area where systematic (formal) design methods have been develop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BNF for formal description of language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6C7CD-B429-4AE3-AFD3-16D5EE9F310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paration of concerns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n designing optimal register allocation algorithms 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runtim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efficiency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no need to worry about runtime diagnostic messages 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user friendlines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B0D6B-32A7-4470-9B9F-0235E5984A1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ar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ation process decomposed into pha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xical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ax analysis (pars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hases can be associated with mod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F8157-DB81-47B8-821F-FCD32BB12178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on of modular struct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"/>
          <p:cNvSpPr/>
          <p:nvPr/>
        </p:nvSpPr>
        <p:spPr>
          <a:xfrm>
            <a:off x="1932120" y="210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09480" y="1905120"/>
            <a:ext cx="7974000" cy="400356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-20880" y="5410080"/>
            <a:ext cx="508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xes represent mo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ed lines represent interfa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66C45-D5E6-42FC-8112-1C87670A0974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e decomposition may be iterat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"/>
          <p:cNvSpPr/>
          <p:nvPr/>
        </p:nvSpPr>
        <p:spPr>
          <a:xfrm>
            <a:off x="1932120" y="210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1066680" y="2743200"/>
          <a:ext cx="7215480" cy="362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2743200"/>
                    <a:ext cx="7215480" cy="362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" name=""/>
          <p:cNvSpPr/>
          <p:nvPr/>
        </p:nvSpPr>
        <p:spPr>
          <a:xfrm>
            <a:off x="784800" y="2133720"/>
            <a:ext cx="744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modularization of code-gener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E9A13-4D11-4B76-9F5B-A80EFB33C1E6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bstrac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plied in many ca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tract syntax to neglect syntactic details such as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egin…e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vs. {…} to bracket statement sequen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ediate machine code (e.g., Java Bytecode) for code port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DBCD1-2A85-493B-924C-6C66754B9EB9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ticipation of chang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sider possible changes o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language (due to standardization committe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rget process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/O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934F9-F54D-4BDE-8172-045DE3523B50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pplication of 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inciples apply to process and produ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inciples become practice through methods and techniq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ten methods and techniques are packaged in a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method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hodologies can be enforced b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6D29E-B9C7-42B0-B4E9-D7B7F0060D6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enera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arameterize with respect to target machine (by defining intermediate c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velop compiler generating tools 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compiler compiler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ead of just one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3666A-4EC5-418F-B29A-7FDCAE39E061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crementa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cremental develop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 first a kernel version for a subset of the source language, then increasingly larger subs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 compiler with little or no diagnostics/optimizations, then add diagnostics/optimiz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75E4A-7C8F-406F-99EF-C4B0F6EC070F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-360" y="380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 (system engineering): elevator syste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many cases, the "software engineering" phase starts after understanding and analyzing the "systems engineering”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elevator case study illustrates the poi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1C636-147F-420D-A795-8D9ED6798142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igor&amp;formality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Quite relevant: it is a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safety critica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able to carry up to 400 Kg. (safety alarm and no operation if overload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mergency brakes must be able to stop elevator within 1 m. and 2 sec. in case of cable fail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ter, verify their fulfill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F24B6-E230-4239-A049-97D4B06B531B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paration of concer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to separ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fe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bility (e.g, button illumin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though some are strongly rela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st reduction by using cheap material can make solution unsaf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5F30D-7278-4737-B604-1809D8D74C07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modular struct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"/>
          <p:cNvSpPr/>
          <p:nvPr/>
        </p:nvSpPr>
        <p:spPr>
          <a:xfrm>
            <a:off x="2697120" y="210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305000" y="3121200"/>
            <a:ext cx="1805040" cy="225576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36960" y="2209680"/>
            <a:ext cx="1244520" cy="67176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219640" y="3271680"/>
            <a:ext cx="390600" cy="73836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197320" y="4422600"/>
            <a:ext cx="435240" cy="71604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219640" y="5551560"/>
            <a:ext cx="477720" cy="62856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795920" y="2870280"/>
            <a:ext cx="412560" cy="5652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556160" y="2892600"/>
            <a:ext cx="630360" cy="17794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338720" y="2870280"/>
            <a:ext cx="892080" cy="299556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3098520" y="2717640"/>
            <a:ext cx="847800" cy="8906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533240" y="3565440"/>
            <a:ext cx="9075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100" spc="-1" strike="noStrike">
                <a:solidFill>
                  <a:srgbClr val="000000"/>
                </a:solidFill>
                <a:latin typeface="Times New Roman"/>
              </a:rPr>
              <a:t>Elevator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102560" y="2219400"/>
            <a:ext cx="8863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Control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055040" y="2479680"/>
            <a:ext cx="10263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100" spc="-1" strike="noStrike">
                <a:solidFill>
                  <a:srgbClr val="000000"/>
                </a:solidFill>
                <a:latin typeface="Times New Roman"/>
              </a:rPr>
              <a:t>apparatu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345640" y="3413160"/>
            <a:ext cx="3132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B3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367960" y="4606920"/>
            <a:ext cx="3132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B2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367960" y="5780160"/>
            <a:ext cx="3132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B1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71480" y="4714920"/>
            <a:ext cx="54468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019920" y="251460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buttons at floor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88F69-E7E7-40EC-BBC8-C8B38E11D222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e decomposition may be iterat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"/>
          <p:cNvSpPr/>
          <p:nvPr/>
        </p:nvSpPr>
        <p:spPr>
          <a:xfrm>
            <a:off x="2247840" y="195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1066680" y="1523880"/>
            <a:ext cx="7010640" cy="444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FAE91-0031-4C49-ACD8-787C31FBF3F3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bstrac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modular view we provided does not specify the behavior of the mechanical and electrical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y are abstracted aw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81FA2-20CA-4F41-A2DE-3F96D5BE740E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ticipation of change, genera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ke the project parametric wrt the number of elevators (and floor button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"/>
          <p:cNvSpPr/>
          <p:nvPr/>
        </p:nvSpPr>
        <p:spPr>
          <a:xfrm>
            <a:off x="2610000" y="2179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523880" y="2971800"/>
            <a:ext cx="4953240" cy="3152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82049-825A-4019-9824-506F06667793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visual represent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"/>
          <p:cNvSpPr/>
          <p:nvPr/>
        </p:nvSpPr>
        <p:spPr>
          <a:xfrm>
            <a:off x="3532320" y="2900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914400" y="2286000"/>
            <a:ext cx="7315200" cy="3724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BFD76-34E9-44BD-8F32-767EFBB70B1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Key 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igor and form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paration of concer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ular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bstra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ticipation of cha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crement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B057A-ABC8-43A7-90E5-744B9445967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igor and forma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ftware engineering is a creative design activity, BU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must be practiced systematical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igor is a necessary complement to creativity that increases our confidence in our develop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rmality is rigor at the highest degre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process driven and evaluated by mathematical laws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4B0C1-0579-4313-B74D-0AEFF8260A4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s: produc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thematical (formal) analysis of program correct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stematic (rigorous) test data deriv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EBE70-97A9-4171-8F40-8F2525A9450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: proc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igorous documentation of development steps helps project management and assessment of timeli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2697D-767A-4117-B52A-27A9DAF3004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paration of concer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dominate complexity, separate the issues to concentrate on one at a 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"Divide &amp; conquer" 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divide et impera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pports parallelization of efforts and separation of responsibil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79ED1-50FF-4858-8A9C-D1651A89CE9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6T12:38:55Z</dcterms:created>
  <dc:creator>Carlo Ghezzi</dc:creator>
  <dc:description/>
  <dc:language>en-US</dc:language>
  <cp:lastModifiedBy>jazayeri</cp:lastModifiedBy>
  <dcterms:modified xsi:type="dcterms:W3CDTF">2002-02-19T18:33:08Z</dcterms:modified>
  <cp:revision>9</cp:revision>
  <dc:subject/>
  <dc:title>Software Engineering Principles</dc:title>
</cp:coreProperties>
</file>