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F1A1-39F4-4F50-99B8-10B8C6B1B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9FEC-CE0D-4A6B-BC9A-8D2060FA0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A63F-C35C-4E03-856E-6C7A0B404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3036-D3AC-4566-B59C-BFC04D40C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E862-403D-40D6-8188-678560A32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875D-1DF7-48DE-B212-F8FFC85D0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F260-4619-481F-AFA0-405E948C0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7F5B-B39F-4884-AA30-2635806A1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4B86-FA2E-4D77-899E-5031C1A7D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FCE8-306B-4AF8-A7A3-6A4C702F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DF7E-A2E2-44F9-890C-1F42A5BE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3042-3D7C-43F4-AC78-F033CCBC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62864-7B55-4E02-9D6B-4730A0020E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90720" y="1600200"/>
          <a:ext cx="7353360" cy="39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7353360" cy="39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01Z</dcterms:modified>
  <cp:revision>1</cp:revision>
  <dc:subject/>
  <dc:title>PowerPoint Presentation</dc:title>
</cp:coreProperties>
</file>