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8D0E-3AF4-4E7C-8CF2-85A135B6E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854A-2039-45C8-A407-1159A974B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0878-6EEC-4F01-9101-5A90C4B88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C71D-CDA8-4616-9AB1-8B75711DA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FF24-4676-4739-B74A-962AE10CE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F4C2-23D0-4987-9E45-C9DDEA61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0323-C988-4C75-B925-8319AF8B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AEA7-8E36-416C-BF8D-1B6338883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DB3D-4950-4625-B14D-45D9AA002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4C46-7BEC-4593-AC5D-0B4F58BA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E5B6-0B00-4AB0-A5FF-5A1AF9F9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A322-AFF0-4BFE-9874-A6EB8513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D0AD-7672-4BC8-8E22-109CA8E353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99768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5:49Z</dcterms:modified>
  <cp:revision>2</cp:revision>
  <dc:subject/>
  <dc:title>PowerPoint Presentation</dc:title>
</cp:coreProperties>
</file>