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5588-02C6-44F7-98BE-FB2211442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E3A5-B615-43D9-80CD-13A140C2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FBBC-9367-41E4-8572-DDCC58D72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2887-E812-4314-9AEE-E9A4BE6DC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455E-7F5D-4A4B-85C7-F522ADDD2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9772-F367-441E-A667-EFE4198B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2FF2-E585-4A74-AF5B-ADF9405E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F0DF-C6A8-4C85-9ECA-EB2CB735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8DEA-70BD-497F-974D-7CC1464B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4F5F-4681-4921-AE45-7BA3D752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6C93-D85A-4829-B838-EB609D8A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95FB-4AB0-4D71-A5F9-043A0B43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7827-C407-4639-8461-552E54D58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5120" y="762120"/>
          <a:ext cx="487368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762120"/>
                    <a:ext cx="487368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02Z</dcterms:modified>
  <cp:revision>7</cp:revision>
  <dc:subject/>
  <dc:title>PowerPoint Presentation</dc:title>
</cp:coreProperties>
</file>